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336ED-38E9-45A5-8AEA-46DCDC944C08}"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connecting to yesterday’s lesson.  If time permits, you may wish to add additional figures to the coordinate plane for more practi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students understand that if they subtract the actual numbers if they are negative, they would end up with a negative number and you can’t have a side that is a negative lengt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different ways you could solve this. Some may count the squares, others my subtract to find the distances between points and then add those distances together.  You may want to have students find their answers using two different methods so that they can prove that both processes give you the same result. If you have not taught Pythagorean Theorem, change your figure to a square or rectangl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practice activity page in the folder which provides an opportunity for students to plot points constructing two figures and then finding the distances of the sides.  You could add additional coordinate sets without the coordinate grid to assure they are using the equations to solve the problems rather than counting squa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CBFF1E-EB3F-4055-B882-53347B4692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88D76-1DA6-404F-AB5A-6FF76A294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A16E7E-C7E3-4752-BA71-52826C1FAD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7D6A04-F6AA-4464-AD89-78A75BCC25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F713F-D847-4751-98A1-BFCDD2CF8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F67A0-DEC2-4D23-88A4-ECE035DE8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6BE50-5F6E-4DBC-9B6A-650004CB8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91BE2-5FED-4DC7-8DB0-9BCF3FB5C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77B8C-7D91-4E74-A366-CCC1FA1DD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D0E17-340C-4714-9261-D99AF479F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EE8E9-97ED-4283-9FE3-DF2D1768E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F4924-D1EB-4619-8438-DB06AC938C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49433-0D2F-4D5A-99E5-41F0E76B52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rm-up</a:t>
            </a:r>
            <a:endParaRPr b="0" lang="en-US" sz="4400" spc="-1" strike="noStrike">
              <a:solidFill>
                <a:srgbClr val="000000"/>
              </a:solidFill>
              <a:latin typeface="Arial"/>
            </a:endParaRPr>
          </a:p>
        </p:txBody>
      </p:sp>
      <p:sp>
        <p:nvSpPr>
          <p:cNvPr id="49"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ould be the length of a line with end points of…</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4.5) and (3, 4.5)</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2) and (3, -2)</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 -7 ½ ) and (12, 8 ½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
          <p:cNvSpPr/>
          <p:nvPr/>
        </p:nvSpPr>
        <p:spPr>
          <a:xfrm>
            <a:off x="4179960" y="2232000"/>
            <a:ext cx="249120" cy="162000"/>
          </a:xfrm>
          <a:custGeom>
            <a:avLst/>
            <a:gdLst/>
            <a:ahLst/>
            <a:rect l="l" t="t" r="r" b="b"/>
            <a:pathLst>
              <a:path w="695" h="448">
                <a:moveTo>
                  <a:pt x="11609" y="6300"/>
                </a:moveTo>
                <a:cubicBezTo>
                  <a:pt x="11766" y="6292"/>
                  <a:pt x="11893" y="6278"/>
                  <a:pt x="12030" y="6201"/>
                </a:cubicBezTo>
              </a:path>
              <a:path w="695" h="448">
                <a:moveTo>
                  <a:pt x="11807" y="6648"/>
                </a:moveTo>
                <a:cubicBezTo>
                  <a:pt x="11972" y="6565"/>
                  <a:pt x="12138" y="6483"/>
                  <a:pt x="12303" y="640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258920" y="2071800"/>
            <a:ext cx="839880" cy="1000080"/>
          </a:xfrm>
          <a:custGeom>
            <a:avLst/>
            <a:gdLst/>
            <a:ahLst/>
            <a:rect l="l" t="t" r="r" b="b"/>
            <a:pathLst>
              <a:path w="2333" h="2779">
                <a:moveTo>
                  <a:pt x="4390" y="7987"/>
                </a:moveTo>
                <a:cubicBezTo>
                  <a:pt x="4485" y="7924"/>
                  <a:pt x="4647" y="7868"/>
                  <a:pt x="4787" y="7838"/>
                </a:cubicBezTo>
                <a:cubicBezTo>
                  <a:pt x="5099" y="7771"/>
                  <a:pt x="5420" y="7793"/>
                  <a:pt x="5730" y="7739"/>
                </a:cubicBezTo>
                <a:cubicBezTo>
                  <a:pt x="5776" y="7731"/>
                  <a:pt x="5807" y="7704"/>
                  <a:pt x="5829" y="7689"/>
                </a:cubicBezTo>
              </a:path>
              <a:path w="2333" h="2779">
                <a:moveTo>
                  <a:pt x="3795" y="7045"/>
                </a:moveTo>
                <a:cubicBezTo>
                  <a:pt x="3862" y="7089"/>
                  <a:pt x="3868" y="7508"/>
                  <a:pt x="3870" y="7565"/>
                </a:cubicBezTo>
                <a:cubicBezTo>
                  <a:pt x="3881" y="7888"/>
                  <a:pt x="3794" y="8196"/>
                  <a:pt x="3820" y="8508"/>
                </a:cubicBezTo>
                <a:cubicBezTo>
                  <a:pt x="3820" y="8516"/>
                  <a:pt x="3820" y="8525"/>
                  <a:pt x="3820" y="8533"/>
                </a:cubicBezTo>
              </a:path>
              <a:path w="2333" h="2779">
                <a:moveTo>
                  <a:pt x="3497" y="5978"/>
                </a:moveTo>
                <a:cubicBezTo>
                  <a:pt x="3676" y="5910"/>
                  <a:pt x="3843" y="5832"/>
                  <a:pt x="4018" y="5755"/>
                </a:cubicBezTo>
                <a:cubicBezTo>
                  <a:pt x="4026" y="5755"/>
                  <a:pt x="4035" y="5755"/>
                  <a:pt x="4043" y="5755"/>
                </a:cubicBezTo>
                <a:cubicBezTo>
                  <a:pt x="4113" y="6069"/>
                  <a:pt x="4060" y="6329"/>
                  <a:pt x="4018" y="6648"/>
                </a:cubicBezTo>
                <a:cubicBezTo>
                  <a:pt x="4018" y="6656"/>
                  <a:pt x="4018" y="6664"/>
                  <a:pt x="4018" y="667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2473200" y="2178000"/>
            <a:ext cx="169920" cy="216000"/>
          </a:xfrm>
          <a:custGeom>
            <a:avLst/>
            <a:gdLst/>
            <a:ahLst/>
            <a:rect l="l" t="t" r="r" b="b"/>
            <a:pathLst>
              <a:path w="472" h="597">
                <a:moveTo>
                  <a:pt x="6970" y="6052"/>
                </a:moveTo>
                <a:cubicBezTo>
                  <a:pt x="7030" y="6231"/>
                  <a:pt x="7085" y="6407"/>
                  <a:pt x="7094" y="6598"/>
                </a:cubicBezTo>
                <a:cubicBezTo>
                  <a:pt x="7094" y="6615"/>
                  <a:pt x="7094" y="6631"/>
                  <a:pt x="7094" y="6648"/>
                </a:cubicBezTo>
              </a:path>
              <a:path w="472" h="597">
                <a:moveTo>
                  <a:pt x="6871" y="6424"/>
                </a:moveTo>
                <a:cubicBezTo>
                  <a:pt x="7030" y="6368"/>
                  <a:pt x="7172" y="6300"/>
                  <a:pt x="7342" y="630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197160" y="2098800"/>
            <a:ext cx="1062000" cy="1017360"/>
          </a:xfrm>
          <a:custGeom>
            <a:avLst/>
            <a:gdLst/>
            <a:ahLst/>
            <a:rect l="l" t="t" r="r" b="b"/>
            <a:pathLst>
              <a:path w="2953" h="2829">
                <a:moveTo>
                  <a:pt x="10492" y="8037"/>
                </a:moveTo>
                <a:cubicBezTo>
                  <a:pt x="10602" y="8000"/>
                  <a:pt x="10656" y="7954"/>
                  <a:pt x="10765" y="7913"/>
                </a:cubicBezTo>
                <a:cubicBezTo>
                  <a:pt x="11053" y="7803"/>
                  <a:pt x="11385" y="7771"/>
                  <a:pt x="11658" y="7640"/>
                </a:cubicBezTo>
                <a:cubicBezTo>
                  <a:pt x="11686" y="7627"/>
                  <a:pt x="11702" y="7622"/>
                  <a:pt x="11733" y="7590"/>
                </a:cubicBezTo>
                <a:cubicBezTo>
                  <a:pt x="11763" y="7559"/>
                  <a:pt x="11797" y="7558"/>
                  <a:pt x="11832" y="7541"/>
                </a:cubicBezTo>
              </a:path>
              <a:path w="2953" h="2829">
                <a:moveTo>
                  <a:pt x="8930" y="7293"/>
                </a:moveTo>
                <a:cubicBezTo>
                  <a:pt x="8678" y="7414"/>
                  <a:pt x="9036" y="7807"/>
                  <a:pt x="9054" y="8086"/>
                </a:cubicBezTo>
                <a:cubicBezTo>
                  <a:pt x="9068" y="8297"/>
                  <a:pt x="9010" y="8748"/>
                  <a:pt x="9103" y="8558"/>
                </a:cubicBezTo>
              </a:path>
              <a:path w="2953" h="2829">
                <a:moveTo>
                  <a:pt x="9699" y="7268"/>
                </a:moveTo>
                <a:cubicBezTo>
                  <a:pt x="9699" y="7559"/>
                  <a:pt x="9737" y="7846"/>
                  <a:pt x="9748" y="8136"/>
                </a:cubicBezTo>
                <a:cubicBezTo>
                  <a:pt x="9750" y="8193"/>
                  <a:pt x="9828" y="8717"/>
                  <a:pt x="9773" y="8607"/>
                </a:cubicBezTo>
              </a:path>
              <a:path w="2953" h="2829">
                <a:moveTo>
                  <a:pt x="8880" y="5978"/>
                </a:moveTo>
                <a:cubicBezTo>
                  <a:pt x="8996" y="5921"/>
                  <a:pt x="9041" y="5855"/>
                  <a:pt x="9178" y="5829"/>
                </a:cubicBezTo>
                <a:cubicBezTo>
                  <a:pt x="9196" y="6001"/>
                  <a:pt x="9202" y="6126"/>
                  <a:pt x="9079" y="6251"/>
                </a:cubicBezTo>
                <a:cubicBezTo>
                  <a:pt x="9133" y="6142"/>
                  <a:pt x="9389" y="5978"/>
                  <a:pt x="9351" y="6251"/>
                </a:cubicBezTo>
                <a:cubicBezTo>
                  <a:pt x="9308" y="6560"/>
                  <a:pt x="9110" y="6559"/>
                  <a:pt x="8880" y="662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4670280" y="2081160"/>
            <a:ext cx="241560" cy="339840"/>
          </a:xfrm>
          <a:custGeom>
            <a:avLst/>
            <a:gdLst/>
            <a:ahLst/>
            <a:rect l="l" t="t" r="r" b="b"/>
            <a:pathLst>
              <a:path w="671" h="944">
                <a:moveTo>
                  <a:pt x="12973" y="5779"/>
                </a:moveTo>
                <a:cubicBezTo>
                  <a:pt x="12996" y="6052"/>
                  <a:pt x="12982" y="6424"/>
                  <a:pt x="13072" y="6648"/>
                </a:cubicBezTo>
              </a:path>
              <a:path w="671" h="944">
                <a:moveTo>
                  <a:pt x="13221" y="6201"/>
                </a:moveTo>
                <a:cubicBezTo>
                  <a:pt x="13263" y="6526"/>
                  <a:pt x="13197" y="6585"/>
                  <a:pt x="13444" y="6722"/>
                </a:cubicBezTo>
                <a:cubicBezTo>
                  <a:pt x="13665" y="6480"/>
                  <a:pt x="13735" y="6188"/>
                  <a:pt x="13419" y="5928"/>
                </a:cubicBezTo>
                <a:cubicBezTo>
                  <a:pt x="13281" y="5882"/>
                  <a:pt x="13238" y="5858"/>
                  <a:pt x="13196" y="597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320840" y="2581200"/>
            <a:ext cx="1063440" cy="2009880"/>
          </a:xfrm>
          <a:custGeom>
            <a:avLst/>
            <a:gdLst/>
            <a:ahLst/>
            <a:rect l="l" t="t" r="r" b="b"/>
            <a:pathLst>
              <a:path w="2953" h="5582">
                <a:moveTo>
                  <a:pt x="3671" y="7193"/>
                </a:moveTo>
                <a:cubicBezTo>
                  <a:pt x="3671" y="7185"/>
                  <a:pt x="3671" y="7177"/>
                  <a:pt x="3671" y="7169"/>
                </a:cubicBezTo>
              </a:path>
              <a:path w="2953" h="5582">
                <a:moveTo>
                  <a:pt x="6102" y="12750"/>
                </a:moveTo>
                <a:cubicBezTo>
                  <a:pt x="6245" y="12718"/>
                  <a:pt x="6390" y="12666"/>
                  <a:pt x="6548" y="12650"/>
                </a:cubicBezTo>
                <a:cubicBezTo>
                  <a:pt x="6573" y="12650"/>
                  <a:pt x="6598" y="12650"/>
                  <a:pt x="6623" y="1265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017720" y="2608200"/>
            <a:ext cx="46080" cy="588960"/>
          </a:xfrm>
          <a:custGeom>
            <a:avLst/>
            <a:gdLst/>
            <a:ahLst/>
            <a:rect l="l" t="t" r="r" b="b"/>
            <a:pathLst>
              <a:path w="125" h="1638">
                <a:moveTo>
                  <a:pt x="2952" y="7243"/>
                </a:moveTo>
                <a:cubicBezTo>
                  <a:pt x="2889" y="7678"/>
                  <a:pt x="2888" y="8139"/>
                  <a:pt x="2853" y="8582"/>
                </a:cubicBezTo>
                <a:cubicBezTo>
                  <a:pt x="2835" y="8764"/>
                  <a:pt x="2826" y="8780"/>
                  <a:pt x="2828" y="888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544760" y="3857760"/>
            <a:ext cx="401400" cy="357120"/>
          </a:xfrm>
          <a:custGeom>
            <a:avLst/>
            <a:gdLst/>
            <a:ahLst/>
            <a:rect l="l" t="t" r="r" b="b"/>
            <a:pathLst>
              <a:path w="1117" h="993">
                <a:moveTo>
                  <a:pt x="4366" y="11633"/>
                </a:moveTo>
                <a:cubicBezTo>
                  <a:pt x="4341" y="11658"/>
                  <a:pt x="4316" y="11683"/>
                  <a:pt x="4291" y="11708"/>
                </a:cubicBezTo>
                <a:cubicBezTo>
                  <a:pt x="4479" y="11538"/>
                  <a:pt x="4669" y="11292"/>
                  <a:pt x="4862" y="11112"/>
                </a:cubicBezTo>
                <a:cubicBezTo>
                  <a:pt x="5023" y="10962"/>
                  <a:pt x="5224" y="10825"/>
                  <a:pt x="5407" y="1071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857240" y="4402080"/>
            <a:ext cx="554040" cy="393840"/>
          </a:xfrm>
          <a:custGeom>
            <a:avLst/>
            <a:gdLst/>
            <a:ahLst/>
            <a:rect l="l" t="t" r="r" b="b"/>
            <a:pathLst>
              <a:path w="1539" h="1092">
                <a:moveTo>
                  <a:pt x="5159" y="12477"/>
                </a:moveTo>
                <a:cubicBezTo>
                  <a:pt x="5291" y="12448"/>
                  <a:pt x="5456" y="12408"/>
                  <a:pt x="5581" y="12353"/>
                </a:cubicBezTo>
                <a:cubicBezTo>
                  <a:pt x="5589" y="12345"/>
                  <a:pt x="5598" y="12336"/>
                  <a:pt x="5606" y="12328"/>
                </a:cubicBezTo>
                <a:cubicBezTo>
                  <a:pt x="5596" y="12580"/>
                  <a:pt x="5568" y="12826"/>
                  <a:pt x="5507" y="13072"/>
                </a:cubicBezTo>
                <a:cubicBezTo>
                  <a:pt x="5499" y="13097"/>
                  <a:pt x="5490" y="13121"/>
                  <a:pt x="5482" y="13146"/>
                </a:cubicBezTo>
              </a:path>
              <a:path w="1539" h="1092">
                <a:moveTo>
                  <a:pt x="6226" y="12229"/>
                </a:moveTo>
                <a:cubicBezTo>
                  <a:pt x="6239" y="12321"/>
                  <a:pt x="6276" y="12409"/>
                  <a:pt x="6276" y="12502"/>
                </a:cubicBezTo>
              </a:path>
              <a:path w="1539" h="1092">
                <a:moveTo>
                  <a:pt x="6251" y="12948"/>
                </a:moveTo>
                <a:cubicBezTo>
                  <a:pt x="6341" y="12928"/>
                  <a:pt x="6399" y="12898"/>
                  <a:pt x="6499" y="12898"/>
                </a:cubicBezTo>
                <a:cubicBezTo>
                  <a:pt x="6485" y="13033"/>
                  <a:pt x="6430" y="13159"/>
                  <a:pt x="6350" y="13271"/>
                </a:cubicBezTo>
                <a:cubicBezTo>
                  <a:pt x="6333" y="13287"/>
                  <a:pt x="6317" y="13304"/>
                  <a:pt x="6300" y="13320"/>
                </a:cubicBezTo>
                <a:cubicBezTo>
                  <a:pt x="6439" y="13295"/>
                  <a:pt x="6545" y="13225"/>
                  <a:pt x="6672" y="13171"/>
                </a:cubicBezTo>
                <a:cubicBezTo>
                  <a:pt x="6680" y="13171"/>
                  <a:pt x="6689" y="13171"/>
                  <a:pt x="6697" y="1317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616120" y="4919760"/>
            <a:ext cx="27000" cy="411120"/>
          </a:xfrm>
          <a:custGeom>
            <a:avLst/>
            <a:gdLst/>
            <a:ahLst/>
            <a:rect l="l" t="t" r="r" b="b"/>
            <a:pathLst>
              <a:path w="75" h="1142">
                <a:moveTo>
                  <a:pt x="7268" y="13667"/>
                </a:moveTo>
                <a:cubicBezTo>
                  <a:pt x="7295" y="13906"/>
                  <a:pt x="7314" y="14142"/>
                  <a:pt x="7317" y="14387"/>
                </a:cubicBezTo>
                <a:cubicBezTo>
                  <a:pt x="7319" y="14536"/>
                  <a:pt x="7330" y="14663"/>
                  <a:pt x="7342" y="1480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911320" y="3438360"/>
            <a:ext cx="169920" cy="115920"/>
          </a:xfrm>
          <a:custGeom>
            <a:avLst/>
            <a:gdLst/>
            <a:ahLst/>
            <a:rect l="l" t="t" r="r" b="b"/>
            <a:pathLst>
              <a:path w="473" h="323">
                <a:moveTo>
                  <a:pt x="8086" y="9649"/>
                </a:moveTo>
                <a:cubicBezTo>
                  <a:pt x="8192" y="9605"/>
                  <a:pt x="8296" y="9566"/>
                  <a:pt x="8409" y="9550"/>
                </a:cubicBezTo>
              </a:path>
              <a:path w="473" h="323">
                <a:moveTo>
                  <a:pt x="8210" y="9872"/>
                </a:moveTo>
                <a:cubicBezTo>
                  <a:pt x="8330" y="9818"/>
                  <a:pt x="8442" y="9760"/>
                  <a:pt x="8558" y="969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857240" y="3330720"/>
            <a:ext cx="731880" cy="330120"/>
          </a:xfrm>
          <a:custGeom>
            <a:avLst/>
            <a:gdLst/>
            <a:ahLst/>
            <a:rect l="l" t="t" r="r" b="b"/>
            <a:pathLst>
              <a:path w="2035" h="919">
                <a:moveTo>
                  <a:pt x="5259" y="9401"/>
                </a:moveTo>
                <a:cubicBezTo>
                  <a:pt x="5259" y="9546"/>
                  <a:pt x="5208" y="9664"/>
                  <a:pt x="5159" y="9798"/>
                </a:cubicBezTo>
                <a:cubicBezTo>
                  <a:pt x="5252" y="9783"/>
                  <a:pt x="5336" y="9753"/>
                  <a:pt x="5432" y="9748"/>
                </a:cubicBezTo>
                <a:cubicBezTo>
                  <a:pt x="5457" y="9748"/>
                  <a:pt x="5465" y="9748"/>
                  <a:pt x="5482" y="9748"/>
                </a:cubicBezTo>
              </a:path>
              <a:path w="2035" h="919">
                <a:moveTo>
                  <a:pt x="5432" y="9252"/>
                </a:moveTo>
                <a:cubicBezTo>
                  <a:pt x="5443" y="9509"/>
                  <a:pt x="5477" y="9763"/>
                  <a:pt x="5482" y="10021"/>
                </a:cubicBezTo>
                <a:cubicBezTo>
                  <a:pt x="5482" y="10112"/>
                  <a:pt x="5482" y="10120"/>
                  <a:pt x="5482" y="10170"/>
                </a:cubicBezTo>
              </a:path>
              <a:path w="2035" h="919">
                <a:moveTo>
                  <a:pt x="5978" y="9748"/>
                </a:moveTo>
                <a:cubicBezTo>
                  <a:pt x="6056" y="9754"/>
                  <a:pt x="6230" y="9814"/>
                  <a:pt x="6300" y="9773"/>
                </a:cubicBezTo>
                <a:cubicBezTo>
                  <a:pt x="6317" y="9756"/>
                  <a:pt x="6333" y="9740"/>
                  <a:pt x="6350" y="9723"/>
                </a:cubicBezTo>
              </a:path>
              <a:path w="2035" h="919">
                <a:moveTo>
                  <a:pt x="6747" y="9451"/>
                </a:moveTo>
                <a:cubicBezTo>
                  <a:pt x="6814" y="9411"/>
                  <a:pt x="7097" y="9247"/>
                  <a:pt x="7045" y="9475"/>
                </a:cubicBezTo>
                <a:cubicBezTo>
                  <a:pt x="7001" y="9563"/>
                  <a:pt x="6995" y="9586"/>
                  <a:pt x="6945" y="9624"/>
                </a:cubicBezTo>
                <a:cubicBezTo>
                  <a:pt x="7066" y="9624"/>
                  <a:pt x="7296" y="9647"/>
                  <a:pt x="7169" y="9847"/>
                </a:cubicBezTo>
                <a:cubicBezTo>
                  <a:pt x="7120" y="9924"/>
                  <a:pt x="6871" y="10040"/>
                  <a:pt x="6871" y="1004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241800" y="3367080"/>
            <a:ext cx="758880" cy="793800"/>
          </a:xfrm>
          <a:custGeom>
            <a:avLst/>
            <a:gdLst/>
            <a:ahLst/>
            <a:rect l="l" t="t" r="r" b="b"/>
            <a:pathLst>
              <a:path w="2109" h="2209">
                <a:moveTo>
                  <a:pt x="9699" y="11559"/>
                </a:moveTo>
                <a:cubicBezTo>
                  <a:pt x="10012" y="11424"/>
                  <a:pt x="10304" y="11116"/>
                  <a:pt x="10592" y="10914"/>
                </a:cubicBezTo>
                <a:cubicBezTo>
                  <a:pt x="10664" y="10863"/>
                  <a:pt x="11067" y="10595"/>
                  <a:pt x="11112" y="10567"/>
                </a:cubicBezTo>
              </a:path>
              <a:path w="2109" h="2209">
                <a:moveTo>
                  <a:pt x="9004" y="9351"/>
                </a:moveTo>
                <a:cubicBezTo>
                  <a:pt x="9046" y="9541"/>
                  <a:pt x="9086" y="9729"/>
                  <a:pt x="9103" y="992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143680" y="3321000"/>
            <a:ext cx="1536480" cy="839880"/>
          </a:xfrm>
          <a:custGeom>
            <a:avLst/>
            <a:gdLst/>
            <a:ahLst/>
            <a:rect l="l" t="t" r="r" b="b"/>
            <a:pathLst>
              <a:path w="4267" h="2333">
                <a:moveTo>
                  <a:pt x="14288" y="10443"/>
                </a:moveTo>
                <a:cubicBezTo>
                  <a:pt x="14607" y="10365"/>
                  <a:pt x="14866" y="10339"/>
                  <a:pt x="15205" y="10344"/>
                </a:cubicBezTo>
                <a:cubicBezTo>
                  <a:pt x="15991" y="10356"/>
                  <a:pt x="16775" y="10435"/>
                  <a:pt x="17562" y="10418"/>
                </a:cubicBezTo>
                <a:cubicBezTo>
                  <a:pt x="17901" y="10411"/>
                  <a:pt x="18837" y="10535"/>
                  <a:pt x="18529" y="10393"/>
                </a:cubicBezTo>
                <a:cubicBezTo>
                  <a:pt x="18442" y="10437"/>
                  <a:pt x="18386" y="10433"/>
                  <a:pt x="18306" y="10368"/>
                </a:cubicBezTo>
              </a:path>
              <a:path w="4267" h="2333">
                <a:moveTo>
                  <a:pt x="16371" y="9277"/>
                </a:moveTo>
                <a:cubicBezTo>
                  <a:pt x="16375" y="9281"/>
                  <a:pt x="16413" y="9628"/>
                  <a:pt x="16396" y="9847"/>
                </a:cubicBezTo>
                <a:cubicBezTo>
                  <a:pt x="16361" y="10307"/>
                  <a:pt x="16264" y="10740"/>
                  <a:pt x="16173" y="11187"/>
                </a:cubicBezTo>
                <a:cubicBezTo>
                  <a:pt x="16159" y="11256"/>
                  <a:pt x="16201" y="11322"/>
                  <a:pt x="16197" y="11385"/>
                </a:cubicBezTo>
                <a:cubicBezTo>
                  <a:pt x="16194" y="11432"/>
                  <a:pt x="16178" y="11506"/>
                  <a:pt x="16173" y="11559"/>
                </a:cubicBezTo>
              </a:path>
              <a:path w="4267" h="2333">
                <a:moveTo>
                  <a:pt x="17363" y="10889"/>
                </a:moveTo>
                <a:cubicBezTo>
                  <a:pt x="17435" y="10889"/>
                  <a:pt x="17404" y="10892"/>
                  <a:pt x="17388" y="10939"/>
                </a:cubicBezTo>
                <a:cubicBezTo>
                  <a:pt x="17388" y="10947"/>
                  <a:pt x="17388" y="10956"/>
                  <a:pt x="17388" y="10964"/>
                </a:cubicBezTo>
                <a:cubicBezTo>
                  <a:pt x="17475" y="10911"/>
                  <a:pt x="17454" y="10815"/>
                  <a:pt x="17388" y="10914"/>
                </a:cubicBezTo>
                <a:cubicBezTo>
                  <a:pt x="17368" y="10954"/>
                  <a:pt x="17359" y="10961"/>
                  <a:pt x="17363" y="10988"/>
                </a:cubicBezTo>
                <a:cubicBezTo>
                  <a:pt x="17419" y="10955"/>
                  <a:pt x="17481" y="10908"/>
                  <a:pt x="17388" y="10939"/>
                </a:cubicBezTo>
                <a:cubicBezTo>
                  <a:pt x="17380" y="10939"/>
                  <a:pt x="17371" y="10939"/>
                  <a:pt x="17363" y="10939"/>
                </a:cubicBezTo>
              </a:path>
              <a:path w="4267" h="2333">
                <a:moveTo>
                  <a:pt x="16966" y="10914"/>
                </a:moveTo>
                <a:cubicBezTo>
                  <a:pt x="16966" y="10872"/>
                  <a:pt x="16957" y="10944"/>
                  <a:pt x="16917" y="10964"/>
                </a:cubicBezTo>
                <a:cubicBezTo>
                  <a:pt x="16924" y="10962"/>
                  <a:pt x="17028" y="10906"/>
                  <a:pt x="16991" y="10889"/>
                </a:cubicBezTo>
                <a:cubicBezTo>
                  <a:pt x="16915" y="10855"/>
                  <a:pt x="16906" y="10960"/>
                  <a:pt x="16917" y="10939"/>
                </a:cubicBezTo>
                <a:cubicBezTo>
                  <a:pt x="16917" y="10914"/>
                  <a:pt x="16917" y="10906"/>
                  <a:pt x="16942" y="1091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4705200" y="4500720"/>
            <a:ext cx="125640" cy="63360"/>
          </a:xfrm>
          <a:custGeom>
            <a:avLst/>
            <a:gdLst/>
            <a:ahLst/>
            <a:rect l="l" t="t" r="r" b="b"/>
            <a:pathLst>
              <a:path w="348" h="174">
                <a:moveTo>
                  <a:pt x="13072" y="12675"/>
                </a:moveTo>
                <a:cubicBezTo>
                  <a:pt x="13194" y="12601"/>
                  <a:pt x="13286" y="12549"/>
                  <a:pt x="13419" y="12502"/>
                </a:cubicBezTo>
              </a:path>
            </a:pathLst>
          </a:custGeom>
          <a:noFill/>
          <a:ln cap="rnd" w="34920">
            <a:solidFill>
              <a:srgbClr val="ff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5" name=""/>
          <p:cNvSpPr/>
          <p:nvPr/>
        </p:nvSpPr>
        <p:spPr>
          <a:xfrm>
            <a:off x="3321000" y="4537080"/>
            <a:ext cx="152280" cy="169920"/>
          </a:xfrm>
          <a:custGeom>
            <a:avLst/>
            <a:gdLst/>
            <a:ahLst/>
            <a:rect l="l" t="t" r="r" b="b"/>
            <a:pathLst>
              <a:path w="423" h="472">
                <a:moveTo>
                  <a:pt x="9376" y="12601"/>
                </a:moveTo>
                <a:cubicBezTo>
                  <a:pt x="9376" y="12758"/>
                  <a:pt x="9376" y="12915"/>
                  <a:pt x="9376" y="13072"/>
                </a:cubicBezTo>
              </a:path>
              <a:path w="423" h="472">
                <a:moveTo>
                  <a:pt x="9227" y="12849"/>
                </a:moveTo>
                <a:cubicBezTo>
                  <a:pt x="9364" y="12849"/>
                  <a:pt x="9489" y="12834"/>
                  <a:pt x="9624" y="12824"/>
                </a:cubicBezTo>
                <a:cubicBezTo>
                  <a:pt x="9632" y="12824"/>
                  <a:pt x="9641" y="12824"/>
                  <a:pt x="9649" y="1282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438800" y="4402080"/>
            <a:ext cx="152280" cy="1000080"/>
          </a:xfrm>
          <a:custGeom>
            <a:avLst/>
            <a:gdLst/>
            <a:ahLst/>
            <a:rect l="l" t="t" r="r" b="b"/>
            <a:pathLst>
              <a:path w="423" h="2779">
                <a:moveTo>
                  <a:pt x="12328" y="13667"/>
                </a:moveTo>
                <a:cubicBezTo>
                  <a:pt x="12328" y="13948"/>
                  <a:pt x="12391" y="14227"/>
                  <a:pt x="12402" y="14511"/>
                </a:cubicBezTo>
                <a:cubicBezTo>
                  <a:pt x="12406" y="14622"/>
                  <a:pt x="12307" y="15105"/>
                  <a:pt x="12502" y="14932"/>
                </a:cubicBezTo>
              </a:path>
              <a:path w="423" h="2779">
                <a:moveTo>
                  <a:pt x="12750" y="12328"/>
                </a:moveTo>
                <a:cubicBezTo>
                  <a:pt x="12685" y="12199"/>
                  <a:pt x="12566" y="12189"/>
                  <a:pt x="12452" y="12303"/>
                </a:cubicBezTo>
                <a:cubicBezTo>
                  <a:pt x="12214" y="12542"/>
                  <a:pt x="12384" y="12592"/>
                  <a:pt x="12601" y="12675"/>
                </a:cubicBezTo>
                <a:cubicBezTo>
                  <a:pt x="12642" y="12692"/>
                  <a:pt x="12684" y="12708"/>
                  <a:pt x="12725" y="12725"/>
                </a:cubicBezTo>
                <a:cubicBezTo>
                  <a:pt x="12688" y="12902"/>
                  <a:pt x="12696" y="12899"/>
                  <a:pt x="12526" y="12973"/>
                </a:cubicBezTo>
                <a:cubicBezTo>
                  <a:pt x="12484" y="12753"/>
                  <a:pt x="12550" y="12593"/>
                  <a:pt x="12601" y="12378"/>
                </a:cubicBezTo>
                <a:cubicBezTo>
                  <a:pt x="12601" y="12370"/>
                  <a:pt x="12601" y="12361"/>
                  <a:pt x="12601" y="1235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724280" y="4340160"/>
            <a:ext cx="160560" cy="411120"/>
          </a:xfrm>
          <a:custGeom>
            <a:avLst/>
            <a:gdLst/>
            <a:ahLst/>
            <a:rect l="l" t="t" r="r" b="b"/>
            <a:pathLst>
              <a:path w="447" h="1142">
                <a:moveTo>
                  <a:pt x="13122" y="12055"/>
                </a:moveTo>
                <a:cubicBezTo>
                  <a:pt x="13165" y="12184"/>
                  <a:pt x="13224" y="12319"/>
                  <a:pt x="13246" y="12452"/>
                </a:cubicBezTo>
              </a:path>
              <a:path w="447" h="1142">
                <a:moveTo>
                  <a:pt x="13246" y="12799"/>
                </a:moveTo>
                <a:cubicBezTo>
                  <a:pt x="13281" y="12706"/>
                  <a:pt x="13294" y="12717"/>
                  <a:pt x="13395" y="12700"/>
                </a:cubicBezTo>
                <a:cubicBezTo>
                  <a:pt x="13454" y="12843"/>
                  <a:pt x="13346" y="12990"/>
                  <a:pt x="13271" y="13122"/>
                </a:cubicBezTo>
                <a:cubicBezTo>
                  <a:pt x="13254" y="13147"/>
                  <a:pt x="13238" y="13171"/>
                  <a:pt x="13221" y="13196"/>
                </a:cubicBezTo>
                <a:cubicBezTo>
                  <a:pt x="13337" y="13162"/>
                  <a:pt x="13457" y="13086"/>
                  <a:pt x="13568" y="1302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205240" y="4929120"/>
            <a:ext cx="19080" cy="420840"/>
          </a:xfrm>
          <a:custGeom>
            <a:avLst/>
            <a:gdLst/>
            <a:ahLst/>
            <a:rect l="l" t="t" r="r" b="b"/>
            <a:pathLst>
              <a:path w="51" h="1167">
                <a:moveTo>
                  <a:pt x="14486" y="13692"/>
                </a:moveTo>
                <a:cubicBezTo>
                  <a:pt x="14524" y="13959"/>
                  <a:pt x="14506" y="14215"/>
                  <a:pt x="14486" y="14486"/>
                </a:cubicBezTo>
                <a:cubicBezTo>
                  <a:pt x="14476" y="14618"/>
                  <a:pt x="14461" y="14700"/>
                  <a:pt x="14461" y="1483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518080" y="4606920"/>
            <a:ext cx="125640" cy="73080"/>
          </a:xfrm>
          <a:custGeom>
            <a:avLst/>
            <a:gdLst/>
            <a:ahLst/>
            <a:rect l="l" t="t" r="r" b="b"/>
            <a:pathLst>
              <a:path w="349" h="200">
                <a:moveTo>
                  <a:pt x="15329" y="12824"/>
                </a:moveTo>
                <a:cubicBezTo>
                  <a:pt x="15416" y="12808"/>
                  <a:pt x="15489" y="12799"/>
                  <a:pt x="15577" y="12799"/>
                </a:cubicBezTo>
              </a:path>
              <a:path w="349" h="200">
                <a:moveTo>
                  <a:pt x="15354" y="12998"/>
                </a:moveTo>
                <a:cubicBezTo>
                  <a:pt x="15428" y="12983"/>
                  <a:pt x="15501" y="12962"/>
                  <a:pt x="15577" y="12948"/>
                </a:cubicBezTo>
                <a:cubicBezTo>
                  <a:pt x="15606" y="12943"/>
                  <a:pt x="15649" y="12948"/>
                  <a:pt x="15677" y="12948"/>
                </a:cubicBezTo>
              </a:path>
            </a:pathLst>
          </a:custGeom>
          <a:noFill/>
          <a:ln cap="rnd" w="34920">
            <a:solidFill>
              <a:srgbClr val="ff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0" name=""/>
          <p:cNvSpPr/>
          <p:nvPr/>
        </p:nvSpPr>
        <p:spPr>
          <a:xfrm>
            <a:off x="5946840" y="4456080"/>
            <a:ext cx="304560" cy="204840"/>
          </a:xfrm>
          <a:custGeom>
            <a:avLst/>
            <a:gdLst/>
            <a:ahLst/>
            <a:rect l="l" t="t" r="r" b="b"/>
            <a:pathLst>
              <a:path w="844" h="571">
                <a:moveTo>
                  <a:pt x="16520" y="12402"/>
                </a:moveTo>
                <a:cubicBezTo>
                  <a:pt x="16605" y="12487"/>
                  <a:pt x="16605" y="12737"/>
                  <a:pt x="16619" y="12874"/>
                </a:cubicBezTo>
                <a:cubicBezTo>
                  <a:pt x="16619" y="12915"/>
                  <a:pt x="16619" y="12923"/>
                  <a:pt x="16619" y="12948"/>
                </a:cubicBezTo>
              </a:path>
              <a:path w="844" h="571">
                <a:moveTo>
                  <a:pt x="16867" y="12378"/>
                </a:moveTo>
                <a:cubicBezTo>
                  <a:pt x="16867" y="12538"/>
                  <a:pt x="16838" y="12721"/>
                  <a:pt x="16892" y="12874"/>
                </a:cubicBezTo>
                <a:cubicBezTo>
                  <a:pt x="16922" y="12961"/>
                  <a:pt x="17114" y="12920"/>
                  <a:pt x="17165" y="12898"/>
                </a:cubicBezTo>
                <a:cubicBezTo>
                  <a:pt x="17253" y="12860"/>
                  <a:pt x="17334" y="12794"/>
                  <a:pt x="17363" y="12700"/>
                </a:cubicBezTo>
                <a:cubicBezTo>
                  <a:pt x="17363" y="12692"/>
                  <a:pt x="17363" y="12683"/>
                  <a:pt x="17363" y="12675"/>
                </a:cubicBezTo>
                <a:cubicBezTo>
                  <a:pt x="17268" y="12639"/>
                  <a:pt x="17180" y="12658"/>
                  <a:pt x="17140" y="12774"/>
                </a:cubicBezTo>
                <a:cubicBezTo>
                  <a:pt x="17135" y="12789"/>
                  <a:pt x="17160" y="12956"/>
                  <a:pt x="17190" y="12923"/>
                </a:cubicBezTo>
                <a:cubicBezTo>
                  <a:pt x="17198" y="12907"/>
                  <a:pt x="17206" y="12890"/>
                  <a:pt x="17214" y="1287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1108080" y="4919760"/>
            <a:ext cx="1490760" cy="581040"/>
          </a:xfrm>
          <a:custGeom>
            <a:avLst/>
            <a:gdLst/>
            <a:ahLst/>
            <a:rect l="l" t="t" r="r" b="b"/>
            <a:pathLst>
              <a:path w="4143" h="1614">
                <a:moveTo>
                  <a:pt x="6201" y="14858"/>
                </a:moveTo>
                <a:cubicBezTo>
                  <a:pt x="6290" y="14809"/>
                  <a:pt x="6349" y="14788"/>
                  <a:pt x="6499" y="14784"/>
                </a:cubicBezTo>
                <a:cubicBezTo>
                  <a:pt x="6730" y="14777"/>
                  <a:pt x="6967" y="14797"/>
                  <a:pt x="7193" y="14833"/>
                </a:cubicBezTo>
                <a:cubicBezTo>
                  <a:pt x="7108" y="14850"/>
                  <a:pt x="7008" y="14878"/>
                  <a:pt x="6921" y="14883"/>
                </a:cubicBezTo>
                <a:cubicBezTo>
                  <a:pt x="6711" y="14895"/>
                  <a:pt x="6506" y="14865"/>
                  <a:pt x="6300" y="14908"/>
                </a:cubicBezTo>
                <a:cubicBezTo>
                  <a:pt x="6239" y="14921"/>
                  <a:pt x="6162" y="14947"/>
                  <a:pt x="6102" y="14957"/>
                </a:cubicBezTo>
                <a:cubicBezTo>
                  <a:pt x="6027" y="14970"/>
                  <a:pt x="5957" y="14982"/>
                  <a:pt x="5879" y="14982"/>
                </a:cubicBezTo>
                <a:cubicBezTo>
                  <a:pt x="5774" y="14982"/>
                  <a:pt x="5682" y="14969"/>
                  <a:pt x="5581" y="14957"/>
                </a:cubicBezTo>
                <a:cubicBezTo>
                  <a:pt x="5497" y="14947"/>
                  <a:pt x="5414" y="14938"/>
                  <a:pt x="5333" y="14932"/>
                </a:cubicBezTo>
                <a:cubicBezTo>
                  <a:pt x="5325" y="14932"/>
                  <a:pt x="5316" y="14932"/>
                  <a:pt x="5308" y="14932"/>
                </a:cubicBezTo>
                <a:cubicBezTo>
                  <a:pt x="5409" y="14893"/>
                  <a:pt x="5523" y="14851"/>
                  <a:pt x="5631" y="14833"/>
                </a:cubicBezTo>
                <a:cubicBezTo>
                  <a:pt x="5704" y="14821"/>
                  <a:pt x="5780" y="14822"/>
                  <a:pt x="5854" y="14808"/>
                </a:cubicBezTo>
                <a:cubicBezTo>
                  <a:pt x="5942" y="14792"/>
                  <a:pt x="6010" y="14784"/>
                  <a:pt x="6102" y="14784"/>
                </a:cubicBezTo>
                <a:cubicBezTo>
                  <a:pt x="6179" y="14784"/>
                  <a:pt x="6243" y="14759"/>
                  <a:pt x="6325" y="14759"/>
                </a:cubicBezTo>
                <a:cubicBezTo>
                  <a:pt x="6422" y="14759"/>
                  <a:pt x="6503" y="14738"/>
                  <a:pt x="6598" y="14734"/>
                </a:cubicBezTo>
                <a:cubicBezTo>
                  <a:pt x="6676" y="14731"/>
                  <a:pt x="6770" y="14726"/>
                  <a:pt x="6846" y="14709"/>
                </a:cubicBezTo>
                <a:cubicBezTo>
                  <a:pt x="6929" y="14691"/>
                  <a:pt x="7010" y="14670"/>
                  <a:pt x="7094" y="14660"/>
                </a:cubicBezTo>
                <a:cubicBezTo>
                  <a:pt x="7134" y="14655"/>
                  <a:pt x="7178" y="14660"/>
                  <a:pt x="7218" y="14660"/>
                </a:cubicBezTo>
                <a:cubicBezTo>
                  <a:pt x="7102" y="14678"/>
                  <a:pt x="6987" y="14669"/>
                  <a:pt x="6871" y="14684"/>
                </a:cubicBezTo>
                <a:cubicBezTo>
                  <a:pt x="6745" y="14700"/>
                  <a:pt x="6628" y="14709"/>
                  <a:pt x="6499" y="14709"/>
                </a:cubicBezTo>
                <a:cubicBezTo>
                  <a:pt x="6349" y="14709"/>
                  <a:pt x="6199" y="14755"/>
                  <a:pt x="6052" y="14784"/>
                </a:cubicBezTo>
                <a:cubicBezTo>
                  <a:pt x="5890" y="14816"/>
                  <a:pt x="5721" y="14829"/>
                  <a:pt x="5556" y="14833"/>
                </a:cubicBezTo>
                <a:cubicBezTo>
                  <a:pt x="5458" y="14835"/>
                  <a:pt x="5378" y="14853"/>
                  <a:pt x="5283" y="14858"/>
                </a:cubicBezTo>
                <a:cubicBezTo>
                  <a:pt x="5258" y="14859"/>
                  <a:pt x="5284" y="14858"/>
                  <a:pt x="5259" y="14858"/>
                </a:cubicBezTo>
              </a:path>
              <a:path w="4143" h="1614">
                <a:moveTo>
                  <a:pt x="4142" y="13667"/>
                </a:moveTo>
                <a:cubicBezTo>
                  <a:pt x="3844" y="13986"/>
                  <a:pt x="3600" y="14346"/>
                  <a:pt x="3324" y="14684"/>
                </a:cubicBezTo>
                <a:cubicBezTo>
                  <a:pt x="3295" y="14720"/>
                  <a:pt x="3098" y="14989"/>
                  <a:pt x="3101" y="14982"/>
                </a:cubicBezTo>
                <a:cubicBezTo>
                  <a:pt x="3117" y="14941"/>
                  <a:pt x="3134" y="14899"/>
                  <a:pt x="3150" y="14858"/>
                </a:cubicBezTo>
              </a:path>
              <a:path w="4143" h="1614">
                <a:moveTo>
                  <a:pt x="4638" y="13915"/>
                </a:moveTo>
                <a:cubicBezTo>
                  <a:pt x="4672" y="14248"/>
                  <a:pt x="4666" y="14576"/>
                  <a:pt x="4688" y="14908"/>
                </a:cubicBezTo>
                <a:cubicBezTo>
                  <a:pt x="4690" y="14945"/>
                  <a:pt x="4661" y="15411"/>
                  <a:pt x="4738" y="1520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875040" y="4919760"/>
            <a:ext cx="1376280" cy="438120"/>
          </a:xfrm>
          <a:custGeom>
            <a:avLst/>
            <a:gdLst/>
            <a:ahLst/>
            <a:rect l="l" t="t" r="r" b="b"/>
            <a:pathLst>
              <a:path w="3821" h="1217">
                <a:moveTo>
                  <a:pt x="12452" y="14759"/>
                </a:moveTo>
                <a:cubicBezTo>
                  <a:pt x="12829" y="14759"/>
                  <a:pt x="13250" y="14706"/>
                  <a:pt x="13618" y="14734"/>
                </a:cubicBezTo>
                <a:cubicBezTo>
                  <a:pt x="13719" y="14742"/>
                  <a:pt x="13814" y="14780"/>
                  <a:pt x="13915" y="14784"/>
                </a:cubicBezTo>
                <a:cubicBezTo>
                  <a:pt x="14009" y="14788"/>
                  <a:pt x="14092" y="14808"/>
                  <a:pt x="14188" y="14808"/>
                </a:cubicBezTo>
                <a:cubicBezTo>
                  <a:pt x="14283" y="14808"/>
                  <a:pt x="14381" y="14847"/>
                  <a:pt x="14461" y="14858"/>
                </a:cubicBezTo>
                <a:cubicBezTo>
                  <a:pt x="14504" y="14864"/>
                  <a:pt x="14550" y="14880"/>
                  <a:pt x="14560" y="14883"/>
                </a:cubicBezTo>
                <a:cubicBezTo>
                  <a:pt x="14568" y="14883"/>
                  <a:pt x="14577" y="14883"/>
                  <a:pt x="14585" y="14883"/>
                </a:cubicBezTo>
              </a:path>
              <a:path w="3821" h="1217">
                <a:moveTo>
                  <a:pt x="11906" y="13692"/>
                </a:moveTo>
                <a:cubicBezTo>
                  <a:pt x="11972" y="13626"/>
                  <a:pt x="11827" y="13755"/>
                  <a:pt x="11757" y="13816"/>
                </a:cubicBezTo>
                <a:cubicBezTo>
                  <a:pt x="11481" y="14055"/>
                  <a:pt x="11243" y="14325"/>
                  <a:pt x="10988" y="14585"/>
                </a:cubicBezTo>
                <a:cubicBezTo>
                  <a:pt x="10929" y="14646"/>
                  <a:pt x="10706" y="14923"/>
                  <a:pt x="10815" y="1468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9 – Integers &amp; Reflections</a:t>
            </a:r>
            <a:endParaRPr b="0" lang="en-US" sz="4400" spc="-1" strike="noStrike">
              <a:solidFill>
                <a:srgbClr val="000000"/>
              </a:solidFill>
              <a:latin typeface="Arial"/>
            </a:endParaRPr>
          </a:p>
        </p:txBody>
      </p:sp>
      <p:sp>
        <p:nvSpPr>
          <p:cNvPr id="7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  Students will find the distance between two points on a coordinate plane.</a:t>
            </a:r>
            <a:endParaRPr b="0" lang="en-US" sz="3200" spc="-1" strike="noStrike">
              <a:solidFill>
                <a:srgbClr val="000000"/>
              </a:solidFill>
              <a:latin typeface="Arial"/>
            </a:endParaRPr>
          </a:p>
        </p:txBody>
      </p:sp>
      <p:sp>
        <p:nvSpPr>
          <p:cNvPr id="75" name=""/>
          <p:cNvSpPr/>
          <p:nvPr/>
        </p:nvSpPr>
        <p:spPr>
          <a:xfrm>
            <a:off x="1633680" y="6616800"/>
            <a:ext cx="1440" cy="1440"/>
          </a:xfrm>
          <a:custGeom>
            <a:avLst/>
            <a:gdLst/>
            <a:ahLst/>
            <a:rect l="l" t="t" r="r" b="b"/>
            <a:pathLst>
              <a:path w="1" h="1">
                <a:moveTo>
                  <a:pt x="4539" y="18380"/>
                </a:moveTo>
                <a:lnTo>
                  <a:pt x="4539" y="1838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find the distance between two points on a coordinate plane.</a:t>
            </a:r>
            <a:br>
              <a:rPr sz="4000"/>
            </a:br>
            <a:endParaRPr b="0" lang="en-US" sz="2000" spc="-1" strike="noStrike">
              <a:solidFill>
                <a:srgbClr val="000000"/>
              </a:solidFill>
              <a:latin typeface="Arial"/>
            </a:endParaRPr>
          </a:p>
        </p:txBody>
      </p:sp>
      <p:sp>
        <p:nvSpPr>
          <p:cNvPr id="7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lines that do not cross an axis (remain in only one quadrant) subtract the smaller absolute value from the largest to find the length of the lin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78" name=""/>
          <p:cNvGraphicFramePr/>
          <p:nvPr/>
        </p:nvGraphicFramePr>
        <p:xfrm>
          <a:off x="4648320" y="1066680"/>
          <a:ext cx="4038480" cy="5175360"/>
        </p:xfrm>
        <a:graphic>
          <a:graphicData uri="http://schemas.openxmlformats.org/drawingml/2006/table">
            <a:tbl>
              <a:tblPr/>
              <a:tblGrid>
                <a:gridCol w="403200"/>
                <a:gridCol w="404640"/>
                <a:gridCol w="403200"/>
                <a:gridCol w="405000"/>
                <a:gridCol w="403200"/>
                <a:gridCol w="403200"/>
                <a:gridCol w="404640"/>
                <a:gridCol w="403200"/>
                <a:gridCol w="405000"/>
                <a:gridCol w="4032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9" name=""/>
          <p:cNvSpPr/>
          <p:nvPr/>
        </p:nvSpPr>
        <p:spPr>
          <a:xfrm>
            <a:off x="6629400" y="1066680"/>
            <a:ext cx="0" cy="5181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648320" y="3657600"/>
            <a:ext cx="403848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7467480" y="4191120"/>
            <a:ext cx="838440" cy="99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6224760" y="6296040"/>
            <a:ext cx="1440" cy="1440"/>
          </a:xfrm>
          <a:custGeom>
            <a:avLst/>
            <a:gdLst/>
            <a:ahLst/>
            <a:rect l="l" t="t" r="r" b="b"/>
            <a:pathLst>
              <a:path w="1" h="1">
                <a:moveTo>
                  <a:pt x="17289" y="17487"/>
                </a:moveTo>
                <a:lnTo>
                  <a:pt x="17289" y="17487"/>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 name=""/>
          <p:cNvSpPr/>
          <p:nvPr/>
        </p:nvSpPr>
        <p:spPr>
          <a:xfrm>
            <a:off x="5072040" y="6375240"/>
            <a:ext cx="554040" cy="277920"/>
          </a:xfrm>
          <a:custGeom>
            <a:avLst/>
            <a:gdLst/>
            <a:ahLst/>
            <a:rect l="l" t="t" r="r" b="b"/>
            <a:pathLst>
              <a:path w="1539" h="769">
                <a:moveTo>
                  <a:pt x="14660" y="17735"/>
                </a:moveTo>
                <a:cubicBezTo>
                  <a:pt x="14707" y="17594"/>
                  <a:pt x="14727" y="17958"/>
                  <a:pt x="14734" y="18107"/>
                </a:cubicBezTo>
                <a:cubicBezTo>
                  <a:pt x="14737" y="18176"/>
                  <a:pt x="14675" y="18782"/>
                  <a:pt x="14759" y="18281"/>
                </a:cubicBezTo>
              </a:path>
              <a:path w="1539" h="769">
                <a:moveTo>
                  <a:pt x="14982" y="17760"/>
                </a:moveTo>
                <a:cubicBezTo>
                  <a:pt x="15032" y="17973"/>
                  <a:pt x="14982" y="18600"/>
                  <a:pt x="15081" y="18405"/>
                </a:cubicBezTo>
                <a:cubicBezTo>
                  <a:pt x="15089" y="18372"/>
                  <a:pt x="15098" y="18339"/>
                  <a:pt x="15106" y="18306"/>
                </a:cubicBezTo>
              </a:path>
              <a:path w="1539" h="769">
                <a:moveTo>
                  <a:pt x="15354" y="17934"/>
                </a:moveTo>
                <a:cubicBezTo>
                  <a:pt x="15368" y="18048"/>
                  <a:pt x="15402" y="18229"/>
                  <a:pt x="15379" y="18331"/>
                </a:cubicBezTo>
              </a:path>
              <a:path w="1539" h="769">
                <a:moveTo>
                  <a:pt x="14089" y="18380"/>
                </a:moveTo>
                <a:cubicBezTo>
                  <a:pt x="14399" y="18463"/>
                  <a:pt x="14734" y="18408"/>
                  <a:pt x="15056" y="18405"/>
                </a:cubicBezTo>
                <a:cubicBezTo>
                  <a:pt x="15248" y="18403"/>
                  <a:pt x="15582" y="18642"/>
                  <a:pt x="15627" y="18455"/>
                </a:cubicBezTo>
                <a:cubicBezTo>
                  <a:pt x="15619" y="18447"/>
                  <a:pt x="15610" y="18438"/>
                  <a:pt x="15602" y="1843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7072200" y="6259680"/>
            <a:ext cx="741600" cy="474480"/>
          </a:xfrm>
          <a:custGeom>
            <a:avLst/>
            <a:gdLst/>
            <a:ahLst/>
            <a:rect l="l" t="t" r="r" b="b"/>
            <a:pathLst>
              <a:path w="2060" h="1316">
                <a:moveTo>
                  <a:pt x="20191" y="17711"/>
                </a:moveTo>
                <a:cubicBezTo>
                  <a:pt x="20274" y="17711"/>
                  <a:pt x="20268" y="17770"/>
                  <a:pt x="20265" y="17884"/>
                </a:cubicBezTo>
                <a:cubicBezTo>
                  <a:pt x="20261" y="18049"/>
                  <a:pt x="20241" y="18496"/>
                  <a:pt x="20241" y="18331"/>
                </a:cubicBezTo>
              </a:path>
              <a:path w="2060" h="1316">
                <a:moveTo>
                  <a:pt x="20489" y="17785"/>
                </a:moveTo>
                <a:cubicBezTo>
                  <a:pt x="20594" y="17963"/>
                  <a:pt x="20679" y="18156"/>
                  <a:pt x="20786" y="18331"/>
                </a:cubicBezTo>
                <a:cubicBezTo>
                  <a:pt x="20809" y="18353"/>
                  <a:pt x="20817" y="18358"/>
                  <a:pt x="20811" y="18380"/>
                </a:cubicBezTo>
                <a:cubicBezTo>
                  <a:pt x="20857" y="18150"/>
                  <a:pt x="20884" y="17947"/>
                  <a:pt x="20985" y="17735"/>
                </a:cubicBezTo>
                <a:cubicBezTo>
                  <a:pt x="21005" y="17695"/>
                  <a:pt x="21003" y="17679"/>
                  <a:pt x="21034" y="17686"/>
                </a:cubicBezTo>
              </a:path>
              <a:path w="2060" h="1316">
                <a:moveTo>
                  <a:pt x="19695" y="17611"/>
                </a:moveTo>
                <a:cubicBezTo>
                  <a:pt x="19906" y="17588"/>
                  <a:pt x="20296" y="17571"/>
                  <a:pt x="20538" y="17537"/>
                </a:cubicBezTo>
                <a:cubicBezTo>
                  <a:pt x="20582" y="17531"/>
                  <a:pt x="21749" y="17282"/>
                  <a:pt x="21704" y="17462"/>
                </a:cubicBezTo>
                <a:cubicBezTo>
                  <a:pt x="21663" y="17487"/>
                  <a:pt x="21621" y="17512"/>
                  <a:pt x="21580" y="17537"/>
                </a:cubicBezTo>
              </a:path>
              <a:path w="2060" h="1316">
                <a:moveTo>
                  <a:pt x="19645" y="18703"/>
                </a:moveTo>
                <a:cubicBezTo>
                  <a:pt x="19936" y="18516"/>
                  <a:pt x="20296" y="18518"/>
                  <a:pt x="20638" y="18504"/>
                </a:cubicBezTo>
                <a:cubicBezTo>
                  <a:pt x="20870" y="18495"/>
                  <a:pt x="21100" y="18488"/>
                  <a:pt x="21332" y="1847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215120" y="652320"/>
            <a:ext cx="401760" cy="293760"/>
          </a:xfrm>
          <a:custGeom>
            <a:avLst/>
            <a:gdLst/>
            <a:ahLst/>
            <a:rect l="l" t="t" r="r" b="b"/>
            <a:pathLst>
              <a:path w="1117" h="819">
                <a:moveTo>
                  <a:pt x="20638" y="1984"/>
                </a:moveTo>
                <a:cubicBezTo>
                  <a:pt x="20649" y="2175"/>
                  <a:pt x="20662" y="2363"/>
                  <a:pt x="20662" y="2555"/>
                </a:cubicBezTo>
                <a:cubicBezTo>
                  <a:pt x="20662" y="2563"/>
                  <a:pt x="20662" y="2572"/>
                  <a:pt x="20662" y="2580"/>
                </a:cubicBezTo>
              </a:path>
              <a:path w="1117" h="819">
                <a:moveTo>
                  <a:pt x="20042" y="1860"/>
                </a:moveTo>
                <a:cubicBezTo>
                  <a:pt x="20329" y="1825"/>
                  <a:pt x="20646" y="1803"/>
                  <a:pt x="20935" y="1811"/>
                </a:cubicBezTo>
                <a:cubicBezTo>
                  <a:pt x="21069" y="1815"/>
                  <a:pt x="21097" y="1823"/>
                  <a:pt x="21158" y="1910"/>
                </a:cubicBezTo>
              </a:path>
              <a:path w="1117" h="819">
                <a:moveTo>
                  <a:pt x="20166" y="2629"/>
                </a:moveTo>
                <a:cubicBezTo>
                  <a:pt x="20451" y="2619"/>
                  <a:pt x="20727" y="2566"/>
                  <a:pt x="21010" y="2555"/>
                </a:cubicBezTo>
                <a:cubicBezTo>
                  <a:pt x="21084" y="2555"/>
                  <a:pt x="21117" y="2530"/>
                  <a:pt x="21109" y="258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411880" y="696960"/>
            <a:ext cx="527040" cy="339840"/>
          </a:xfrm>
          <a:custGeom>
            <a:avLst/>
            <a:gdLst/>
            <a:ahLst/>
            <a:rect l="l" t="t" r="r" b="b"/>
            <a:pathLst>
              <a:path w="1464" h="943">
                <a:moveTo>
                  <a:pt x="15652" y="2133"/>
                </a:moveTo>
                <a:cubicBezTo>
                  <a:pt x="15652" y="2323"/>
                  <a:pt x="15652" y="2704"/>
                  <a:pt x="15652" y="2803"/>
                </a:cubicBezTo>
              </a:path>
              <a:path w="1464" h="943">
                <a:moveTo>
                  <a:pt x="16024" y="2034"/>
                </a:moveTo>
                <a:cubicBezTo>
                  <a:pt x="16065" y="2281"/>
                  <a:pt x="16110" y="2550"/>
                  <a:pt x="16073" y="2803"/>
                </a:cubicBezTo>
                <a:cubicBezTo>
                  <a:pt x="16065" y="2820"/>
                  <a:pt x="16057" y="2836"/>
                  <a:pt x="16049" y="2853"/>
                </a:cubicBezTo>
              </a:path>
              <a:path w="1464" h="943">
                <a:moveTo>
                  <a:pt x="15032" y="2059"/>
                </a:moveTo>
                <a:cubicBezTo>
                  <a:pt x="15361" y="2047"/>
                  <a:pt x="15674" y="1964"/>
                  <a:pt x="15999" y="1935"/>
                </a:cubicBezTo>
                <a:cubicBezTo>
                  <a:pt x="16157" y="1921"/>
                  <a:pt x="16277" y="1937"/>
                  <a:pt x="16421" y="1984"/>
                </a:cubicBezTo>
              </a:path>
              <a:path w="1464" h="943">
                <a:moveTo>
                  <a:pt x="15180" y="2729"/>
                </a:moveTo>
                <a:cubicBezTo>
                  <a:pt x="15457" y="2819"/>
                  <a:pt x="15736" y="2797"/>
                  <a:pt x="16024" y="2778"/>
                </a:cubicBezTo>
                <a:cubicBezTo>
                  <a:pt x="16053" y="2776"/>
                  <a:pt x="16559" y="2640"/>
                  <a:pt x="16470" y="2803"/>
                </a:cubicBezTo>
                <a:cubicBezTo>
                  <a:pt x="16454" y="2828"/>
                  <a:pt x="16437" y="2852"/>
                  <a:pt x="16421" y="287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680160" y="1535040"/>
            <a:ext cx="106560" cy="73080"/>
          </a:xfrm>
          <a:custGeom>
            <a:avLst/>
            <a:gdLst/>
            <a:ahLst/>
            <a:rect l="l" t="t" r="r" b="b"/>
            <a:pathLst>
              <a:path w="299" h="200">
                <a:moveTo>
                  <a:pt x="18579" y="4266"/>
                </a:moveTo>
                <a:cubicBezTo>
                  <a:pt x="18567" y="4350"/>
                  <a:pt x="18564" y="4388"/>
                  <a:pt x="18579" y="4465"/>
                </a:cubicBezTo>
                <a:cubicBezTo>
                  <a:pt x="18681" y="4421"/>
                  <a:pt x="18759" y="4331"/>
                  <a:pt x="18852" y="4266"/>
                </a:cubicBezTo>
              </a:path>
            </a:pathLst>
          </a:custGeom>
          <a:noFill/>
          <a:ln cap="rnd" w="34920">
            <a:solidFill>
              <a:srgbClr val="ff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8" name=""/>
          <p:cNvSpPr/>
          <p:nvPr/>
        </p:nvSpPr>
        <p:spPr>
          <a:xfrm>
            <a:off x="339840" y="1482840"/>
            <a:ext cx="7920000" cy="5116320"/>
          </a:xfrm>
          <a:custGeom>
            <a:avLst/>
            <a:gdLst/>
            <a:ahLst/>
            <a:rect l="l" t="t" r="r" b="b"/>
            <a:pathLst>
              <a:path w="22002" h="14214">
                <a:moveTo>
                  <a:pt x="15379" y="18331"/>
                </a:moveTo>
                <a:lnTo>
                  <a:pt x="15379" y="18331"/>
                </a:lnTo>
              </a:path>
              <a:path w="22002" h="14214">
                <a:moveTo>
                  <a:pt x="13990" y="17611"/>
                </a:moveTo>
                <a:cubicBezTo>
                  <a:pt x="14456" y="17566"/>
                  <a:pt x="14992" y="17485"/>
                  <a:pt x="15453" y="17611"/>
                </a:cubicBezTo>
                <a:cubicBezTo>
                  <a:pt x="15532" y="17664"/>
                  <a:pt x="15554" y="17684"/>
                  <a:pt x="15453" y="17735"/>
                </a:cubicBezTo>
              </a:path>
              <a:path w="22002" h="14214">
                <a:moveTo>
                  <a:pt x="22944" y="10244"/>
                </a:moveTo>
                <a:cubicBezTo>
                  <a:pt x="22913" y="10417"/>
                  <a:pt x="22908" y="10601"/>
                  <a:pt x="22870" y="10765"/>
                </a:cubicBezTo>
              </a:path>
              <a:path w="22002" h="14214">
                <a:moveTo>
                  <a:pt x="18752" y="4118"/>
                </a:moveTo>
                <a:cubicBezTo>
                  <a:pt x="18777" y="4341"/>
                  <a:pt x="18786" y="4574"/>
                  <a:pt x="18852" y="4787"/>
                </a:cubicBezTo>
              </a:path>
              <a:path w="22002" h="14214">
                <a:moveTo>
                  <a:pt x="20712" y="11658"/>
                </a:moveTo>
                <a:lnTo>
                  <a:pt x="20712" y="11658"/>
                </a:lnTo>
                <a:lnTo>
                  <a:pt x="20712" y="11658"/>
                </a:lnTo>
              </a:path>
              <a:path w="22002" h="14214">
                <a:moveTo>
                  <a:pt x="20563" y="11013"/>
                </a:moveTo>
                <a:cubicBezTo>
                  <a:pt x="20599" y="10986"/>
                  <a:pt x="20615" y="10984"/>
                  <a:pt x="20662" y="10964"/>
                </a:cubicBezTo>
              </a:path>
              <a:path w="22002" h="14214">
                <a:moveTo>
                  <a:pt x="22696" y="11584"/>
                </a:moveTo>
                <a:cubicBezTo>
                  <a:pt x="22688" y="11576"/>
                  <a:pt x="22679" y="11567"/>
                  <a:pt x="22671" y="11559"/>
                </a:cubicBezTo>
              </a:path>
              <a:path w="22002" h="14214">
                <a:moveTo>
                  <a:pt x="22820" y="11509"/>
                </a:moveTo>
                <a:cubicBezTo>
                  <a:pt x="22870" y="11593"/>
                  <a:pt x="22833" y="11645"/>
                  <a:pt x="22771" y="11708"/>
                </a:cubicBezTo>
              </a:path>
              <a:path w="22002" h="14214">
                <a:moveTo>
                  <a:pt x="20935" y="12154"/>
                </a:moveTo>
                <a:cubicBezTo>
                  <a:pt x="21086" y="12110"/>
                  <a:pt x="21227" y="12081"/>
                  <a:pt x="21382" y="12055"/>
                </a:cubicBezTo>
              </a:path>
              <a:path w="22002" h="14214">
                <a:moveTo>
                  <a:pt x="1042" y="13915"/>
                </a:moveTo>
                <a:cubicBezTo>
                  <a:pt x="1013" y="13831"/>
                  <a:pt x="1017" y="13974"/>
                  <a:pt x="1017" y="13990"/>
                </a:cubicBezTo>
                <a:cubicBezTo>
                  <a:pt x="1017" y="14188"/>
                  <a:pt x="1017" y="14387"/>
                  <a:pt x="1017" y="14585"/>
                </a:cubicBezTo>
                <a:cubicBezTo>
                  <a:pt x="993" y="14369"/>
                  <a:pt x="969" y="14178"/>
                  <a:pt x="1042" y="13965"/>
                </a:cubicBezTo>
                <a:cubicBezTo>
                  <a:pt x="1125" y="13800"/>
                  <a:pt x="1125" y="13751"/>
                  <a:pt x="1240" y="13717"/>
                </a:cubicBezTo>
                <a:cubicBezTo>
                  <a:pt x="1233" y="13843"/>
                  <a:pt x="1251" y="14033"/>
                  <a:pt x="1166" y="14139"/>
                </a:cubicBezTo>
                <a:cubicBezTo>
                  <a:pt x="1121" y="14196"/>
                  <a:pt x="1272" y="14111"/>
                  <a:pt x="1339" y="14139"/>
                </a:cubicBezTo>
                <a:cubicBezTo>
                  <a:pt x="1309" y="14290"/>
                  <a:pt x="1232" y="14638"/>
                  <a:pt x="992" y="14585"/>
                </a:cubicBezTo>
                <a:cubicBezTo>
                  <a:pt x="970" y="14542"/>
                  <a:pt x="966" y="14531"/>
                  <a:pt x="943" y="14511"/>
                </a:cubicBezTo>
              </a:path>
              <a:path w="22002" h="14214">
                <a:moveTo>
                  <a:pt x="1687" y="13866"/>
                </a:moveTo>
                <a:cubicBezTo>
                  <a:pt x="1699" y="13902"/>
                  <a:pt x="1700" y="13902"/>
                  <a:pt x="1712" y="13866"/>
                </a:cubicBezTo>
                <a:cubicBezTo>
                  <a:pt x="1574" y="13728"/>
                  <a:pt x="1537" y="13963"/>
                  <a:pt x="1513" y="14114"/>
                </a:cubicBezTo>
                <a:cubicBezTo>
                  <a:pt x="1472" y="14377"/>
                  <a:pt x="1667" y="14513"/>
                  <a:pt x="1885" y="14337"/>
                </a:cubicBezTo>
                <a:cubicBezTo>
                  <a:pt x="1885" y="14321"/>
                  <a:pt x="1885" y="14304"/>
                  <a:pt x="1885" y="14288"/>
                </a:cubicBezTo>
              </a:path>
              <a:path w="22002" h="14214">
                <a:moveTo>
                  <a:pt x="1017" y="13469"/>
                </a:moveTo>
                <a:cubicBezTo>
                  <a:pt x="1233" y="13486"/>
                  <a:pt x="1398" y="13448"/>
                  <a:pt x="1612" y="13419"/>
                </a:cubicBezTo>
                <a:cubicBezTo>
                  <a:pt x="1629" y="13419"/>
                  <a:pt x="1645" y="13419"/>
                  <a:pt x="1662" y="13419"/>
                </a:cubicBezTo>
              </a:path>
              <a:path w="22002" h="14214">
                <a:moveTo>
                  <a:pt x="2158" y="14114"/>
                </a:moveTo>
                <a:cubicBezTo>
                  <a:pt x="2206" y="14098"/>
                  <a:pt x="2460" y="14018"/>
                  <a:pt x="2456" y="14064"/>
                </a:cubicBezTo>
                <a:cubicBezTo>
                  <a:pt x="2448" y="14081"/>
                  <a:pt x="2439" y="14097"/>
                  <a:pt x="2431" y="14114"/>
                </a:cubicBezTo>
              </a:path>
              <a:path w="22002" h="14214">
                <a:moveTo>
                  <a:pt x="2158" y="14312"/>
                </a:moveTo>
                <a:cubicBezTo>
                  <a:pt x="2268" y="14296"/>
                  <a:pt x="2373" y="14286"/>
                  <a:pt x="2480" y="14263"/>
                </a:cubicBezTo>
              </a:path>
              <a:path w="22002" h="14214">
                <a:moveTo>
                  <a:pt x="5011" y="13519"/>
                </a:moveTo>
                <a:cubicBezTo>
                  <a:pt x="5173" y="13731"/>
                  <a:pt x="5284" y="13959"/>
                  <a:pt x="5209" y="14238"/>
                </a:cubicBezTo>
                <a:cubicBezTo>
                  <a:pt x="5148" y="14341"/>
                  <a:pt x="5140" y="14365"/>
                  <a:pt x="5085" y="14412"/>
                </a:cubicBezTo>
              </a:path>
              <a:path w="22002" h="14214">
                <a:moveTo>
                  <a:pt x="5953" y="13494"/>
                </a:moveTo>
                <a:cubicBezTo>
                  <a:pt x="5853" y="13728"/>
                  <a:pt x="5714" y="13985"/>
                  <a:pt x="5854" y="14238"/>
                </a:cubicBezTo>
                <a:cubicBezTo>
                  <a:pt x="5915" y="14299"/>
                  <a:pt x="5922" y="14324"/>
                  <a:pt x="5978" y="14312"/>
                </a:cubicBezTo>
              </a:path>
              <a:path w="22002" h="14214">
                <a:moveTo>
                  <a:pt x="8930" y="13643"/>
                </a:moveTo>
                <a:cubicBezTo>
                  <a:pt x="9203" y="13571"/>
                  <a:pt x="9442" y="13528"/>
                  <a:pt x="9723" y="13519"/>
                </a:cubicBezTo>
              </a:path>
              <a:path w="22002" h="14214">
                <a:moveTo>
                  <a:pt x="8632" y="13767"/>
                </a:moveTo>
                <a:cubicBezTo>
                  <a:pt x="8733" y="13758"/>
                  <a:pt x="8828" y="13747"/>
                  <a:pt x="8930" y="13742"/>
                </a:cubicBezTo>
              </a:path>
              <a:path w="22002" h="14214">
                <a:moveTo>
                  <a:pt x="1315" y="15354"/>
                </a:moveTo>
                <a:cubicBezTo>
                  <a:pt x="1290" y="15354"/>
                  <a:pt x="1282" y="15354"/>
                  <a:pt x="1290" y="15329"/>
                </a:cubicBezTo>
                <a:cubicBezTo>
                  <a:pt x="1282" y="15362"/>
                  <a:pt x="1248" y="15387"/>
                  <a:pt x="1240" y="15379"/>
                </a:cubicBezTo>
                <a:cubicBezTo>
                  <a:pt x="1240" y="15371"/>
                  <a:pt x="1240" y="15362"/>
                  <a:pt x="1240" y="15354"/>
                </a:cubicBezTo>
              </a:path>
              <a:path w="22002" h="14214">
                <a:moveTo>
                  <a:pt x="1215" y="15354"/>
                </a:moveTo>
                <a:lnTo>
                  <a:pt x="1215" y="15354"/>
                </a:lnTo>
              </a:path>
              <a:path w="22002" h="14214">
                <a:moveTo>
                  <a:pt x="5804" y="15478"/>
                </a:moveTo>
                <a:cubicBezTo>
                  <a:pt x="5782" y="15585"/>
                  <a:pt x="5774" y="15609"/>
                  <a:pt x="5779" y="1567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125360" y="4714920"/>
            <a:ext cx="696960" cy="554040"/>
          </a:xfrm>
          <a:custGeom>
            <a:avLst/>
            <a:gdLst/>
            <a:ahLst/>
            <a:rect l="l" t="t" r="r" b="b"/>
            <a:pathLst>
              <a:path w="1936" h="1539">
                <a:moveTo>
                  <a:pt x="3448" y="13469"/>
                </a:moveTo>
                <a:cubicBezTo>
                  <a:pt x="3347" y="13670"/>
                  <a:pt x="3173" y="13843"/>
                  <a:pt x="3125" y="14089"/>
                </a:cubicBezTo>
                <a:cubicBezTo>
                  <a:pt x="3080" y="14322"/>
                  <a:pt x="3160" y="14441"/>
                  <a:pt x="3324" y="14560"/>
                </a:cubicBezTo>
                <a:cubicBezTo>
                  <a:pt x="3332" y="14568"/>
                  <a:pt x="3341" y="14577"/>
                  <a:pt x="3349" y="14585"/>
                </a:cubicBezTo>
              </a:path>
              <a:path w="1936" h="1539">
                <a:moveTo>
                  <a:pt x="3597" y="13791"/>
                </a:moveTo>
                <a:cubicBezTo>
                  <a:pt x="3580" y="13874"/>
                  <a:pt x="3554" y="13950"/>
                  <a:pt x="3547" y="14039"/>
                </a:cubicBezTo>
                <a:cubicBezTo>
                  <a:pt x="3652" y="14029"/>
                  <a:pt x="3747" y="14004"/>
                  <a:pt x="3845" y="13965"/>
                </a:cubicBezTo>
              </a:path>
              <a:path w="1936" h="1539">
                <a:moveTo>
                  <a:pt x="3770" y="13667"/>
                </a:moveTo>
                <a:cubicBezTo>
                  <a:pt x="3783" y="13844"/>
                  <a:pt x="3819" y="14034"/>
                  <a:pt x="3795" y="14213"/>
                </a:cubicBezTo>
                <a:cubicBezTo>
                  <a:pt x="3787" y="14238"/>
                  <a:pt x="3778" y="14263"/>
                  <a:pt x="3770" y="14288"/>
                </a:cubicBezTo>
              </a:path>
              <a:path w="1936" h="1539">
                <a:moveTo>
                  <a:pt x="4291" y="14039"/>
                </a:moveTo>
                <a:cubicBezTo>
                  <a:pt x="4377" y="14039"/>
                  <a:pt x="4454" y="14058"/>
                  <a:pt x="4539" y="14064"/>
                </a:cubicBezTo>
                <a:cubicBezTo>
                  <a:pt x="4547" y="14064"/>
                  <a:pt x="4556" y="14064"/>
                  <a:pt x="4564" y="14064"/>
                </a:cubicBezTo>
              </a:path>
              <a:path w="1936" h="1539">
                <a:moveTo>
                  <a:pt x="4738" y="13791"/>
                </a:moveTo>
                <a:cubicBezTo>
                  <a:pt x="4738" y="13877"/>
                  <a:pt x="4738" y="14218"/>
                  <a:pt x="4738" y="14213"/>
                </a:cubicBezTo>
              </a:path>
              <a:path w="1936" h="1539">
                <a:moveTo>
                  <a:pt x="4192" y="13692"/>
                </a:moveTo>
                <a:cubicBezTo>
                  <a:pt x="4264" y="13547"/>
                  <a:pt x="4238" y="13954"/>
                  <a:pt x="4217" y="14114"/>
                </a:cubicBezTo>
                <a:cubicBezTo>
                  <a:pt x="4202" y="14226"/>
                  <a:pt x="4064" y="14610"/>
                  <a:pt x="4192" y="14610"/>
                </a:cubicBezTo>
              </a:path>
              <a:path w="1936" h="1539">
                <a:moveTo>
                  <a:pt x="5060" y="13692"/>
                </a:moveTo>
                <a:cubicBezTo>
                  <a:pt x="5060" y="13877"/>
                  <a:pt x="5019" y="14032"/>
                  <a:pt x="4986" y="14213"/>
                </a:cubicBezTo>
                <a:cubicBezTo>
                  <a:pt x="4969" y="14306"/>
                  <a:pt x="4938" y="14433"/>
                  <a:pt x="4961" y="14511"/>
                </a:cubicBezTo>
              </a:path>
              <a:path w="1936" h="1539">
                <a:moveTo>
                  <a:pt x="4614" y="13097"/>
                </a:moveTo>
                <a:cubicBezTo>
                  <a:pt x="4594" y="13255"/>
                  <a:pt x="4556" y="13413"/>
                  <a:pt x="4514" y="1356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428920" y="3956040"/>
            <a:ext cx="295200" cy="1241280"/>
          </a:xfrm>
          <a:custGeom>
            <a:avLst/>
            <a:gdLst/>
            <a:ahLst/>
            <a:rect l="l" t="t" r="r" b="b"/>
            <a:pathLst>
              <a:path w="819" h="3449">
                <a:moveTo>
                  <a:pt x="7169" y="11088"/>
                </a:moveTo>
                <a:cubicBezTo>
                  <a:pt x="7169" y="11232"/>
                  <a:pt x="7118" y="11331"/>
                  <a:pt x="7069" y="11460"/>
                </a:cubicBezTo>
                <a:cubicBezTo>
                  <a:pt x="7069" y="11468"/>
                  <a:pt x="7069" y="11477"/>
                  <a:pt x="7069" y="11485"/>
                </a:cubicBezTo>
                <a:cubicBezTo>
                  <a:pt x="7177" y="11485"/>
                  <a:pt x="7284" y="11485"/>
                  <a:pt x="7392" y="11485"/>
                </a:cubicBezTo>
              </a:path>
              <a:path w="819" h="3449">
                <a:moveTo>
                  <a:pt x="7491" y="10988"/>
                </a:moveTo>
                <a:cubicBezTo>
                  <a:pt x="7422" y="11211"/>
                  <a:pt x="7428" y="11450"/>
                  <a:pt x="7392" y="11683"/>
                </a:cubicBezTo>
                <a:cubicBezTo>
                  <a:pt x="7374" y="11774"/>
                  <a:pt x="7365" y="11781"/>
                  <a:pt x="7367" y="11832"/>
                </a:cubicBezTo>
              </a:path>
              <a:path w="819" h="3449">
                <a:moveTo>
                  <a:pt x="6821" y="13494"/>
                </a:moveTo>
                <a:cubicBezTo>
                  <a:pt x="6751" y="13635"/>
                  <a:pt x="6766" y="13959"/>
                  <a:pt x="6772" y="14188"/>
                </a:cubicBezTo>
                <a:cubicBezTo>
                  <a:pt x="6775" y="14300"/>
                  <a:pt x="6733" y="14407"/>
                  <a:pt x="6821" y="14362"/>
                </a:cubicBezTo>
              </a:path>
              <a:path w="819" h="3449">
                <a:moveTo>
                  <a:pt x="7541" y="13568"/>
                </a:moveTo>
                <a:cubicBezTo>
                  <a:pt x="7563" y="13771"/>
                  <a:pt x="7549" y="13956"/>
                  <a:pt x="7541" y="14163"/>
                </a:cubicBezTo>
                <a:cubicBezTo>
                  <a:pt x="7541" y="14320"/>
                  <a:pt x="7541" y="14345"/>
                  <a:pt x="7541" y="14436"/>
                </a:cubicBezTo>
              </a:path>
              <a:path w="819" h="3449">
                <a:moveTo>
                  <a:pt x="6945" y="13022"/>
                </a:moveTo>
                <a:cubicBezTo>
                  <a:pt x="6978" y="13001"/>
                  <a:pt x="7252" y="12869"/>
                  <a:pt x="7169" y="13022"/>
                </a:cubicBezTo>
                <a:cubicBezTo>
                  <a:pt x="7103" y="13088"/>
                  <a:pt x="7086" y="13105"/>
                  <a:pt x="7045" y="13146"/>
                </a:cubicBezTo>
                <a:cubicBezTo>
                  <a:pt x="7104" y="13146"/>
                  <a:pt x="7123" y="13155"/>
                  <a:pt x="7193" y="13171"/>
                </a:cubicBezTo>
                <a:cubicBezTo>
                  <a:pt x="7164" y="13316"/>
                  <a:pt x="7088" y="13400"/>
                  <a:pt x="6921" y="13370"/>
                </a:cubicBezTo>
                <a:cubicBezTo>
                  <a:pt x="6921" y="13362"/>
                  <a:pt x="6921" y="13353"/>
                  <a:pt x="6921" y="1334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3313080" y="4680000"/>
            <a:ext cx="125280" cy="160200"/>
          </a:xfrm>
          <a:custGeom>
            <a:avLst/>
            <a:gdLst/>
            <a:ahLst/>
            <a:rect l="l" t="t" r="r" b="b"/>
            <a:pathLst>
              <a:path w="348" h="447">
                <a:moveTo>
                  <a:pt x="9252" y="13047"/>
                </a:moveTo>
                <a:cubicBezTo>
                  <a:pt x="9346" y="13034"/>
                  <a:pt x="9443" y="12974"/>
                  <a:pt x="9550" y="12998"/>
                </a:cubicBezTo>
                <a:cubicBezTo>
                  <a:pt x="9639" y="13018"/>
                  <a:pt x="9445" y="13137"/>
                  <a:pt x="9376" y="13196"/>
                </a:cubicBezTo>
                <a:cubicBezTo>
                  <a:pt x="9368" y="13204"/>
                  <a:pt x="9359" y="13213"/>
                  <a:pt x="9351" y="13221"/>
                </a:cubicBezTo>
                <a:cubicBezTo>
                  <a:pt x="9427" y="13221"/>
                  <a:pt x="9613" y="13224"/>
                  <a:pt x="9475" y="13345"/>
                </a:cubicBezTo>
                <a:cubicBezTo>
                  <a:pt x="9386" y="13423"/>
                  <a:pt x="9302" y="13427"/>
                  <a:pt x="9203" y="1341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688080" y="2581200"/>
            <a:ext cx="258840" cy="2187720"/>
          </a:xfrm>
          <a:custGeom>
            <a:avLst/>
            <a:gdLst/>
            <a:ahLst/>
            <a:rect l="l" t="t" r="r" b="b"/>
            <a:pathLst>
              <a:path w="720" h="6078">
                <a:moveTo>
                  <a:pt x="18579" y="7293"/>
                </a:moveTo>
                <a:cubicBezTo>
                  <a:pt x="18620" y="7268"/>
                  <a:pt x="18663" y="7213"/>
                  <a:pt x="18703" y="7169"/>
                </a:cubicBezTo>
                <a:cubicBezTo>
                  <a:pt x="18786" y="7252"/>
                  <a:pt x="18735" y="7443"/>
                  <a:pt x="18703" y="7565"/>
                </a:cubicBezTo>
                <a:cubicBezTo>
                  <a:pt x="18674" y="7673"/>
                  <a:pt x="18920" y="7376"/>
                  <a:pt x="19000" y="7317"/>
                </a:cubicBezTo>
                <a:cubicBezTo>
                  <a:pt x="19017" y="7309"/>
                  <a:pt x="19033" y="7301"/>
                  <a:pt x="19050" y="7293"/>
                </a:cubicBezTo>
              </a:path>
              <a:path w="720" h="6078">
                <a:moveTo>
                  <a:pt x="18678" y="13047"/>
                </a:moveTo>
                <a:cubicBezTo>
                  <a:pt x="18745" y="13020"/>
                  <a:pt x="18797" y="12953"/>
                  <a:pt x="18852" y="12898"/>
                </a:cubicBezTo>
              </a:path>
              <a:path w="720" h="6078">
                <a:moveTo>
                  <a:pt x="18926" y="12750"/>
                </a:moveTo>
                <a:cubicBezTo>
                  <a:pt x="18977" y="12742"/>
                  <a:pt x="19024" y="12731"/>
                  <a:pt x="19075" y="12725"/>
                </a:cubicBezTo>
                <a:cubicBezTo>
                  <a:pt x="19123" y="12897"/>
                  <a:pt x="19066" y="13031"/>
                  <a:pt x="19000" y="13196"/>
                </a:cubicBezTo>
                <a:cubicBezTo>
                  <a:pt x="18992" y="13213"/>
                  <a:pt x="18984" y="13229"/>
                  <a:pt x="18976" y="13246"/>
                </a:cubicBezTo>
                <a:cubicBezTo>
                  <a:pt x="19093" y="13186"/>
                  <a:pt x="19189" y="13076"/>
                  <a:pt x="19298" y="1299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7170840" y="3705120"/>
            <a:ext cx="455400" cy="696960"/>
          </a:xfrm>
          <a:custGeom>
            <a:avLst/>
            <a:gdLst/>
            <a:ahLst/>
            <a:rect l="l" t="t" r="r" b="b"/>
            <a:pathLst>
              <a:path w="1266" h="1936">
                <a:moveTo>
                  <a:pt x="20737" y="11584"/>
                </a:moveTo>
                <a:cubicBezTo>
                  <a:pt x="20762" y="11584"/>
                  <a:pt x="20770" y="11584"/>
                  <a:pt x="20762" y="11559"/>
                </a:cubicBezTo>
                <a:cubicBezTo>
                  <a:pt x="20695" y="11559"/>
                  <a:pt x="20658" y="11644"/>
                  <a:pt x="20638" y="11708"/>
                </a:cubicBezTo>
                <a:cubicBezTo>
                  <a:pt x="20592" y="11854"/>
                  <a:pt x="20805" y="11624"/>
                  <a:pt x="20811" y="11609"/>
                </a:cubicBezTo>
                <a:cubicBezTo>
                  <a:pt x="20862" y="11486"/>
                  <a:pt x="20744" y="11481"/>
                  <a:pt x="20687" y="11559"/>
                </a:cubicBezTo>
                <a:cubicBezTo>
                  <a:pt x="20646" y="11642"/>
                  <a:pt x="20622" y="11658"/>
                  <a:pt x="20662" y="11708"/>
                </a:cubicBezTo>
                <a:cubicBezTo>
                  <a:pt x="20701" y="11680"/>
                  <a:pt x="20841" y="11529"/>
                  <a:pt x="20737" y="11485"/>
                </a:cubicBezTo>
                <a:cubicBezTo>
                  <a:pt x="20657" y="11451"/>
                  <a:pt x="20624" y="11605"/>
                  <a:pt x="20662" y="11683"/>
                </a:cubicBezTo>
                <a:cubicBezTo>
                  <a:pt x="20727" y="11619"/>
                  <a:pt x="20800" y="11583"/>
                  <a:pt x="20687" y="11584"/>
                </a:cubicBezTo>
              </a:path>
              <a:path w="1266" h="1936">
                <a:moveTo>
                  <a:pt x="20712" y="11584"/>
                </a:moveTo>
                <a:cubicBezTo>
                  <a:pt x="20712" y="11545"/>
                  <a:pt x="20695" y="11559"/>
                  <a:pt x="20662" y="11559"/>
                </a:cubicBezTo>
              </a:path>
              <a:path w="1266" h="1936">
                <a:moveTo>
                  <a:pt x="20662" y="10344"/>
                </a:moveTo>
                <a:cubicBezTo>
                  <a:pt x="20729" y="10333"/>
                  <a:pt x="20794" y="10305"/>
                  <a:pt x="20861" y="10294"/>
                </a:cubicBezTo>
                <a:cubicBezTo>
                  <a:pt x="20873" y="10430"/>
                  <a:pt x="20796" y="10562"/>
                  <a:pt x="20687" y="10666"/>
                </a:cubicBezTo>
                <a:cubicBezTo>
                  <a:pt x="20647" y="10686"/>
                  <a:pt x="20631" y="10685"/>
                  <a:pt x="20638" y="10716"/>
                </a:cubicBezTo>
                <a:cubicBezTo>
                  <a:pt x="20763" y="10695"/>
                  <a:pt x="20859" y="10622"/>
                  <a:pt x="20985" y="10592"/>
                </a:cubicBezTo>
                <a:cubicBezTo>
                  <a:pt x="20993" y="10592"/>
                  <a:pt x="21002" y="10592"/>
                  <a:pt x="21010" y="10592"/>
                </a:cubicBezTo>
              </a:path>
              <a:path w="1266" h="1936">
                <a:moveTo>
                  <a:pt x="20042" y="10988"/>
                </a:moveTo>
                <a:cubicBezTo>
                  <a:pt x="19953" y="10988"/>
                  <a:pt x="19929" y="11103"/>
                  <a:pt x="19918" y="11187"/>
                </a:cubicBezTo>
                <a:cubicBezTo>
                  <a:pt x="19902" y="11312"/>
                  <a:pt x="19917" y="11573"/>
                  <a:pt x="20117" y="11509"/>
                </a:cubicBezTo>
                <a:cubicBezTo>
                  <a:pt x="20117" y="11501"/>
                  <a:pt x="20117" y="11493"/>
                  <a:pt x="20117" y="11485"/>
                </a:cubicBezTo>
              </a:path>
              <a:path w="1266" h="1936">
                <a:moveTo>
                  <a:pt x="20092" y="11088"/>
                </a:moveTo>
                <a:cubicBezTo>
                  <a:pt x="20155" y="11045"/>
                  <a:pt x="20167" y="11029"/>
                  <a:pt x="20216" y="11038"/>
                </a:cubicBezTo>
                <a:cubicBezTo>
                  <a:pt x="20280" y="11122"/>
                  <a:pt x="20192" y="11234"/>
                  <a:pt x="20141" y="11336"/>
                </a:cubicBezTo>
                <a:cubicBezTo>
                  <a:pt x="20120" y="11379"/>
                  <a:pt x="20107" y="11391"/>
                  <a:pt x="20141" y="11410"/>
                </a:cubicBezTo>
                <a:cubicBezTo>
                  <a:pt x="20223" y="11383"/>
                  <a:pt x="20278" y="11315"/>
                  <a:pt x="20365" y="11286"/>
                </a:cubicBezTo>
              </a:path>
              <a:path w="1266" h="1936">
                <a:moveTo>
                  <a:pt x="20489" y="11212"/>
                </a:moveTo>
                <a:cubicBezTo>
                  <a:pt x="20504" y="11309"/>
                  <a:pt x="20513" y="11388"/>
                  <a:pt x="20513" y="11485"/>
                </a:cubicBezTo>
              </a:path>
              <a:path w="1266" h="1936">
                <a:moveTo>
                  <a:pt x="20786" y="10914"/>
                </a:moveTo>
                <a:cubicBezTo>
                  <a:pt x="20856" y="10937"/>
                  <a:pt x="20855" y="11062"/>
                  <a:pt x="20861" y="11137"/>
                </a:cubicBezTo>
                <a:cubicBezTo>
                  <a:pt x="20861" y="11179"/>
                  <a:pt x="20861" y="11187"/>
                  <a:pt x="20861" y="11212"/>
                </a:cubicBezTo>
              </a:path>
              <a:path w="1266" h="1936">
                <a:moveTo>
                  <a:pt x="20910" y="10716"/>
                </a:moveTo>
                <a:cubicBezTo>
                  <a:pt x="21003" y="10769"/>
                  <a:pt x="21154" y="10919"/>
                  <a:pt x="21183" y="11038"/>
                </a:cubicBezTo>
                <a:cubicBezTo>
                  <a:pt x="21227" y="11219"/>
                  <a:pt x="21141" y="11337"/>
                  <a:pt x="21059" y="11460"/>
                </a:cubicBezTo>
                <a:cubicBezTo>
                  <a:pt x="21059" y="11468"/>
                  <a:pt x="21059" y="11477"/>
                  <a:pt x="21059" y="11485"/>
                </a:cubicBezTo>
              </a:path>
              <a:path w="1266" h="1936">
                <a:moveTo>
                  <a:pt x="20935" y="11906"/>
                </a:moveTo>
                <a:cubicBezTo>
                  <a:pt x="20914" y="12012"/>
                  <a:pt x="20863" y="12120"/>
                  <a:pt x="20836" y="12229"/>
                </a:cubicBezTo>
                <a:cubicBezTo>
                  <a:pt x="20825" y="12176"/>
                  <a:pt x="20890" y="11950"/>
                  <a:pt x="20935" y="11857"/>
                </a:cubicBezTo>
                <a:cubicBezTo>
                  <a:pt x="20943" y="11849"/>
                  <a:pt x="20952" y="11840"/>
                  <a:pt x="20960" y="11832"/>
                </a:cubicBezTo>
                <a:cubicBezTo>
                  <a:pt x="21067" y="11930"/>
                  <a:pt x="21139" y="12043"/>
                  <a:pt x="21109" y="12204"/>
                </a:cubicBezTo>
                <a:cubicBezTo>
                  <a:pt x="21101" y="12212"/>
                  <a:pt x="21092" y="12221"/>
                  <a:pt x="21084" y="1222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8018640" y="3741840"/>
            <a:ext cx="714240" cy="1768320"/>
          </a:xfrm>
          <a:custGeom>
            <a:avLst/>
            <a:gdLst/>
            <a:ahLst/>
            <a:rect l="l" t="t" r="r" b="b"/>
            <a:pathLst>
              <a:path w="1985" h="4912">
                <a:moveTo>
                  <a:pt x="22721" y="10393"/>
                </a:moveTo>
                <a:cubicBezTo>
                  <a:pt x="22667" y="10411"/>
                  <a:pt x="22660" y="10503"/>
                  <a:pt x="22647" y="10567"/>
                </a:cubicBezTo>
                <a:cubicBezTo>
                  <a:pt x="22753" y="10511"/>
                  <a:pt x="22859" y="10448"/>
                  <a:pt x="22969" y="10418"/>
                </a:cubicBezTo>
              </a:path>
              <a:path w="1985" h="4912">
                <a:moveTo>
                  <a:pt x="23068" y="11609"/>
                </a:moveTo>
                <a:cubicBezTo>
                  <a:pt x="22966" y="11570"/>
                  <a:pt x="22969" y="11578"/>
                  <a:pt x="22969" y="11683"/>
                </a:cubicBezTo>
                <a:cubicBezTo>
                  <a:pt x="22969" y="11700"/>
                  <a:pt x="22969" y="11716"/>
                  <a:pt x="22969" y="11733"/>
                </a:cubicBezTo>
                <a:cubicBezTo>
                  <a:pt x="23029" y="11725"/>
                  <a:pt x="23122" y="11697"/>
                  <a:pt x="23068" y="11609"/>
                </a:cubicBezTo>
                <a:cubicBezTo>
                  <a:pt x="23051" y="11581"/>
                  <a:pt x="22984" y="11624"/>
                  <a:pt x="22969" y="11633"/>
                </a:cubicBezTo>
                <a:cubicBezTo>
                  <a:pt x="22917" y="11720"/>
                  <a:pt x="22974" y="11752"/>
                  <a:pt x="23068" y="11708"/>
                </a:cubicBezTo>
                <a:cubicBezTo>
                  <a:pt x="23147" y="11671"/>
                  <a:pt x="23174" y="11552"/>
                  <a:pt x="23068" y="11559"/>
                </a:cubicBezTo>
                <a:cubicBezTo>
                  <a:pt x="23052" y="11567"/>
                  <a:pt x="23035" y="11576"/>
                  <a:pt x="23019" y="11584"/>
                </a:cubicBezTo>
                <a:cubicBezTo>
                  <a:pt x="22996" y="11627"/>
                  <a:pt x="22944" y="11824"/>
                  <a:pt x="23068" y="11708"/>
                </a:cubicBezTo>
                <a:cubicBezTo>
                  <a:pt x="23132" y="11649"/>
                  <a:pt x="23145" y="11542"/>
                  <a:pt x="23019" y="11584"/>
                </a:cubicBezTo>
                <a:cubicBezTo>
                  <a:pt x="22945" y="11609"/>
                  <a:pt x="22977" y="11734"/>
                  <a:pt x="23044" y="11683"/>
                </a:cubicBezTo>
                <a:cubicBezTo>
                  <a:pt x="23115" y="11629"/>
                  <a:pt x="23080" y="11444"/>
                  <a:pt x="23019" y="11559"/>
                </a:cubicBezTo>
                <a:cubicBezTo>
                  <a:pt x="23019" y="11609"/>
                  <a:pt x="23019" y="11625"/>
                  <a:pt x="23068" y="11609"/>
                </a:cubicBezTo>
              </a:path>
              <a:path w="1985" h="4912">
                <a:moveTo>
                  <a:pt x="22895" y="11584"/>
                </a:moveTo>
                <a:cubicBezTo>
                  <a:pt x="22895" y="11552"/>
                  <a:pt x="22894" y="11507"/>
                  <a:pt x="22845" y="11534"/>
                </a:cubicBezTo>
                <a:cubicBezTo>
                  <a:pt x="22817" y="11562"/>
                  <a:pt x="22808" y="11576"/>
                  <a:pt x="22820" y="11609"/>
                </a:cubicBezTo>
                <a:cubicBezTo>
                  <a:pt x="22859" y="11601"/>
                  <a:pt x="22952" y="11572"/>
                  <a:pt x="22944" y="11509"/>
                </a:cubicBezTo>
                <a:cubicBezTo>
                  <a:pt x="22938" y="11461"/>
                  <a:pt x="22872" y="11589"/>
                  <a:pt x="22870" y="11609"/>
                </a:cubicBezTo>
              </a:path>
              <a:path w="1985" h="4912">
                <a:moveTo>
                  <a:pt x="22374" y="11013"/>
                </a:moveTo>
                <a:cubicBezTo>
                  <a:pt x="22374" y="10975"/>
                  <a:pt x="22282" y="11247"/>
                  <a:pt x="22275" y="11286"/>
                </a:cubicBezTo>
                <a:cubicBezTo>
                  <a:pt x="22245" y="11443"/>
                  <a:pt x="22335" y="11410"/>
                  <a:pt x="22448" y="11410"/>
                </a:cubicBezTo>
              </a:path>
              <a:path w="1985" h="4912">
                <a:moveTo>
                  <a:pt x="22547" y="11137"/>
                </a:moveTo>
                <a:cubicBezTo>
                  <a:pt x="22528" y="11215"/>
                  <a:pt x="22537" y="11232"/>
                  <a:pt x="22498" y="11261"/>
                </a:cubicBezTo>
                <a:cubicBezTo>
                  <a:pt x="22562" y="11310"/>
                  <a:pt x="22599" y="11257"/>
                  <a:pt x="22671" y="11237"/>
                </a:cubicBezTo>
                <a:cubicBezTo>
                  <a:pt x="22679" y="11237"/>
                  <a:pt x="22688" y="11237"/>
                  <a:pt x="22696" y="11237"/>
                </a:cubicBezTo>
              </a:path>
              <a:path w="1985" h="4912">
                <a:moveTo>
                  <a:pt x="22696" y="11013"/>
                </a:moveTo>
                <a:cubicBezTo>
                  <a:pt x="22654" y="11151"/>
                  <a:pt x="22690" y="11289"/>
                  <a:pt x="22696" y="11435"/>
                </a:cubicBezTo>
                <a:cubicBezTo>
                  <a:pt x="22696" y="11460"/>
                  <a:pt x="22696" y="11468"/>
                  <a:pt x="22696" y="11485"/>
                </a:cubicBezTo>
              </a:path>
              <a:path w="1985" h="4912">
                <a:moveTo>
                  <a:pt x="22969" y="11286"/>
                </a:moveTo>
                <a:cubicBezTo>
                  <a:pt x="23024" y="11286"/>
                  <a:pt x="23063" y="11265"/>
                  <a:pt x="23118" y="11261"/>
                </a:cubicBezTo>
                <a:cubicBezTo>
                  <a:pt x="23126" y="11261"/>
                  <a:pt x="23135" y="11261"/>
                  <a:pt x="23143" y="11261"/>
                </a:cubicBezTo>
              </a:path>
              <a:path w="1985" h="4912">
                <a:moveTo>
                  <a:pt x="23366" y="11013"/>
                </a:moveTo>
                <a:cubicBezTo>
                  <a:pt x="23366" y="11129"/>
                  <a:pt x="23366" y="11245"/>
                  <a:pt x="23366" y="11361"/>
                </a:cubicBezTo>
              </a:path>
              <a:path w="1985" h="4912">
                <a:moveTo>
                  <a:pt x="23515" y="10889"/>
                </a:moveTo>
                <a:cubicBezTo>
                  <a:pt x="23515" y="11021"/>
                  <a:pt x="23557" y="11158"/>
                  <a:pt x="23589" y="11286"/>
                </a:cubicBezTo>
                <a:cubicBezTo>
                  <a:pt x="23611" y="11351"/>
                  <a:pt x="23619" y="11366"/>
                  <a:pt x="23614" y="11410"/>
                </a:cubicBezTo>
              </a:path>
              <a:path w="1985" h="4912">
                <a:moveTo>
                  <a:pt x="22994" y="11559"/>
                </a:moveTo>
                <a:cubicBezTo>
                  <a:pt x="23016" y="11526"/>
                  <a:pt x="23044" y="11468"/>
                  <a:pt x="23044" y="11509"/>
                </a:cubicBezTo>
                <a:cubicBezTo>
                  <a:pt x="23044" y="11551"/>
                  <a:pt x="23044" y="11559"/>
                  <a:pt x="23044" y="11584"/>
                </a:cubicBezTo>
              </a:path>
              <a:path w="1985" h="4912">
                <a:moveTo>
                  <a:pt x="23589" y="10988"/>
                </a:moveTo>
                <a:cubicBezTo>
                  <a:pt x="23562" y="10955"/>
                  <a:pt x="23541" y="10922"/>
                  <a:pt x="23515" y="10889"/>
                </a:cubicBezTo>
                <a:cubicBezTo>
                  <a:pt x="23554" y="10989"/>
                  <a:pt x="23612" y="11068"/>
                  <a:pt x="23639" y="11187"/>
                </a:cubicBezTo>
                <a:cubicBezTo>
                  <a:pt x="23681" y="11371"/>
                  <a:pt x="23631" y="11430"/>
                  <a:pt x="23540" y="11534"/>
                </a:cubicBezTo>
                <a:cubicBezTo>
                  <a:pt x="23514" y="11563"/>
                  <a:pt x="23515" y="11567"/>
                  <a:pt x="23515" y="11509"/>
                </a:cubicBezTo>
              </a:path>
              <a:path w="1985" h="4912">
                <a:moveTo>
                  <a:pt x="22944" y="14486"/>
                </a:moveTo>
                <a:cubicBezTo>
                  <a:pt x="22971" y="14539"/>
                  <a:pt x="22981" y="14458"/>
                  <a:pt x="22969" y="14436"/>
                </a:cubicBezTo>
                <a:cubicBezTo>
                  <a:pt x="22949" y="14400"/>
                  <a:pt x="22874" y="14374"/>
                  <a:pt x="22870" y="14436"/>
                </a:cubicBezTo>
                <a:cubicBezTo>
                  <a:pt x="22861" y="14568"/>
                  <a:pt x="22971" y="14527"/>
                  <a:pt x="23019" y="14461"/>
                </a:cubicBezTo>
                <a:cubicBezTo>
                  <a:pt x="23089" y="14364"/>
                  <a:pt x="23070" y="14352"/>
                  <a:pt x="22994" y="14288"/>
                </a:cubicBezTo>
                <a:cubicBezTo>
                  <a:pt x="22943" y="14325"/>
                  <a:pt x="22804" y="14471"/>
                  <a:pt x="22920" y="14536"/>
                </a:cubicBezTo>
                <a:cubicBezTo>
                  <a:pt x="23026" y="14595"/>
                  <a:pt x="23085" y="14417"/>
                  <a:pt x="23118" y="14362"/>
                </a:cubicBezTo>
                <a:cubicBezTo>
                  <a:pt x="23083" y="14156"/>
                  <a:pt x="22957" y="14327"/>
                  <a:pt x="22895" y="14461"/>
                </a:cubicBezTo>
                <a:cubicBezTo>
                  <a:pt x="22852" y="14555"/>
                  <a:pt x="23009" y="14507"/>
                  <a:pt x="23044" y="14436"/>
                </a:cubicBezTo>
                <a:cubicBezTo>
                  <a:pt x="23137" y="14249"/>
                  <a:pt x="22956" y="14409"/>
                  <a:pt x="22920" y="14461"/>
                </a:cubicBezTo>
                <a:cubicBezTo>
                  <a:pt x="22955" y="14585"/>
                  <a:pt x="23076" y="14522"/>
                  <a:pt x="23118" y="14412"/>
                </a:cubicBezTo>
                <a:cubicBezTo>
                  <a:pt x="23179" y="14255"/>
                  <a:pt x="22959" y="14381"/>
                  <a:pt x="22944" y="14461"/>
                </a:cubicBezTo>
                <a:cubicBezTo>
                  <a:pt x="22929" y="14541"/>
                  <a:pt x="23019" y="14521"/>
                  <a:pt x="23044" y="14511"/>
                </a:cubicBezTo>
              </a:path>
              <a:path w="1985" h="4912">
                <a:moveTo>
                  <a:pt x="22994" y="14486"/>
                </a:moveTo>
                <a:cubicBezTo>
                  <a:pt x="22994" y="14458"/>
                  <a:pt x="22982" y="14377"/>
                  <a:pt x="22969" y="14362"/>
                </a:cubicBezTo>
                <a:cubicBezTo>
                  <a:pt x="22933" y="14321"/>
                  <a:pt x="22944" y="14358"/>
                  <a:pt x="22944" y="14412"/>
                </a:cubicBezTo>
                <a:cubicBezTo>
                  <a:pt x="22944" y="14517"/>
                  <a:pt x="23036" y="14354"/>
                  <a:pt x="23044" y="14337"/>
                </a:cubicBezTo>
                <a:cubicBezTo>
                  <a:pt x="23027" y="14237"/>
                  <a:pt x="22941" y="14286"/>
                  <a:pt x="22870" y="14337"/>
                </a:cubicBezTo>
                <a:cubicBezTo>
                  <a:pt x="22804" y="14385"/>
                  <a:pt x="22853" y="14454"/>
                  <a:pt x="22870" y="14511"/>
                </a:cubicBezTo>
                <a:cubicBezTo>
                  <a:pt x="22971" y="14498"/>
                  <a:pt x="23015" y="14452"/>
                  <a:pt x="22994" y="14337"/>
                </a:cubicBezTo>
                <a:cubicBezTo>
                  <a:pt x="22976" y="14238"/>
                  <a:pt x="22861" y="14294"/>
                  <a:pt x="22845" y="14362"/>
                </a:cubicBezTo>
                <a:cubicBezTo>
                  <a:pt x="22819" y="14474"/>
                  <a:pt x="22912" y="14543"/>
                  <a:pt x="22994" y="14436"/>
                </a:cubicBezTo>
                <a:cubicBezTo>
                  <a:pt x="23002" y="14411"/>
                  <a:pt x="23011" y="14387"/>
                  <a:pt x="23019" y="14362"/>
                </a:cubicBezTo>
                <a:cubicBezTo>
                  <a:pt x="23013" y="14328"/>
                  <a:pt x="22943" y="14253"/>
                  <a:pt x="22920" y="14337"/>
                </a:cubicBezTo>
                <a:cubicBezTo>
                  <a:pt x="22907" y="14385"/>
                  <a:pt x="22941" y="14476"/>
                  <a:pt x="22969" y="14436"/>
                </a:cubicBezTo>
                <a:cubicBezTo>
                  <a:pt x="22986" y="14403"/>
                  <a:pt x="23002" y="14370"/>
                  <a:pt x="23019" y="14337"/>
                </a:cubicBezTo>
                <a:cubicBezTo>
                  <a:pt x="23005" y="14296"/>
                  <a:pt x="22894" y="14235"/>
                  <a:pt x="22895" y="14337"/>
                </a:cubicBezTo>
                <a:cubicBezTo>
                  <a:pt x="22895" y="14362"/>
                  <a:pt x="22936" y="14339"/>
                  <a:pt x="22944" y="14362"/>
                </a:cubicBezTo>
              </a:path>
              <a:path w="1985" h="4912">
                <a:moveTo>
                  <a:pt x="23490" y="14957"/>
                </a:moveTo>
                <a:cubicBezTo>
                  <a:pt x="23514" y="14916"/>
                  <a:pt x="23583" y="14844"/>
                  <a:pt x="23639" y="14833"/>
                </a:cubicBezTo>
                <a:cubicBezTo>
                  <a:pt x="23647" y="14833"/>
                  <a:pt x="23656" y="14833"/>
                  <a:pt x="23664" y="14833"/>
                </a:cubicBezTo>
              </a:path>
              <a:path w="1985" h="4912">
                <a:moveTo>
                  <a:pt x="23788" y="14486"/>
                </a:moveTo>
                <a:cubicBezTo>
                  <a:pt x="23771" y="14454"/>
                  <a:pt x="23807" y="14446"/>
                  <a:pt x="23862" y="14412"/>
                </a:cubicBezTo>
                <a:cubicBezTo>
                  <a:pt x="23911" y="14572"/>
                  <a:pt x="23860" y="14603"/>
                  <a:pt x="23788" y="14734"/>
                </a:cubicBezTo>
                <a:cubicBezTo>
                  <a:pt x="23788" y="14742"/>
                  <a:pt x="23788" y="14751"/>
                  <a:pt x="23788" y="14759"/>
                </a:cubicBezTo>
                <a:cubicBezTo>
                  <a:pt x="23824" y="14685"/>
                  <a:pt x="23971" y="14642"/>
                  <a:pt x="24036" y="14734"/>
                </a:cubicBezTo>
                <a:cubicBezTo>
                  <a:pt x="24105" y="14832"/>
                  <a:pt x="23931" y="14981"/>
                  <a:pt x="23862" y="15007"/>
                </a:cubicBezTo>
                <a:cubicBezTo>
                  <a:pt x="23837" y="15007"/>
                  <a:pt x="23829" y="15007"/>
                  <a:pt x="23837" y="14982"/>
                </a:cubicBezTo>
              </a:path>
              <a:path w="1985" h="4912">
                <a:moveTo>
                  <a:pt x="23837" y="14163"/>
                </a:moveTo>
                <a:cubicBezTo>
                  <a:pt x="24061" y="14205"/>
                  <a:pt x="24171" y="14352"/>
                  <a:pt x="24234" y="14585"/>
                </a:cubicBezTo>
                <a:cubicBezTo>
                  <a:pt x="24314" y="14880"/>
                  <a:pt x="24126" y="15056"/>
                  <a:pt x="23986" y="15280"/>
                </a:cubicBezTo>
                <a:cubicBezTo>
                  <a:pt x="23986" y="15288"/>
                  <a:pt x="23986" y="15296"/>
                  <a:pt x="23986" y="15304"/>
                </a:cubicBezTo>
              </a:path>
              <a:path w="1985" h="4912">
                <a:moveTo>
                  <a:pt x="22523" y="12105"/>
                </a:moveTo>
                <a:cubicBezTo>
                  <a:pt x="22543" y="12178"/>
                  <a:pt x="22527" y="12302"/>
                  <a:pt x="22498" y="12378"/>
                </a:cubicBezTo>
                <a:cubicBezTo>
                  <a:pt x="22498" y="12223"/>
                  <a:pt x="22485" y="12084"/>
                  <a:pt x="22647" y="12005"/>
                </a:cubicBezTo>
                <a:cubicBezTo>
                  <a:pt x="22672" y="12005"/>
                  <a:pt x="22696" y="12005"/>
                  <a:pt x="22721" y="12005"/>
                </a:cubicBezTo>
                <a:cubicBezTo>
                  <a:pt x="22721" y="12117"/>
                  <a:pt x="22682" y="12155"/>
                  <a:pt x="22696" y="12154"/>
                </a:cubicBezTo>
                <a:cubicBezTo>
                  <a:pt x="22862" y="12144"/>
                  <a:pt x="22845" y="12318"/>
                  <a:pt x="22696" y="12353"/>
                </a:cubicBezTo>
                <a:cubicBezTo>
                  <a:pt x="22590" y="12353"/>
                  <a:pt x="22561" y="12366"/>
                  <a:pt x="22523" y="1230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830240" y="3751200"/>
            <a:ext cx="6599520" cy="1812960"/>
          </a:xfrm>
          <a:custGeom>
            <a:avLst/>
            <a:gdLst/>
            <a:ahLst/>
            <a:rect l="l" t="t" r="r" b="b"/>
            <a:pathLst>
              <a:path w="18332" h="5036">
                <a:moveTo>
                  <a:pt x="23416" y="15255"/>
                </a:moveTo>
                <a:cubicBezTo>
                  <a:pt x="23395" y="15411"/>
                  <a:pt x="23410" y="15392"/>
                  <a:pt x="23267" y="15453"/>
                </a:cubicBezTo>
              </a:path>
              <a:path w="18332" h="5036">
                <a:moveTo>
                  <a:pt x="5085" y="10418"/>
                </a:moveTo>
                <a:lnTo>
                  <a:pt x="5085" y="10418"/>
                </a:lnTo>
              </a:path>
              <a:path w="18332" h="5036">
                <a:moveTo>
                  <a:pt x="7764" y="12750"/>
                </a:moveTo>
                <a:cubicBezTo>
                  <a:pt x="7759" y="12825"/>
                  <a:pt x="7751" y="12877"/>
                  <a:pt x="7739" y="12948"/>
                </a:cubicBezTo>
              </a:path>
              <a:path w="18332" h="5036">
                <a:moveTo>
                  <a:pt x="7938" y="12477"/>
                </a:moveTo>
                <a:cubicBezTo>
                  <a:pt x="7996" y="12460"/>
                  <a:pt x="8051" y="12439"/>
                  <a:pt x="8111" y="1242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92040" y="4313160"/>
            <a:ext cx="590760" cy="285840"/>
          </a:xfrm>
          <a:custGeom>
            <a:avLst/>
            <a:gdLst/>
            <a:ahLst/>
            <a:rect l="l" t="t" r="r" b="b"/>
            <a:pathLst>
              <a:path w="1639" h="794">
                <a:moveTo>
                  <a:pt x="1166" y="11981"/>
                </a:moveTo>
                <a:cubicBezTo>
                  <a:pt x="1115" y="11981"/>
                  <a:pt x="1215" y="11998"/>
                  <a:pt x="1265" y="12005"/>
                </a:cubicBezTo>
                <a:cubicBezTo>
                  <a:pt x="1364" y="12019"/>
                  <a:pt x="1465" y="12038"/>
                  <a:pt x="1563" y="12055"/>
                </a:cubicBezTo>
                <a:cubicBezTo>
                  <a:pt x="1674" y="12074"/>
                  <a:pt x="1772" y="12080"/>
                  <a:pt x="1885" y="12080"/>
                </a:cubicBezTo>
                <a:cubicBezTo>
                  <a:pt x="1951" y="12080"/>
                  <a:pt x="2018" y="12080"/>
                  <a:pt x="2084" y="12080"/>
                </a:cubicBezTo>
              </a:path>
              <a:path w="1639" h="794">
                <a:moveTo>
                  <a:pt x="1240" y="12278"/>
                </a:moveTo>
                <a:cubicBezTo>
                  <a:pt x="1216" y="12349"/>
                  <a:pt x="1169" y="12500"/>
                  <a:pt x="1141" y="12601"/>
                </a:cubicBezTo>
                <a:cubicBezTo>
                  <a:pt x="1123" y="12667"/>
                  <a:pt x="1091" y="12819"/>
                  <a:pt x="1091" y="12750"/>
                </a:cubicBezTo>
                <a:cubicBezTo>
                  <a:pt x="1153" y="12625"/>
                  <a:pt x="1266" y="12504"/>
                  <a:pt x="1315" y="12378"/>
                </a:cubicBezTo>
                <a:cubicBezTo>
                  <a:pt x="1343" y="12306"/>
                  <a:pt x="1303" y="12349"/>
                  <a:pt x="1364" y="12303"/>
                </a:cubicBezTo>
                <a:cubicBezTo>
                  <a:pt x="1446" y="12344"/>
                  <a:pt x="1448" y="12486"/>
                  <a:pt x="1439" y="12576"/>
                </a:cubicBezTo>
                <a:cubicBezTo>
                  <a:pt x="1432" y="12641"/>
                  <a:pt x="1401" y="12690"/>
                  <a:pt x="1389" y="12750"/>
                </a:cubicBezTo>
              </a:path>
              <a:path w="1639" h="794">
                <a:moveTo>
                  <a:pt x="1240" y="12576"/>
                </a:moveTo>
                <a:cubicBezTo>
                  <a:pt x="1331" y="12576"/>
                  <a:pt x="1422" y="12576"/>
                  <a:pt x="1513" y="12576"/>
                </a:cubicBezTo>
              </a:path>
              <a:path w="1639" h="794">
                <a:moveTo>
                  <a:pt x="1836" y="12477"/>
                </a:moveTo>
                <a:cubicBezTo>
                  <a:pt x="1836" y="12557"/>
                  <a:pt x="1803" y="12624"/>
                  <a:pt x="1786" y="12700"/>
                </a:cubicBezTo>
                <a:cubicBezTo>
                  <a:pt x="1786" y="12708"/>
                  <a:pt x="1786" y="12717"/>
                  <a:pt x="1786" y="12725"/>
                </a:cubicBezTo>
              </a:path>
              <a:path w="1639" h="794">
                <a:moveTo>
                  <a:pt x="1662" y="12378"/>
                </a:moveTo>
                <a:cubicBezTo>
                  <a:pt x="1742" y="12356"/>
                  <a:pt x="1964" y="12264"/>
                  <a:pt x="2034" y="12353"/>
                </a:cubicBezTo>
                <a:cubicBezTo>
                  <a:pt x="2082" y="12415"/>
                  <a:pt x="1958" y="12484"/>
                  <a:pt x="1935" y="12502"/>
                </a:cubicBezTo>
                <a:cubicBezTo>
                  <a:pt x="1927" y="12502"/>
                  <a:pt x="1918" y="12502"/>
                  <a:pt x="1910" y="12502"/>
                </a:cubicBezTo>
                <a:cubicBezTo>
                  <a:pt x="2029" y="12502"/>
                  <a:pt x="2088" y="12495"/>
                  <a:pt x="2183" y="12551"/>
                </a:cubicBezTo>
                <a:cubicBezTo>
                  <a:pt x="2196" y="12711"/>
                  <a:pt x="2087" y="12774"/>
                  <a:pt x="1910" y="12774"/>
                </a:cubicBezTo>
                <a:cubicBezTo>
                  <a:pt x="1885" y="12766"/>
                  <a:pt x="1861" y="12758"/>
                  <a:pt x="1836" y="12750"/>
                </a:cubicBezTo>
              </a:path>
              <a:path w="1639" h="794">
                <a:moveTo>
                  <a:pt x="2530" y="12402"/>
                </a:moveTo>
                <a:cubicBezTo>
                  <a:pt x="2572" y="12416"/>
                  <a:pt x="2583" y="12414"/>
                  <a:pt x="2654" y="12402"/>
                </a:cubicBezTo>
              </a:path>
              <a:path w="1639" h="794">
                <a:moveTo>
                  <a:pt x="2580" y="12551"/>
                </a:moveTo>
                <a:cubicBezTo>
                  <a:pt x="2629" y="12581"/>
                  <a:pt x="2667" y="12576"/>
                  <a:pt x="2729" y="1257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1411200" y="4303800"/>
            <a:ext cx="758880" cy="349200"/>
          </a:xfrm>
          <a:custGeom>
            <a:avLst/>
            <a:gdLst/>
            <a:ahLst/>
            <a:rect l="l" t="t" r="r" b="b"/>
            <a:pathLst>
              <a:path w="2110" h="968">
                <a:moveTo>
                  <a:pt x="4192" y="12055"/>
                </a:moveTo>
                <a:cubicBezTo>
                  <a:pt x="4127" y="12039"/>
                  <a:pt x="4011" y="12191"/>
                  <a:pt x="3969" y="12278"/>
                </a:cubicBezTo>
                <a:cubicBezTo>
                  <a:pt x="3923" y="12374"/>
                  <a:pt x="3871" y="12568"/>
                  <a:pt x="3969" y="12650"/>
                </a:cubicBezTo>
                <a:cubicBezTo>
                  <a:pt x="3994" y="12671"/>
                  <a:pt x="3995" y="12691"/>
                  <a:pt x="4018" y="12725"/>
                </a:cubicBezTo>
                <a:cubicBezTo>
                  <a:pt x="4026" y="12733"/>
                  <a:pt x="4035" y="12742"/>
                  <a:pt x="4043" y="12750"/>
                </a:cubicBezTo>
              </a:path>
              <a:path w="2110" h="968">
                <a:moveTo>
                  <a:pt x="5804" y="12105"/>
                </a:moveTo>
                <a:cubicBezTo>
                  <a:pt x="5862" y="12218"/>
                  <a:pt x="6012" y="12305"/>
                  <a:pt x="6028" y="12452"/>
                </a:cubicBezTo>
                <a:cubicBezTo>
                  <a:pt x="6042" y="12580"/>
                  <a:pt x="5924" y="12702"/>
                  <a:pt x="5829" y="12750"/>
                </a:cubicBezTo>
              </a:path>
              <a:path w="2110" h="968">
                <a:moveTo>
                  <a:pt x="4390" y="12179"/>
                </a:moveTo>
                <a:cubicBezTo>
                  <a:pt x="4295" y="12146"/>
                  <a:pt x="4465" y="12110"/>
                  <a:pt x="4490" y="12105"/>
                </a:cubicBezTo>
                <a:cubicBezTo>
                  <a:pt x="4588" y="12245"/>
                  <a:pt x="4577" y="12352"/>
                  <a:pt x="4415" y="12452"/>
                </a:cubicBezTo>
                <a:cubicBezTo>
                  <a:pt x="4335" y="12501"/>
                  <a:pt x="4185" y="12559"/>
                  <a:pt x="4167" y="12452"/>
                </a:cubicBezTo>
                <a:cubicBezTo>
                  <a:pt x="4292" y="12385"/>
                  <a:pt x="4385" y="12338"/>
                  <a:pt x="4514" y="12427"/>
                </a:cubicBezTo>
                <a:cubicBezTo>
                  <a:pt x="4579" y="12472"/>
                  <a:pt x="4564" y="12510"/>
                  <a:pt x="4564" y="12576"/>
                </a:cubicBezTo>
              </a:path>
              <a:path w="2110" h="968">
                <a:moveTo>
                  <a:pt x="4812" y="12551"/>
                </a:moveTo>
                <a:cubicBezTo>
                  <a:pt x="4812" y="12666"/>
                  <a:pt x="4796" y="12722"/>
                  <a:pt x="4762" y="12824"/>
                </a:cubicBezTo>
                <a:cubicBezTo>
                  <a:pt x="4762" y="12849"/>
                  <a:pt x="4762" y="12857"/>
                  <a:pt x="4762" y="12824"/>
                </a:cubicBezTo>
              </a:path>
              <a:path w="2110" h="968">
                <a:moveTo>
                  <a:pt x="5085" y="12402"/>
                </a:moveTo>
                <a:cubicBezTo>
                  <a:pt x="5160" y="12402"/>
                  <a:pt x="5220" y="12411"/>
                  <a:pt x="5283" y="12427"/>
                </a:cubicBezTo>
              </a:path>
              <a:path w="2110" h="968">
                <a:moveTo>
                  <a:pt x="5482" y="12229"/>
                </a:moveTo>
                <a:cubicBezTo>
                  <a:pt x="5482" y="12369"/>
                  <a:pt x="5482" y="12510"/>
                  <a:pt x="5482" y="12650"/>
                </a:cubicBezTo>
              </a:path>
              <a:path w="2110" h="968">
                <a:moveTo>
                  <a:pt x="3994" y="12799"/>
                </a:moveTo>
                <a:cubicBezTo>
                  <a:pt x="4075" y="12816"/>
                  <a:pt x="4158" y="12862"/>
                  <a:pt x="4242" y="12874"/>
                </a:cubicBezTo>
                <a:cubicBezTo>
                  <a:pt x="4301" y="12882"/>
                  <a:pt x="4356" y="12898"/>
                  <a:pt x="4415" y="12898"/>
                </a:cubicBezTo>
                <a:cubicBezTo>
                  <a:pt x="4505" y="12898"/>
                  <a:pt x="4576" y="12890"/>
                  <a:pt x="4663" y="12874"/>
                </a:cubicBezTo>
                <a:cubicBezTo>
                  <a:pt x="4689" y="12869"/>
                  <a:pt x="4775" y="12842"/>
                  <a:pt x="4787" y="12824"/>
                </a:cubicBezTo>
                <a:cubicBezTo>
                  <a:pt x="4787" y="12799"/>
                  <a:pt x="4787" y="12791"/>
                  <a:pt x="4812" y="12799"/>
                </a:cubicBezTo>
              </a:path>
              <a:path w="2110" h="968">
                <a:moveTo>
                  <a:pt x="4887" y="11956"/>
                </a:moveTo>
                <a:cubicBezTo>
                  <a:pt x="4796" y="12115"/>
                  <a:pt x="4829" y="12298"/>
                  <a:pt x="4812" y="12477"/>
                </a:cubicBezTo>
                <a:cubicBezTo>
                  <a:pt x="4803" y="12568"/>
                  <a:pt x="4787" y="12608"/>
                  <a:pt x="4787" y="12700"/>
                </a:cubicBezTo>
                <a:cubicBezTo>
                  <a:pt x="4741" y="12533"/>
                  <a:pt x="4778" y="12376"/>
                  <a:pt x="4787" y="12204"/>
                </a:cubicBezTo>
                <a:cubicBezTo>
                  <a:pt x="4787" y="12154"/>
                  <a:pt x="4787" y="12105"/>
                  <a:pt x="4787" y="12055"/>
                </a:cubicBezTo>
                <a:cubicBezTo>
                  <a:pt x="4787" y="11900"/>
                  <a:pt x="4740" y="12557"/>
                  <a:pt x="4738" y="12576"/>
                </a:cubicBezTo>
                <a:cubicBezTo>
                  <a:pt x="4727" y="12672"/>
                  <a:pt x="4720" y="12793"/>
                  <a:pt x="4663" y="12849"/>
                </a:cubicBezTo>
              </a:path>
              <a:path w="2110" h="968">
                <a:moveTo>
                  <a:pt x="4018" y="12055"/>
                </a:moveTo>
                <a:cubicBezTo>
                  <a:pt x="4085" y="12210"/>
                  <a:pt x="4038" y="12457"/>
                  <a:pt x="4018" y="12626"/>
                </a:cubicBezTo>
                <a:cubicBezTo>
                  <a:pt x="4010" y="12675"/>
                  <a:pt x="4002" y="12725"/>
                  <a:pt x="3994" y="12774"/>
                </a:cubicBezTo>
                <a:cubicBezTo>
                  <a:pt x="3994" y="12890"/>
                  <a:pt x="3998" y="12691"/>
                  <a:pt x="4018" y="12576"/>
                </a:cubicBezTo>
                <a:cubicBezTo>
                  <a:pt x="4023" y="12550"/>
                  <a:pt x="4118" y="11958"/>
                  <a:pt x="4118" y="12105"/>
                </a:cubicBezTo>
                <a:cubicBezTo>
                  <a:pt x="4118" y="12371"/>
                  <a:pt x="4039" y="12644"/>
                  <a:pt x="3969" y="12898"/>
                </a:cubicBezTo>
                <a:cubicBezTo>
                  <a:pt x="3985" y="12899"/>
                  <a:pt x="4044" y="12554"/>
                  <a:pt x="4068" y="1245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419200" y="4330800"/>
            <a:ext cx="411480" cy="312480"/>
          </a:xfrm>
          <a:custGeom>
            <a:avLst/>
            <a:gdLst/>
            <a:ahLst/>
            <a:rect l="l" t="t" r="r" b="b"/>
            <a:pathLst>
              <a:path w="1142" h="869">
                <a:moveTo>
                  <a:pt x="6945" y="12105"/>
                </a:moveTo>
                <a:cubicBezTo>
                  <a:pt x="6841" y="12131"/>
                  <a:pt x="6772" y="12314"/>
                  <a:pt x="6747" y="12402"/>
                </a:cubicBezTo>
                <a:cubicBezTo>
                  <a:pt x="6713" y="12521"/>
                  <a:pt x="6709" y="12718"/>
                  <a:pt x="6846" y="12774"/>
                </a:cubicBezTo>
                <a:cubicBezTo>
                  <a:pt x="6874" y="12774"/>
                  <a:pt x="6885" y="12776"/>
                  <a:pt x="6896" y="12799"/>
                </a:cubicBezTo>
              </a:path>
              <a:path w="1142" h="869">
                <a:moveTo>
                  <a:pt x="7193" y="12328"/>
                </a:moveTo>
                <a:cubicBezTo>
                  <a:pt x="7230" y="12340"/>
                  <a:pt x="7228" y="12401"/>
                  <a:pt x="7218" y="12452"/>
                </a:cubicBezTo>
                <a:cubicBezTo>
                  <a:pt x="7197" y="12556"/>
                  <a:pt x="7128" y="12526"/>
                  <a:pt x="7268" y="12526"/>
                </a:cubicBezTo>
                <a:cubicBezTo>
                  <a:pt x="7375" y="12526"/>
                  <a:pt x="7409" y="12521"/>
                  <a:pt x="7491" y="12576"/>
                </a:cubicBezTo>
              </a:path>
              <a:path w="1142" h="869">
                <a:moveTo>
                  <a:pt x="7417" y="12229"/>
                </a:moveTo>
                <a:cubicBezTo>
                  <a:pt x="7437" y="12370"/>
                  <a:pt x="7462" y="12506"/>
                  <a:pt x="7466" y="12650"/>
                </a:cubicBezTo>
                <a:cubicBezTo>
                  <a:pt x="7466" y="12675"/>
                  <a:pt x="7466" y="12700"/>
                  <a:pt x="7466" y="12725"/>
                </a:cubicBezTo>
              </a:path>
              <a:path w="1142" h="869">
                <a:moveTo>
                  <a:pt x="7020" y="12129"/>
                </a:moveTo>
                <a:cubicBezTo>
                  <a:pt x="7020" y="12328"/>
                  <a:pt x="7012" y="12479"/>
                  <a:pt x="6970" y="12675"/>
                </a:cubicBezTo>
                <a:cubicBezTo>
                  <a:pt x="6954" y="12733"/>
                  <a:pt x="6937" y="12791"/>
                  <a:pt x="6921" y="12849"/>
                </a:cubicBezTo>
                <a:cubicBezTo>
                  <a:pt x="6921" y="13015"/>
                  <a:pt x="6962" y="12618"/>
                  <a:pt x="6970" y="12452"/>
                </a:cubicBezTo>
                <a:cubicBezTo>
                  <a:pt x="6982" y="12223"/>
                  <a:pt x="6963" y="12102"/>
                  <a:pt x="7020" y="12427"/>
                </a:cubicBezTo>
                <a:cubicBezTo>
                  <a:pt x="7044" y="12562"/>
                  <a:pt x="7048" y="12673"/>
                  <a:pt x="7094" y="12799"/>
                </a:cubicBezTo>
              </a:path>
              <a:path w="1142" h="869">
                <a:moveTo>
                  <a:pt x="7863" y="12030"/>
                </a:moveTo>
                <a:cubicBezTo>
                  <a:pt x="7769" y="12219"/>
                  <a:pt x="7757" y="12478"/>
                  <a:pt x="7739" y="12700"/>
                </a:cubicBezTo>
                <a:cubicBezTo>
                  <a:pt x="7720" y="12938"/>
                  <a:pt x="7737" y="12738"/>
                  <a:pt x="7739" y="12626"/>
                </a:cubicBezTo>
                <a:cubicBezTo>
                  <a:pt x="7739" y="12411"/>
                  <a:pt x="7739" y="12345"/>
                  <a:pt x="7739" y="12204"/>
                </a:cubicBezTo>
                <a:cubicBezTo>
                  <a:pt x="7739" y="11989"/>
                  <a:pt x="7736" y="12387"/>
                  <a:pt x="7714" y="12601"/>
                </a:cubicBezTo>
                <a:cubicBezTo>
                  <a:pt x="7695" y="12735"/>
                  <a:pt x="7704" y="12756"/>
                  <a:pt x="7665" y="1282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2982960" y="4340160"/>
            <a:ext cx="231840" cy="250920"/>
          </a:xfrm>
          <a:custGeom>
            <a:avLst/>
            <a:gdLst/>
            <a:ahLst/>
            <a:rect l="l" t="t" r="r" b="b"/>
            <a:pathLst>
              <a:path w="646" h="696">
                <a:moveTo>
                  <a:pt x="8731" y="12080"/>
                </a:moveTo>
                <a:cubicBezTo>
                  <a:pt x="8841" y="12052"/>
                  <a:pt x="8927" y="12217"/>
                  <a:pt x="8930" y="12353"/>
                </a:cubicBezTo>
                <a:cubicBezTo>
                  <a:pt x="8933" y="12528"/>
                  <a:pt x="8816" y="12613"/>
                  <a:pt x="8706" y="12725"/>
                </a:cubicBezTo>
                <a:cubicBezTo>
                  <a:pt x="8698" y="12733"/>
                  <a:pt x="8690" y="12742"/>
                  <a:pt x="8682" y="12750"/>
                </a:cubicBezTo>
              </a:path>
              <a:path w="646" h="696">
                <a:moveTo>
                  <a:pt x="8310" y="12204"/>
                </a:moveTo>
                <a:cubicBezTo>
                  <a:pt x="8364" y="12315"/>
                  <a:pt x="8335" y="12477"/>
                  <a:pt x="8310" y="12601"/>
                </a:cubicBezTo>
                <a:cubicBezTo>
                  <a:pt x="8291" y="12658"/>
                  <a:pt x="8282" y="12665"/>
                  <a:pt x="8285" y="1270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8109000" y="5276880"/>
            <a:ext cx="195120" cy="260280"/>
          </a:xfrm>
          <a:custGeom>
            <a:avLst/>
            <a:gdLst/>
            <a:ahLst/>
            <a:rect l="l" t="t" r="r" b="b"/>
            <a:pathLst>
              <a:path w="546" h="720">
                <a:moveTo>
                  <a:pt x="22647" y="14808"/>
                </a:moveTo>
                <a:cubicBezTo>
                  <a:pt x="22677" y="14824"/>
                  <a:pt x="22559" y="14989"/>
                  <a:pt x="22547" y="15032"/>
                </a:cubicBezTo>
                <a:cubicBezTo>
                  <a:pt x="22499" y="15210"/>
                  <a:pt x="22499" y="15361"/>
                  <a:pt x="22696" y="15379"/>
                </a:cubicBezTo>
                <a:cubicBezTo>
                  <a:pt x="22713" y="15379"/>
                  <a:pt x="22729" y="15379"/>
                  <a:pt x="22746" y="15379"/>
                </a:cubicBezTo>
              </a:path>
              <a:path w="546" h="720">
                <a:moveTo>
                  <a:pt x="22895" y="14982"/>
                </a:moveTo>
                <a:cubicBezTo>
                  <a:pt x="22882" y="14944"/>
                  <a:pt x="22870" y="14961"/>
                  <a:pt x="22870" y="14908"/>
                </a:cubicBezTo>
                <a:cubicBezTo>
                  <a:pt x="22870" y="14900"/>
                  <a:pt x="22870" y="14891"/>
                  <a:pt x="22870" y="14883"/>
                </a:cubicBezTo>
                <a:cubicBezTo>
                  <a:pt x="22840" y="14941"/>
                  <a:pt x="22818" y="14994"/>
                  <a:pt x="22796" y="15056"/>
                </a:cubicBezTo>
                <a:cubicBezTo>
                  <a:pt x="22881" y="15042"/>
                  <a:pt x="22938" y="14994"/>
                  <a:pt x="23019" y="14982"/>
                </a:cubicBezTo>
                <a:cubicBezTo>
                  <a:pt x="23027" y="14982"/>
                  <a:pt x="23036" y="14982"/>
                  <a:pt x="23044" y="14982"/>
                </a:cubicBezTo>
              </a:path>
              <a:path w="546" h="720">
                <a:moveTo>
                  <a:pt x="22994" y="14660"/>
                </a:moveTo>
                <a:cubicBezTo>
                  <a:pt x="23034" y="14817"/>
                  <a:pt x="23064" y="14940"/>
                  <a:pt x="23068" y="15106"/>
                </a:cubicBezTo>
                <a:cubicBezTo>
                  <a:pt x="23069" y="15147"/>
                  <a:pt x="23068" y="15189"/>
                  <a:pt x="23068" y="1523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500120" y="3956040"/>
            <a:ext cx="162000" cy="231840"/>
          </a:xfrm>
          <a:custGeom>
            <a:avLst/>
            <a:gdLst/>
            <a:ahLst/>
            <a:rect l="l" t="t" r="r" b="b"/>
            <a:pathLst>
              <a:path w="448" h="646">
                <a:moveTo>
                  <a:pt x="4341" y="11038"/>
                </a:moveTo>
                <a:cubicBezTo>
                  <a:pt x="4309" y="11049"/>
                  <a:pt x="4267" y="11061"/>
                  <a:pt x="4291" y="11038"/>
                </a:cubicBezTo>
                <a:cubicBezTo>
                  <a:pt x="4485" y="10858"/>
                  <a:pt x="4567" y="11118"/>
                  <a:pt x="4514" y="11286"/>
                </a:cubicBezTo>
                <a:cubicBezTo>
                  <a:pt x="4458" y="11463"/>
                  <a:pt x="4288" y="11648"/>
                  <a:pt x="4167" y="11509"/>
                </a:cubicBezTo>
                <a:cubicBezTo>
                  <a:pt x="4231" y="11349"/>
                  <a:pt x="4394" y="11408"/>
                  <a:pt x="4539" y="11509"/>
                </a:cubicBezTo>
                <a:cubicBezTo>
                  <a:pt x="4601" y="11571"/>
                  <a:pt x="4626" y="11577"/>
                  <a:pt x="4614" y="1163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438120" y="5392800"/>
            <a:ext cx="581040" cy="679320"/>
          </a:xfrm>
          <a:custGeom>
            <a:avLst/>
            <a:gdLst/>
            <a:ahLst/>
            <a:rect l="l" t="t" r="r" b="b"/>
            <a:pathLst>
              <a:path w="1614" h="1886">
                <a:moveTo>
                  <a:pt x="1215" y="15007"/>
                </a:moveTo>
                <a:cubicBezTo>
                  <a:pt x="1401" y="15023"/>
                  <a:pt x="1581" y="15012"/>
                  <a:pt x="1761" y="14982"/>
                </a:cubicBezTo>
                <a:cubicBezTo>
                  <a:pt x="1790" y="14977"/>
                  <a:pt x="1793" y="15008"/>
                  <a:pt x="1811" y="15032"/>
                </a:cubicBezTo>
              </a:path>
              <a:path w="1614" h="1886">
                <a:moveTo>
                  <a:pt x="1215" y="16371"/>
                </a:moveTo>
                <a:cubicBezTo>
                  <a:pt x="1401" y="16413"/>
                  <a:pt x="1343" y="16529"/>
                  <a:pt x="1290" y="16694"/>
                </a:cubicBezTo>
                <a:cubicBezTo>
                  <a:pt x="1257" y="16799"/>
                  <a:pt x="1290" y="16948"/>
                  <a:pt x="1290" y="16793"/>
                </a:cubicBezTo>
              </a:path>
              <a:path w="1614" h="1886">
                <a:moveTo>
                  <a:pt x="1240" y="16371"/>
                </a:moveTo>
                <a:cubicBezTo>
                  <a:pt x="1378" y="16310"/>
                  <a:pt x="1567" y="16237"/>
                  <a:pt x="1612" y="16470"/>
                </a:cubicBezTo>
                <a:cubicBezTo>
                  <a:pt x="1648" y="16656"/>
                  <a:pt x="1465" y="16760"/>
                  <a:pt x="1339" y="16818"/>
                </a:cubicBezTo>
                <a:cubicBezTo>
                  <a:pt x="1280" y="16847"/>
                  <a:pt x="1270" y="16846"/>
                  <a:pt x="1339" y="16768"/>
                </a:cubicBezTo>
              </a:path>
              <a:path w="1614" h="1886">
                <a:moveTo>
                  <a:pt x="1811" y="16446"/>
                </a:moveTo>
                <a:cubicBezTo>
                  <a:pt x="1811" y="16603"/>
                  <a:pt x="1811" y="16644"/>
                  <a:pt x="1811" y="16743"/>
                </a:cubicBezTo>
                <a:cubicBezTo>
                  <a:pt x="1811" y="16809"/>
                  <a:pt x="1823" y="16510"/>
                  <a:pt x="1836" y="16470"/>
                </a:cubicBezTo>
                <a:cubicBezTo>
                  <a:pt x="1874" y="16393"/>
                  <a:pt x="1873" y="16378"/>
                  <a:pt x="1910" y="16346"/>
                </a:cubicBezTo>
                <a:cubicBezTo>
                  <a:pt x="2079" y="16380"/>
                  <a:pt x="2158" y="16470"/>
                  <a:pt x="2158" y="16669"/>
                </a:cubicBezTo>
                <a:cubicBezTo>
                  <a:pt x="2158" y="16736"/>
                  <a:pt x="2133" y="16751"/>
                  <a:pt x="2133" y="16818"/>
                </a:cubicBezTo>
              </a:path>
              <a:path w="1614" h="1886">
                <a:moveTo>
                  <a:pt x="1885" y="16669"/>
                </a:moveTo>
                <a:cubicBezTo>
                  <a:pt x="1989" y="16631"/>
                  <a:pt x="2097" y="16642"/>
                  <a:pt x="2133" y="16570"/>
                </a:cubicBezTo>
              </a:path>
              <a:path w="1614" h="1886">
                <a:moveTo>
                  <a:pt x="1414" y="16073"/>
                </a:moveTo>
                <a:cubicBezTo>
                  <a:pt x="1531" y="16054"/>
                  <a:pt x="1640" y="16049"/>
                  <a:pt x="1761" y="16049"/>
                </a:cubicBezTo>
                <a:cubicBezTo>
                  <a:pt x="1819" y="16049"/>
                  <a:pt x="1877" y="16049"/>
                  <a:pt x="1935" y="16049"/>
                </a:cubicBezTo>
              </a:path>
              <a:path w="1614" h="1886">
                <a:moveTo>
                  <a:pt x="2654" y="16446"/>
                </a:moveTo>
                <a:cubicBezTo>
                  <a:pt x="2712" y="16446"/>
                  <a:pt x="2811" y="16421"/>
                  <a:pt x="2828" y="16470"/>
                </a:cubicBezTo>
              </a:path>
              <a:path w="1614" h="1886">
                <a:moveTo>
                  <a:pt x="2456" y="15478"/>
                </a:moveTo>
                <a:cubicBezTo>
                  <a:pt x="2483" y="15472"/>
                  <a:pt x="2577" y="15426"/>
                  <a:pt x="2604" y="15453"/>
                </a:cubicBezTo>
                <a:cubicBezTo>
                  <a:pt x="2604" y="15461"/>
                  <a:pt x="2604" y="15470"/>
                  <a:pt x="2604" y="1547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1125360" y="5411880"/>
            <a:ext cx="490680" cy="223920"/>
          </a:xfrm>
          <a:custGeom>
            <a:avLst/>
            <a:gdLst/>
            <a:ahLst/>
            <a:rect l="l" t="t" r="r" b="b"/>
            <a:pathLst>
              <a:path w="1366" h="621">
                <a:moveTo>
                  <a:pt x="3324" y="15032"/>
                </a:moveTo>
                <a:cubicBezTo>
                  <a:pt x="3272" y="15160"/>
                  <a:pt x="3159" y="15306"/>
                  <a:pt x="3125" y="15453"/>
                </a:cubicBezTo>
                <a:cubicBezTo>
                  <a:pt x="3097" y="15575"/>
                  <a:pt x="3150" y="15614"/>
                  <a:pt x="3225" y="15652"/>
                </a:cubicBezTo>
                <a:cubicBezTo>
                  <a:pt x="3233" y="15652"/>
                  <a:pt x="3241" y="15652"/>
                  <a:pt x="3249" y="15652"/>
                </a:cubicBezTo>
              </a:path>
              <a:path w="1366" h="621">
                <a:moveTo>
                  <a:pt x="3448" y="15205"/>
                </a:moveTo>
                <a:cubicBezTo>
                  <a:pt x="3448" y="15141"/>
                  <a:pt x="3425" y="15347"/>
                  <a:pt x="3423" y="15354"/>
                </a:cubicBezTo>
                <a:cubicBezTo>
                  <a:pt x="3381" y="15481"/>
                  <a:pt x="3576" y="15382"/>
                  <a:pt x="3646" y="15354"/>
                </a:cubicBezTo>
              </a:path>
              <a:path w="1366" h="621">
                <a:moveTo>
                  <a:pt x="3597" y="15106"/>
                </a:moveTo>
                <a:cubicBezTo>
                  <a:pt x="3590" y="15289"/>
                  <a:pt x="3583" y="15474"/>
                  <a:pt x="3547" y="15652"/>
                </a:cubicBezTo>
              </a:path>
              <a:path w="1366" h="621">
                <a:moveTo>
                  <a:pt x="4192" y="15156"/>
                </a:moveTo>
                <a:cubicBezTo>
                  <a:pt x="4238" y="15140"/>
                  <a:pt x="4543" y="15031"/>
                  <a:pt x="4415" y="15230"/>
                </a:cubicBezTo>
                <a:cubicBezTo>
                  <a:pt x="4390" y="15247"/>
                  <a:pt x="4366" y="15263"/>
                  <a:pt x="4341" y="15280"/>
                </a:cubicBezTo>
                <a:cubicBezTo>
                  <a:pt x="4362" y="15339"/>
                  <a:pt x="4432" y="15272"/>
                  <a:pt x="4490" y="15379"/>
                </a:cubicBezTo>
                <a:cubicBezTo>
                  <a:pt x="4559" y="15506"/>
                  <a:pt x="4215" y="15624"/>
                  <a:pt x="4192" y="15577"/>
                </a:cubicBezTo>
                <a:cubicBezTo>
                  <a:pt x="4200" y="15544"/>
                  <a:pt x="4209" y="15511"/>
                  <a:pt x="4217" y="1547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946080" y="4857840"/>
            <a:ext cx="1849680" cy="1125360"/>
          </a:xfrm>
          <a:custGeom>
            <a:avLst/>
            <a:gdLst/>
            <a:ahLst/>
            <a:rect l="l" t="t" r="r" b="b"/>
            <a:pathLst>
              <a:path w="5136" h="3126">
                <a:moveTo>
                  <a:pt x="3994" y="14337"/>
                </a:moveTo>
                <a:cubicBezTo>
                  <a:pt x="3981" y="14391"/>
                  <a:pt x="3976" y="14518"/>
                  <a:pt x="3944" y="14486"/>
                </a:cubicBezTo>
              </a:path>
              <a:path w="5136" h="3126">
                <a:moveTo>
                  <a:pt x="6152" y="13742"/>
                </a:moveTo>
                <a:cubicBezTo>
                  <a:pt x="6103" y="13790"/>
                  <a:pt x="6092" y="13804"/>
                  <a:pt x="6077" y="13866"/>
                </a:cubicBezTo>
                <a:cubicBezTo>
                  <a:pt x="6221" y="13859"/>
                  <a:pt x="6316" y="13843"/>
                  <a:pt x="6449" y="13791"/>
                </a:cubicBezTo>
              </a:path>
              <a:path w="5136" h="3126">
                <a:moveTo>
                  <a:pt x="6400" y="13618"/>
                </a:moveTo>
                <a:cubicBezTo>
                  <a:pt x="6377" y="13808"/>
                  <a:pt x="6349" y="13999"/>
                  <a:pt x="6325" y="14188"/>
                </a:cubicBezTo>
              </a:path>
              <a:path w="5136" h="3126">
                <a:moveTo>
                  <a:pt x="6524" y="14238"/>
                </a:moveTo>
                <a:cubicBezTo>
                  <a:pt x="6524" y="14288"/>
                  <a:pt x="6524" y="14387"/>
                  <a:pt x="6524" y="14337"/>
                </a:cubicBezTo>
              </a:path>
              <a:path w="5136" h="3126">
                <a:moveTo>
                  <a:pt x="7615" y="13494"/>
                </a:moveTo>
                <a:cubicBezTo>
                  <a:pt x="7769" y="13849"/>
                  <a:pt x="7835" y="13971"/>
                  <a:pt x="7541" y="14238"/>
                </a:cubicBezTo>
              </a:path>
              <a:path w="5136" h="3126">
                <a:moveTo>
                  <a:pt x="2629" y="16619"/>
                </a:moveTo>
                <a:cubicBezTo>
                  <a:pt x="2721" y="16596"/>
                  <a:pt x="2746" y="16590"/>
                  <a:pt x="2803" y="16570"/>
                </a:cubicBezTo>
              </a:path>
              <a:path w="5136" h="3126">
                <a:moveTo>
                  <a:pt x="2803" y="16570"/>
                </a:moveTo>
                <a:lnTo>
                  <a:pt x="2803" y="16570"/>
                </a:lnTo>
              </a:path>
              <a:path w="5136" h="3126">
                <a:moveTo>
                  <a:pt x="3746" y="15627"/>
                </a:moveTo>
                <a:cubicBezTo>
                  <a:pt x="3745" y="15640"/>
                  <a:pt x="3756" y="15795"/>
                  <a:pt x="3721" y="15726"/>
                </a:cubicBezTo>
              </a:path>
              <a:path w="5136" h="3126">
                <a:moveTo>
                  <a:pt x="3969" y="15354"/>
                </a:moveTo>
                <a:cubicBezTo>
                  <a:pt x="4068" y="15329"/>
                  <a:pt x="4101" y="15321"/>
                  <a:pt x="4167" y="15304"/>
                </a:cubicBezTo>
              </a:path>
              <a:path w="5136" h="3126">
                <a:moveTo>
                  <a:pt x="4638" y="15007"/>
                </a:moveTo>
                <a:cubicBezTo>
                  <a:pt x="4825" y="15298"/>
                  <a:pt x="4806" y="15372"/>
                  <a:pt x="4564" y="1562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463840" y="4919760"/>
            <a:ext cx="223920" cy="171360"/>
          </a:xfrm>
          <a:custGeom>
            <a:avLst/>
            <a:gdLst/>
            <a:ahLst/>
            <a:rect l="l" t="t" r="r" b="b"/>
            <a:pathLst>
              <a:path w="621" h="473">
                <a:moveTo>
                  <a:pt x="6846" y="13915"/>
                </a:moveTo>
                <a:cubicBezTo>
                  <a:pt x="6896" y="13915"/>
                  <a:pt x="6945" y="13915"/>
                  <a:pt x="6995" y="13915"/>
                </a:cubicBezTo>
              </a:path>
              <a:path w="621" h="473">
                <a:moveTo>
                  <a:pt x="7119" y="13692"/>
                </a:moveTo>
                <a:cubicBezTo>
                  <a:pt x="7189" y="13685"/>
                  <a:pt x="7459" y="13633"/>
                  <a:pt x="7317" y="13816"/>
                </a:cubicBezTo>
                <a:cubicBezTo>
                  <a:pt x="7261" y="13854"/>
                  <a:pt x="7215" y="13871"/>
                  <a:pt x="7268" y="13866"/>
                </a:cubicBezTo>
                <a:cubicBezTo>
                  <a:pt x="7359" y="13866"/>
                  <a:pt x="7401" y="13869"/>
                  <a:pt x="7466" y="13891"/>
                </a:cubicBezTo>
                <a:cubicBezTo>
                  <a:pt x="7453" y="13942"/>
                  <a:pt x="7272" y="14295"/>
                  <a:pt x="7169" y="14114"/>
                </a:cubicBezTo>
                <a:cubicBezTo>
                  <a:pt x="7177" y="14089"/>
                  <a:pt x="7185" y="14064"/>
                  <a:pt x="7193" y="1403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098880" y="4884840"/>
            <a:ext cx="490320" cy="357120"/>
          </a:xfrm>
          <a:custGeom>
            <a:avLst/>
            <a:gdLst/>
            <a:ahLst/>
            <a:rect l="l" t="t" r="r" b="b"/>
            <a:pathLst>
              <a:path w="1365" h="993">
                <a:moveTo>
                  <a:pt x="9426" y="13568"/>
                </a:moveTo>
                <a:cubicBezTo>
                  <a:pt x="9412" y="13668"/>
                  <a:pt x="9382" y="13764"/>
                  <a:pt x="9376" y="13866"/>
                </a:cubicBezTo>
                <a:cubicBezTo>
                  <a:pt x="9376" y="13874"/>
                  <a:pt x="9376" y="13883"/>
                  <a:pt x="9376" y="13891"/>
                </a:cubicBezTo>
              </a:path>
              <a:path w="1365" h="993">
                <a:moveTo>
                  <a:pt x="8607" y="14188"/>
                </a:moveTo>
                <a:cubicBezTo>
                  <a:pt x="9052" y="14104"/>
                  <a:pt x="9470" y="14072"/>
                  <a:pt x="9922" y="14089"/>
                </a:cubicBezTo>
                <a:cubicBezTo>
                  <a:pt x="9938" y="14089"/>
                  <a:pt x="9955" y="14089"/>
                  <a:pt x="9971" y="14089"/>
                </a:cubicBezTo>
              </a:path>
              <a:path w="1365" h="993">
                <a:moveTo>
                  <a:pt x="9227" y="14213"/>
                </a:moveTo>
                <a:cubicBezTo>
                  <a:pt x="9409" y="14167"/>
                  <a:pt x="9457" y="14148"/>
                  <a:pt x="9575" y="14188"/>
                </a:cubicBezTo>
                <a:cubicBezTo>
                  <a:pt x="9561" y="14374"/>
                  <a:pt x="9149" y="14390"/>
                  <a:pt x="9227" y="14560"/>
                </a:cubicBezTo>
                <a:cubicBezTo>
                  <a:pt x="9254" y="14620"/>
                  <a:pt x="9671" y="14522"/>
                  <a:pt x="9748" y="1451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30120" y="5197320"/>
            <a:ext cx="3975120" cy="500040"/>
          </a:xfrm>
          <a:custGeom>
            <a:avLst/>
            <a:gdLst/>
            <a:ahLst/>
            <a:rect l="l" t="t" r="r" b="b"/>
            <a:pathLst>
              <a:path w="11039" h="1390">
                <a:moveTo>
                  <a:pt x="1191" y="15329"/>
                </a:moveTo>
                <a:cubicBezTo>
                  <a:pt x="1170" y="15315"/>
                  <a:pt x="1123" y="15257"/>
                  <a:pt x="1091" y="15280"/>
                </a:cubicBezTo>
                <a:cubicBezTo>
                  <a:pt x="1017" y="15333"/>
                  <a:pt x="969" y="15364"/>
                  <a:pt x="943" y="15453"/>
                </a:cubicBezTo>
                <a:cubicBezTo>
                  <a:pt x="906" y="15578"/>
                  <a:pt x="877" y="15825"/>
                  <a:pt x="1067" y="15825"/>
                </a:cubicBezTo>
                <a:cubicBezTo>
                  <a:pt x="1166" y="15825"/>
                  <a:pt x="1232" y="15735"/>
                  <a:pt x="1315" y="15726"/>
                </a:cubicBezTo>
                <a:cubicBezTo>
                  <a:pt x="1323" y="15726"/>
                  <a:pt x="1331" y="15726"/>
                  <a:pt x="1339" y="15726"/>
                </a:cubicBezTo>
              </a:path>
              <a:path w="11039" h="1390">
                <a:moveTo>
                  <a:pt x="1463" y="15230"/>
                </a:moveTo>
                <a:cubicBezTo>
                  <a:pt x="1629" y="15212"/>
                  <a:pt x="1924" y="15202"/>
                  <a:pt x="1935" y="15453"/>
                </a:cubicBezTo>
                <a:cubicBezTo>
                  <a:pt x="1943" y="15628"/>
                  <a:pt x="1725" y="15713"/>
                  <a:pt x="1588" y="15701"/>
                </a:cubicBezTo>
                <a:cubicBezTo>
                  <a:pt x="1563" y="15693"/>
                  <a:pt x="1538" y="15685"/>
                  <a:pt x="1513" y="15677"/>
                </a:cubicBezTo>
              </a:path>
              <a:path w="11039" h="1390">
                <a:moveTo>
                  <a:pt x="2480" y="15627"/>
                </a:moveTo>
                <a:cubicBezTo>
                  <a:pt x="2565" y="15627"/>
                  <a:pt x="2585" y="15634"/>
                  <a:pt x="2629" y="15602"/>
                </a:cubicBezTo>
              </a:path>
              <a:path w="11039" h="1390">
                <a:moveTo>
                  <a:pt x="2629" y="15602"/>
                </a:moveTo>
                <a:lnTo>
                  <a:pt x="2629" y="15602"/>
                </a:lnTo>
              </a:path>
              <a:path w="11039" h="1390">
                <a:moveTo>
                  <a:pt x="11956" y="14436"/>
                </a:moveTo>
                <a:lnTo>
                  <a:pt x="11956" y="14436"/>
                </a:lnTo>
              </a:path>
              <a:path w="11039" h="1390">
                <a:moveTo>
                  <a:pt x="6449" y="14833"/>
                </a:moveTo>
                <a:cubicBezTo>
                  <a:pt x="6692" y="15065"/>
                  <a:pt x="6861" y="15231"/>
                  <a:pt x="6672" y="15577"/>
                </a:cubicBezTo>
                <a:cubicBezTo>
                  <a:pt x="6639" y="15610"/>
                  <a:pt x="6606" y="15644"/>
                  <a:pt x="6573" y="15677"/>
                </a:cubicBezTo>
              </a:path>
              <a:path w="11039" h="1390">
                <a:moveTo>
                  <a:pt x="5829" y="15230"/>
                </a:moveTo>
                <a:cubicBezTo>
                  <a:pt x="5857" y="15230"/>
                  <a:pt x="5868" y="15232"/>
                  <a:pt x="5879" y="15255"/>
                </a:cubicBezTo>
              </a:path>
              <a:path w="11039" h="1390">
                <a:moveTo>
                  <a:pt x="7739" y="14560"/>
                </a:moveTo>
                <a:cubicBezTo>
                  <a:pt x="7715" y="14709"/>
                  <a:pt x="7691" y="14858"/>
                  <a:pt x="7665" y="15007"/>
                </a:cubicBezTo>
              </a:path>
              <a:path w="11039" h="1390">
                <a:moveTo>
                  <a:pt x="7665" y="15007"/>
                </a:moveTo>
                <a:lnTo>
                  <a:pt x="7665" y="15007"/>
                </a:ln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34960" y="5510160"/>
            <a:ext cx="19080" cy="125640"/>
          </a:xfrm>
          <a:custGeom>
            <a:avLst/>
            <a:gdLst/>
            <a:ahLst/>
            <a:rect l="l" t="t" r="r" b="b"/>
            <a:pathLst>
              <a:path w="51" h="349">
                <a:moveTo>
                  <a:pt x="1488" y="15304"/>
                </a:moveTo>
                <a:cubicBezTo>
                  <a:pt x="1497" y="15413"/>
                  <a:pt x="1503" y="15548"/>
                  <a:pt x="1538" y="15652"/>
                </a:cubicBezTo>
                <a:cubicBezTo>
                  <a:pt x="1538" y="15644"/>
                  <a:pt x="1538" y="15635"/>
                  <a:pt x="1538" y="1562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1785960" y="5392800"/>
            <a:ext cx="241200" cy="243000"/>
          </a:xfrm>
          <a:custGeom>
            <a:avLst/>
            <a:gdLst/>
            <a:ahLst/>
            <a:rect l="l" t="t" r="r" b="b"/>
            <a:pathLst>
              <a:path w="671" h="671">
                <a:moveTo>
                  <a:pt x="5135" y="14982"/>
                </a:moveTo>
                <a:cubicBezTo>
                  <a:pt x="5082" y="15140"/>
                  <a:pt x="4974" y="15299"/>
                  <a:pt x="4961" y="15478"/>
                </a:cubicBezTo>
                <a:cubicBezTo>
                  <a:pt x="4948" y="15668"/>
                  <a:pt x="5063" y="15635"/>
                  <a:pt x="5184" y="15627"/>
                </a:cubicBezTo>
              </a:path>
              <a:path w="671" h="671">
                <a:moveTo>
                  <a:pt x="5358" y="15081"/>
                </a:moveTo>
                <a:cubicBezTo>
                  <a:pt x="5399" y="15081"/>
                  <a:pt x="5441" y="15081"/>
                  <a:pt x="5482" y="15081"/>
                </a:cubicBezTo>
                <a:cubicBezTo>
                  <a:pt x="5519" y="15226"/>
                  <a:pt x="5437" y="15275"/>
                  <a:pt x="5333" y="15379"/>
                </a:cubicBezTo>
                <a:cubicBezTo>
                  <a:pt x="5433" y="15417"/>
                  <a:pt x="5522" y="15390"/>
                  <a:pt x="5631" y="1537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187720" y="5419800"/>
            <a:ext cx="125280" cy="144360"/>
          </a:xfrm>
          <a:custGeom>
            <a:avLst/>
            <a:gdLst/>
            <a:ahLst/>
            <a:rect l="l" t="t" r="r" b="b"/>
            <a:pathLst>
              <a:path w="348" h="398">
                <a:moveTo>
                  <a:pt x="6077" y="15056"/>
                </a:moveTo>
                <a:cubicBezTo>
                  <a:pt x="6104" y="15056"/>
                  <a:pt x="6368" y="15051"/>
                  <a:pt x="6325" y="15106"/>
                </a:cubicBezTo>
                <a:cubicBezTo>
                  <a:pt x="6242" y="15162"/>
                  <a:pt x="6208" y="15186"/>
                  <a:pt x="6152" y="15230"/>
                </a:cubicBezTo>
                <a:cubicBezTo>
                  <a:pt x="6144" y="15230"/>
                  <a:pt x="6135" y="15230"/>
                  <a:pt x="6127" y="15230"/>
                </a:cubicBezTo>
                <a:cubicBezTo>
                  <a:pt x="6191" y="15235"/>
                  <a:pt x="6559" y="15260"/>
                  <a:pt x="6375" y="15404"/>
                </a:cubicBezTo>
                <a:cubicBezTo>
                  <a:pt x="6242" y="15508"/>
                  <a:pt x="6156" y="15459"/>
                  <a:pt x="6102" y="1537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581200" y="5295960"/>
            <a:ext cx="339840" cy="384120"/>
          </a:xfrm>
          <a:custGeom>
            <a:avLst/>
            <a:gdLst/>
            <a:ahLst/>
            <a:rect l="l" t="t" r="r" b="b"/>
            <a:pathLst>
              <a:path w="943" h="1068">
                <a:moveTo>
                  <a:pt x="7466" y="14709"/>
                </a:moveTo>
                <a:cubicBezTo>
                  <a:pt x="7459" y="14751"/>
                  <a:pt x="7448" y="14791"/>
                  <a:pt x="7441" y="14833"/>
                </a:cubicBezTo>
                <a:cubicBezTo>
                  <a:pt x="7592" y="14819"/>
                  <a:pt x="7595" y="14800"/>
                  <a:pt x="7714" y="14709"/>
                </a:cubicBezTo>
              </a:path>
              <a:path w="943" h="1068">
                <a:moveTo>
                  <a:pt x="7169" y="15230"/>
                </a:moveTo>
                <a:cubicBezTo>
                  <a:pt x="7268" y="15180"/>
                  <a:pt x="7301" y="15163"/>
                  <a:pt x="7367" y="15131"/>
                </a:cubicBezTo>
              </a:path>
              <a:path w="943" h="1068">
                <a:moveTo>
                  <a:pt x="7665" y="15081"/>
                </a:moveTo>
                <a:cubicBezTo>
                  <a:pt x="7798" y="15131"/>
                  <a:pt x="7683" y="15187"/>
                  <a:pt x="7590" y="15280"/>
                </a:cubicBezTo>
                <a:cubicBezTo>
                  <a:pt x="7702" y="15270"/>
                  <a:pt x="7782" y="15243"/>
                  <a:pt x="7888" y="15205"/>
                </a:cubicBezTo>
              </a:path>
              <a:path w="943" h="1068">
                <a:moveTo>
                  <a:pt x="7317" y="15478"/>
                </a:moveTo>
                <a:cubicBezTo>
                  <a:pt x="7557" y="15417"/>
                  <a:pt x="7795" y="15357"/>
                  <a:pt x="8037" y="15304"/>
                </a:cubicBezTo>
              </a:path>
              <a:path w="943" h="1068">
                <a:moveTo>
                  <a:pt x="7640" y="15577"/>
                </a:moveTo>
                <a:cubicBezTo>
                  <a:pt x="7774" y="15522"/>
                  <a:pt x="7869" y="15503"/>
                  <a:pt x="8012" y="15503"/>
                </a:cubicBezTo>
                <a:cubicBezTo>
                  <a:pt x="7935" y="15603"/>
                  <a:pt x="7653" y="15715"/>
                  <a:pt x="7764" y="15776"/>
                </a:cubicBezTo>
                <a:cubicBezTo>
                  <a:pt x="7849" y="15823"/>
                  <a:pt x="8021" y="15725"/>
                  <a:pt x="8111" y="15701"/>
                </a:cubicBezTo>
              </a:path>
              <a:path w="943" h="1068">
                <a:moveTo>
                  <a:pt x="7541" y="15081"/>
                </a:moveTo>
                <a:cubicBezTo>
                  <a:pt x="7516" y="15081"/>
                  <a:pt x="7508" y="15081"/>
                  <a:pt x="7491" y="1508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704960" y="5796000"/>
            <a:ext cx="1081080" cy="258840"/>
          </a:xfrm>
          <a:custGeom>
            <a:avLst/>
            <a:gdLst/>
            <a:ahLst/>
            <a:rect l="l" t="t" r="r" b="b"/>
            <a:pathLst>
              <a:path w="3002" h="721">
                <a:moveTo>
                  <a:pt x="4738" y="16098"/>
                </a:moveTo>
                <a:cubicBezTo>
                  <a:pt x="4912" y="16211"/>
                  <a:pt x="5087" y="16365"/>
                  <a:pt x="5110" y="16594"/>
                </a:cubicBezTo>
                <a:cubicBezTo>
                  <a:pt x="5122" y="16711"/>
                  <a:pt x="5056" y="16748"/>
                  <a:pt x="4986" y="16818"/>
                </a:cubicBezTo>
              </a:path>
              <a:path w="3002" h="721">
                <a:moveTo>
                  <a:pt x="6474" y="16321"/>
                </a:moveTo>
                <a:cubicBezTo>
                  <a:pt x="6528" y="16344"/>
                  <a:pt x="6591" y="16357"/>
                  <a:pt x="6648" y="16371"/>
                </a:cubicBezTo>
              </a:path>
              <a:path w="3002" h="721">
                <a:moveTo>
                  <a:pt x="7441" y="16346"/>
                </a:moveTo>
                <a:cubicBezTo>
                  <a:pt x="7491" y="16338"/>
                  <a:pt x="7539" y="16327"/>
                  <a:pt x="7590" y="16321"/>
                </a:cubicBezTo>
              </a:path>
              <a:path w="3002" h="721">
                <a:moveTo>
                  <a:pt x="7441" y="16470"/>
                </a:moveTo>
                <a:cubicBezTo>
                  <a:pt x="7583" y="16443"/>
                  <a:pt x="7642" y="16429"/>
                  <a:pt x="7739" y="1639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160640" y="5732640"/>
            <a:ext cx="607680" cy="403200"/>
          </a:xfrm>
          <a:custGeom>
            <a:avLst/>
            <a:gdLst/>
            <a:ahLst/>
            <a:rect l="l" t="t" r="r" b="b"/>
            <a:pathLst>
              <a:path w="1687" h="1117">
                <a:moveTo>
                  <a:pt x="3324" y="16222"/>
                </a:moveTo>
                <a:cubicBezTo>
                  <a:pt x="3324" y="16334"/>
                  <a:pt x="3269" y="16431"/>
                  <a:pt x="3249" y="16545"/>
                </a:cubicBezTo>
                <a:cubicBezTo>
                  <a:pt x="3232" y="16642"/>
                  <a:pt x="3181" y="16874"/>
                  <a:pt x="3324" y="16917"/>
                </a:cubicBezTo>
                <a:cubicBezTo>
                  <a:pt x="3340" y="16917"/>
                  <a:pt x="3357" y="16917"/>
                  <a:pt x="3373" y="16917"/>
                </a:cubicBezTo>
              </a:path>
              <a:path w="1687" h="1117">
                <a:moveTo>
                  <a:pt x="3522" y="16421"/>
                </a:moveTo>
                <a:cubicBezTo>
                  <a:pt x="3594" y="16394"/>
                  <a:pt x="3800" y="16284"/>
                  <a:pt x="3770" y="16470"/>
                </a:cubicBezTo>
                <a:cubicBezTo>
                  <a:pt x="3745" y="16623"/>
                  <a:pt x="3596" y="16757"/>
                  <a:pt x="3497" y="16867"/>
                </a:cubicBezTo>
                <a:cubicBezTo>
                  <a:pt x="3585" y="16867"/>
                  <a:pt x="3660" y="16849"/>
                  <a:pt x="3746" y="16842"/>
                </a:cubicBezTo>
                <a:cubicBezTo>
                  <a:pt x="3754" y="16842"/>
                  <a:pt x="3762" y="16842"/>
                  <a:pt x="3770" y="16842"/>
                </a:cubicBezTo>
              </a:path>
              <a:path w="1687" h="1117">
                <a:moveTo>
                  <a:pt x="4018" y="16842"/>
                </a:moveTo>
                <a:cubicBezTo>
                  <a:pt x="4035" y="16915"/>
                  <a:pt x="4043" y="16964"/>
                  <a:pt x="4043" y="17041"/>
                </a:cubicBezTo>
              </a:path>
              <a:path w="1687" h="1117">
                <a:moveTo>
                  <a:pt x="4217" y="16570"/>
                </a:moveTo>
                <a:cubicBezTo>
                  <a:pt x="4275" y="16570"/>
                  <a:pt x="4332" y="16570"/>
                  <a:pt x="4390" y="16570"/>
                </a:cubicBezTo>
              </a:path>
              <a:path w="1687" h="1117">
                <a:moveTo>
                  <a:pt x="4514" y="16371"/>
                </a:moveTo>
                <a:cubicBezTo>
                  <a:pt x="4568" y="16371"/>
                  <a:pt x="4744" y="16329"/>
                  <a:pt x="4738" y="16421"/>
                </a:cubicBezTo>
                <a:cubicBezTo>
                  <a:pt x="4711" y="16475"/>
                  <a:pt x="4699" y="16495"/>
                  <a:pt x="4663" y="16520"/>
                </a:cubicBezTo>
                <a:cubicBezTo>
                  <a:pt x="4723" y="16520"/>
                  <a:pt x="4810" y="16527"/>
                  <a:pt x="4837" y="16594"/>
                </a:cubicBezTo>
                <a:cubicBezTo>
                  <a:pt x="4874" y="16685"/>
                  <a:pt x="4743" y="16779"/>
                  <a:pt x="4663" y="16743"/>
                </a:cubicBezTo>
                <a:cubicBezTo>
                  <a:pt x="4663" y="16735"/>
                  <a:pt x="4663" y="16726"/>
                  <a:pt x="4663" y="16718"/>
                </a:cubicBezTo>
              </a:path>
              <a:path w="1687" h="1117">
                <a:moveTo>
                  <a:pt x="4068" y="16297"/>
                </a:moveTo>
                <a:cubicBezTo>
                  <a:pt x="4144" y="16493"/>
                  <a:pt x="4197" y="16688"/>
                  <a:pt x="4242" y="16892"/>
                </a:cubicBezTo>
                <a:cubicBezTo>
                  <a:pt x="4271" y="17022"/>
                  <a:pt x="4260" y="17010"/>
                  <a:pt x="4341" y="16942"/>
                </a:cubicBezTo>
              </a:path>
              <a:path w="1687" h="1117">
                <a:moveTo>
                  <a:pt x="4862" y="16371"/>
                </a:moveTo>
                <a:cubicBezTo>
                  <a:pt x="4793" y="16394"/>
                  <a:pt x="4876" y="16677"/>
                  <a:pt x="4887" y="16743"/>
                </a:cubicBezTo>
                <a:cubicBezTo>
                  <a:pt x="4897" y="16801"/>
                  <a:pt x="4911" y="16926"/>
                  <a:pt x="4911" y="16867"/>
                </a:cubicBezTo>
              </a:path>
              <a:path w="1687" h="1117">
                <a:moveTo>
                  <a:pt x="4440" y="15925"/>
                </a:moveTo>
                <a:cubicBezTo>
                  <a:pt x="4478" y="15940"/>
                  <a:pt x="4651" y="15977"/>
                  <a:pt x="4638" y="15999"/>
                </a:cubicBezTo>
                <a:cubicBezTo>
                  <a:pt x="4592" y="16046"/>
                  <a:pt x="4580" y="16060"/>
                  <a:pt x="4539" y="16073"/>
                </a:cubicBezTo>
                <a:cubicBezTo>
                  <a:pt x="4605" y="16073"/>
                  <a:pt x="4739" y="16017"/>
                  <a:pt x="4713" y="16123"/>
                </a:cubicBezTo>
                <a:cubicBezTo>
                  <a:pt x="4692" y="16211"/>
                  <a:pt x="4605" y="16250"/>
                  <a:pt x="4539" y="1627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938240" y="5705640"/>
            <a:ext cx="660600" cy="366480"/>
          </a:xfrm>
          <a:custGeom>
            <a:avLst/>
            <a:gdLst/>
            <a:ahLst/>
            <a:rect l="l" t="t" r="r" b="b"/>
            <a:pathLst>
              <a:path w="1836" h="1018">
                <a:moveTo>
                  <a:pt x="5482" y="16222"/>
                </a:moveTo>
                <a:cubicBezTo>
                  <a:pt x="5420" y="16397"/>
                  <a:pt x="5305" y="16592"/>
                  <a:pt x="5432" y="16768"/>
                </a:cubicBezTo>
                <a:cubicBezTo>
                  <a:pt x="5477" y="16830"/>
                  <a:pt x="5521" y="16818"/>
                  <a:pt x="5581" y="16818"/>
                </a:cubicBezTo>
              </a:path>
              <a:path w="1836" h="1018">
                <a:moveTo>
                  <a:pt x="5755" y="16321"/>
                </a:moveTo>
                <a:cubicBezTo>
                  <a:pt x="5818" y="16279"/>
                  <a:pt x="5852" y="16278"/>
                  <a:pt x="5928" y="16272"/>
                </a:cubicBezTo>
                <a:cubicBezTo>
                  <a:pt x="5976" y="16415"/>
                  <a:pt x="5906" y="16443"/>
                  <a:pt x="5804" y="16545"/>
                </a:cubicBezTo>
                <a:cubicBezTo>
                  <a:pt x="5782" y="16567"/>
                  <a:pt x="5773" y="16572"/>
                  <a:pt x="5779" y="16594"/>
                </a:cubicBezTo>
                <a:cubicBezTo>
                  <a:pt x="5878" y="16594"/>
                  <a:pt x="5969" y="16516"/>
                  <a:pt x="6052" y="16570"/>
                </a:cubicBezTo>
                <a:cubicBezTo>
                  <a:pt x="6052" y="16578"/>
                  <a:pt x="6052" y="16586"/>
                  <a:pt x="6052" y="16594"/>
                </a:cubicBezTo>
              </a:path>
              <a:path w="1836" h="1018">
                <a:moveTo>
                  <a:pt x="6276" y="16644"/>
                </a:moveTo>
                <a:cubicBezTo>
                  <a:pt x="6276" y="16728"/>
                  <a:pt x="6281" y="16797"/>
                  <a:pt x="6251" y="16867"/>
                </a:cubicBezTo>
              </a:path>
              <a:path w="1836" h="1018">
                <a:moveTo>
                  <a:pt x="6846" y="16197"/>
                </a:moveTo>
                <a:cubicBezTo>
                  <a:pt x="6853" y="16315"/>
                  <a:pt x="6871" y="16427"/>
                  <a:pt x="6871" y="16545"/>
                </a:cubicBezTo>
              </a:path>
              <a:path w="1836" h="1018">
                <a:moveTo>
                  <a:pt x="6921" y="15974"/>
                </a:moveTo>
                <a:cubicBezTo>
                  <a:pt x="7077" y="16106"/>
                  <a:pt x="7276" y="16304"/>
                  <a:pt x="7218" y="16545"/>
                </a:cubicBezTo>
                <a:cubicBezTo>
                  <a:pt x="7196" y="16638"/>
                  <a:pt x="7108" y="16704"/>
                  <a:pt x="7045" y="16768"/>
                </a:cubicBezTo>
              </a:path>
              <a:path w="1836" h="1018">
                <a:moveTo>
                  <a:pt x="6251" y="16272"/>
                </a:moveTo>
                <a:cubicBezTo>
                  <a:pt x="6251" y="16423"/>
                  <a:pt x="6266" y="16571"/>
                  <a:pt x="6300" y="16718"/>
                </a:cubicBezTo>
                <a:cubicBezTo>
                  <a:pt x="6308" y="16743"/>
                  <a:pt x="6317" y="16768"/>
                  <a:pt x="6325" y="16793"/>
                </a:cubicBezTo>
              </a:path>
              <a:path w="1836" h="1018">
                <a:moveTo>
                  <a:pt x="7020" y="16098"/>
                </a:moveTo>
                <a:cubicBezTo>
                  <a:pt x="7040" y="16315"/>
                  <a:pt x="7045" y="16525"/>
                  <a:pt x="7045" y="16743"/>
                </a:cubicBezTo>
              </a:path>
              <a:path w="1836" h="1018">
                <a:moveTo>
                  <a:pt x="6573" y="15850"/>
                </a:moveTo>
                <a:cubicBezTo>
                  <a:pt x="6573" y="15957"/>
                  <a:pt x="6571" y="16048"/>
                  <a:pt x="6598" y="1614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919240" y="5796000"/>
            <a:ext cx="206640" cy="150840"/>
          </a:xfrm>
          <a:custGeom>
            <a:avLst/>
            <a:gdLst/>
            <a:ahLst/>
            <a:rect l="l" t="t" r="r" b="b"/>
            <a:pathLst>
              <a:path w="572" h="423">
                <a:moveTo>
                  <a:pt x="8111" y="16098"/>
                </a:moveTo>
                <a:cubicBezTo>
                  <a:pt x="8196" y="16107"/>
                  <a:pt x="8275" y="16127"/>
                  <a:pt x="8359" y="16148"/>
                </a:cubicBezTo>
                <a:cubicBezTo>
                  <a:pt x="8348" y="16301"/>
                  <a:pt x="8252" y="16392"/>
                  <a:pt x="8136" y="16520"/>
                </a:cubicBezTo>
                <a:cubicBezTo>
                  <a:pt x="8320" y="16520"/>
                  <a:pt x="8499" y="16507"/>
                  <a:pt x="8682" y="1649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867200" y="3670200"/>
            <a:ext cx="249480" cy="187560"/>
          </a:xfrm>
          <a:custGeom>
            <a:avLst/>
            <a:gdLst/>
            <a:ahLst/>
            <a:rect l="l" t="t" r="r" b="b"/>
            <a:pathLst>
              <a:path w="695" h="522">
                <a:moveTo>
                  <a:pt x="13519" y="10641"/>
                </a:moveTo>
                <a:cubicBezTo>
                  <a:pt x="13572" y="10642"/>
                  <a:pt x="13746" y="10506"/>
                  <a:pt x="13841" y="10443"/>
                </a:cubicBezTo>
              </a:path>
              <a:path w="695" h="522">
                <a:moveTo>
                  <a:pt x="13841" y="10319"/>
                </a:moveTo>
                <a:cubicBezTo>
                  <a:pt x="13841" y="10385"/>
                  <a:pt x="13841" y="10451"/>
                  <a:pt x="13841" y="10517"/>
                </a:cubicBezTo>
                <a:cubicBezTo>
                  <a:pt x="13975" y="10458"/>
                  <a:pt x="14055" y="10394"/>
                  <a:pt x="14139" y="10269"/>
                </a:cubicBezTo>
              </a:path>
              <a:path w="695" h="522">
                <a:moveTo>
                  <a:pt x="14114" y="10195"/>
                </a:moveTo>
                <a:cubicBezTo>
                  <a:pt x="14095" y="10348"/>
                  <a:pt x="14107" y="10546"/>
                  <a:pt x="14188" y="10691"/>
                </a:cubicBezTo>
                <a:cubicBezTo>
                  <a:pt x="14213" y="10691"/>
                  <a:pt x="14221" y="10691"/>
                  <a:pt x="14213" y="1071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688000" y="3705120"/>
            <a:ext cx="285840" cy="152640"/>
          </a:xfrm>
          <a:custGeom>
            <a:avLst/>
            <a:gdLst/>
            <a:ahLst/>
            <a:rect l="l" t="t" r="r" b="b"/>
            <a:pathLst>
              <a:path w="794" h="423">
                <a:moveTo>
                  <a:pt x="15801" y="10616"/>
                </a:moveTo>
                <a:cubicBezTo>
                  <a:pt x="15881" y="10596"/>
                  <a:pt x="15959" y="10539"/>
                  <a:pt x="16049" y="10517"/>
                </a:cubicBezTo>
                <a:cubicBezTo>
                  <a:pt x="16057" y="10517"/>
                  <a:pt x="16065" y="10517"/>
                  <a:pt x="16073" y="10517"/>
                </a:cubicBezTo>
              </a:path>
              <a:path w="794" h="423">
                <a:moveTo>
                  <a:pt x="16222" y="10344"/>
                </a:moveTo>
                <a:cubicBezTo>
                  <a:pt x="16304" y="10317"/>
                  <a:pt x="16337" y="10306"/>
                  <a:pt x="16396" y="10294"/>
                </a:cubicBezTo>
                <a:cubicBezTo>
                  <a:pt x="16381" y="10461"/>
                  <a:pt x="16318" y="10594"/>
                  <a:pt x="16197" y="10716"/>
                </a:cubicBezTo>
                <a:cubicBezTo>
                  <a:pt x="16189" y="10716"/>
                  <a:pt x="16181" y="10716"/>
                  <a:pt x="16173" y="10716"/>
                </a:cubicBezTo>
                <a:cubicBezTo>
                  <a:pt x="16319" y="10663"/>
                  <a:pt x="16562" y="10549"/>
                  <a:pt x="16545" y="1049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875640" y="5197320"/>
            <a:ext cx="938160" cy="625680"/>
          </a:xfrm>
          <a:custGeom>
            <a:avLst/>
            <a:gdLst/>
            <a:ahLst/>
            <a:rect l="l" t="t" r="r" b="b"/>
            <a:pathLst>
              <a:path w="2605" h="1738">
                <a:moveTo>
                  <a:pt x="19100" y="15677"/>
                </a:moveTo>
                <a:cubicBezTo>
                  <a:pt x="19182" y="15847"/>
                  <a:pt x="19249" y="15993"/>
                  <a:pt x="19298" y="16173"/>
                </a:cubicBezTo>
              </a:path>
              <a:path w="2605" h="1738">
                <a:moveTo>
                  <a:pt x="21183" y="14486"/>
                </a:moveTo>
                <a:cubicBezTo>
                  <a:pt x="21417" y="14424"/>
                  <a:pt x="21622" y="14481"/>
                  <a:pt x="21704" y="14759"/>
                </a:cubicBezTo>
                <a:cubicBezTo>
                  <a:pt x="21748" y="14907"/>
                  <a:pt x="21671" y="15013"/>
                  <a:pt x="21605" y="1513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705720" y="5688000"/>
            <a:ext cx="206280" cy="71280"/>
          </a:xfrm>
          <a:custGeom>
            <a:avLst/>
            <a:gdLst/>
            <a:ahLst/>
            <a:rect l="l" t="t" r="r" b="b"/>
            <a:pathLst>
              <a:path w="572" h="199">
                <a:moveTo>
                  <a:pt x="18628" y="15999"/>
                </a:moveTo>
                <a:cubicBezTo>
                  <a:pt x="18705" y="15999"/>
                  <a:pt x="18755" y="15970"/>
                  <a:pt x="18827" y="15949"/>
                </a:cubicBezTo>
              </a:path>
              <a:path w="572" h="199">
                <a:moveTo>
                  <a:pt x="18876" y="15900"/>
                </a:moveTo>
                <a:cubicBezTo>
                  <a:pt x="18942" y="15926"/>
                  <a:pt x="18935" y="15936"/>
                  <a:pt x="18951" y="15999"/>
                </a:cubicBezTo>
                <a:cubicBezTo>
                  <a:pt x="19066" y="15980"/>
                  <a:pt x="19084" y="15908"/>
                  <a:pt x="19174" y="15850"/>
                </a:cubicBezTo>
                <a:cubicBezTo>
                  <a:pt x="19182" y="15850"/>
                  <a:pt x="19191" y="15850"/>
                  <a:pt x="19199" y="15850"/>
                </a:cubicBezTo>
              </a:path>
              <a:path w="572" h="199">
                <a:moveTo>
                  <a:pt x="19000" y="15850"/>
                </a:moveTo>
                <a:cubicBezTo>
                  <a:pt x="18976" y="15825"/>
                  <a:pt x="18968" y="15817"/>
                  <a:pt x="18951" y="15801"/>
                </a:cubicBezTo>
                <a:cubicBezTo>
                  <a:pt x="18962" y="15842"/>
                  <a:pt x="18969" y="15852"/>
                  <a:pt x="18976" y="15900"/>
                </a:cubicBezTo>
              </a:path>
            </a:pathLst>
          </a:custGeom>
          <a:noFill/>
          <a:ln cap="rnd" w="34920">
            <a:solidFill>
              <a:srgbClr val="ff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0" name=""/>
          <p:cNvSpPr/>
          <p:nvPr/>
        </p:nvSpPr>
        <p:spPr>
          <a:xfrm>
            <a:off x="7205760" y="4973760"/>
            <a:ext cx="465120" cy="642960"/>
          </a:xfrm>
          <a:custGeom>
            <a:avLst/>
            <a:gdLst/>
            <a:ahLst/>
            <a:rect l="l" t="t" r="r" b="b"/>
            <a:pathLst>
              <a:path w="1291" h="1787">
                <a:moveTo>
                  <a:pt x="20811" y="14337"/>
                </a:moveTo>
                <a:cubicBezTo>
                  <a:pt x="20833" y="14330"/>
                  <a:pt x="20856" y="14299"/>
                  <a:pt x="20836" y="14263"/>
                </a:cubicBezTo>
                <a:cubicBezTo>
                  <a:pt x="20828" y="14255"/>
                  <a:pt x="20819" y="14246"/>
                  <a:pt x="20811" y="14238"/>
                </a:cubicBezTo>
                <a:cubicBezTo>
                  <a:pt x="20809" y="14251"/>
                  <a:pt x="20771" y="14436"/>
                  <a:pt x="20811" y="14436"/>
                </a:cubicBezTo>
                <a:cubicBezTo>
                  <a:pt x="20897" y="14437"/>
                  <a:pt x="20941" y="14221"/>
                  <a:pt x="20836" y="14213"/>
                </a:cubicBezTo>
                <a:cubicBezTo>
                  <a:pt x="20707" y="14203"/>
                  <a:pt x="20589" y="14414"/>
                  <a:pt x="20687" y="14511"/>
                </a:cubicBezTo>
                <a:cubicBezTo>
                  <a:pt x="20769" y="14593"/>
                  <a:pt x="20828" y="14380"/>
                  <a:pt x="20836" y="14362"/>
                </a:cubicBezTo>
                <a:cubicBezTo>
                  <a:pt x="20743" y="14249"/>
                  <a:pt x="20679" y="14358"/>
                  <a:pt x="20687" y="14486"/>
                </a:cubicBezTo>
                <a:cubicBezTo>
                  <a:pt x="20699" y="14672"/>
                  <a:pt x="20911" y="14469"/>
                  <a:pt x="20861" y="14337"/>
                </a:cubicBezTo>
                <a:cubicBezTo>
                  <a:pt x="20813" y="14313"/>
                  <a:pt x="20799" y="14305"/>
                  <a:pt x="20762" y="14312"/>
                </a:cubicBezTo>
                <a:cubicBezTo>
                  <a:pt x="20729" y="14404"/>
                  <a:pt x="20683" y="14498"/>
                  <a:pt x="20811" y="14461"/>
                </a:cubicBezTo>
              </a:path>
              <a:path w="1291" h="1787">
                <a:moveTo>
                  <a:pt x="20067" y="15032"/>
                </a:moveTo>
                <a:cubicBezTo>
                  <a:pt x="20067" y="15024"/>
                  <a:pt x="20067" y="15015"/>
                  <a:pt x="20067" y="15007"/>
                </a:cubicBezTo>
                <a:cubicBezTo>
                  <a:pt x="20022" y="15130"/>
                  <a:pt x="19964" y="15391"/>
                  <a:pt x="20042" y="15528"/>
                </a:cubicBezTo>
                <a:cubicBezTo>
                  <a:pt x="20077" y="15589"/>
                  <a:pt x="20138" y="15577"/>
                  <a:pt x="20191" y="15577"/>
                </a:cubicBezTo>
              </a:path>
              <a:path w="1291" h="1787">
                <a:moveTo>
                  <a:pt x="20290" y="15056"/>
                </a:moveTo>
                <a:cubicBezTo>
                  <a:pt x="20326" y="14968"/>
                  <a:pt x="20312" y="14977"/>
                  <a:pt x="20389" y="14932"/>
                </a:cubicBezTo>
                <a:cubicBezTo>
                  <a:pt x="20426" y="15079"/>
                  <a:pt x="20405" y="15212"/>
                  <a:pt x="20340" y="15354"/>
                </a:cubicBezTo>
                <a:cubicBezTo>
                  <a:pt x="20317" y="15377"/>
                  <a:pt x="20309" y="15381"/>
                  <a:pt x="20315" y="15404"/>
                </a:cubicBezTo>
                <a:cubicBezTo>
                  <a:pt x="20370" y="15390"/>
                  <a:pt x="20419" y="15344"/>
                  <a:pt x="20464" y="15304"/>
                </a:cubicBezTo>
                <a:cubicBezTo>
                  <a:pt x="20486" y="15282"/>
                  <a:pt x="20491" y="15274"/>
                  <a:pt x="20513" y="15280"/>
                </a:cubicBezTo>
              </a:path>
              <a:path w="1291" h="1787">
                <a:moveTo>
                  <a:pt x="20712" y="15205"/>
                </a:moveTo>
                <a:cubicBezTo>
                  <a:pt x="20746" y="15303"/>
                  <a:pt x="20853" y="15509"/>
                  <a:pt x="20762" y="15602"/>
                </a:cubicBezTo>
                <a:cubicBezTo>
                  <a:pt x="20762" y="15594"/>
                  <a:pt x="20762" y="15585"/>
                  <a:pt x="20762" y="15577"/>
                </a:cubicBezTo>
              </a:path>
              <a:path w="1291" h="1787">
                <a:moveTo>
                  <a:pt x="20836" y="15056"/>
                </a:moveTo>
                <a:cubicBezTo>
                  <a:pt x="20892" y="15056"/>
                  <a:pt x="20908" y="15022"/>
                  <a:pt x="20935" y="15007"/>
                </a:cubicBezTo>
                <a:cubicBezTo>
                  <a:pt x="20943" y="15007"/>
                  <a:pt x="20952" y="15007"/>
                  <a:pt x="20960" y="15007"/>
                </a:cubicBezTo>
              </a:path>
              <a:path w="1291" h="1787">
                <a:moveTo>
                  <a:pt x="21109" y="14734"/>
                </a:moveTo>
                <a:cubicBezTo>
                  <a:pt x="21118" y="14697"/>
                  <a:pt x="21137" y="14672"/>
                  <a:pt x="21158" y="14635"/>
                </a:cubicBezTo>
                <a:cubicBezTo>
                  <a:pt x="21282" y="14670"/>
                  <a:pt x="21213" y="14740"/>
                  <a:pt x="21158" y="14833"/>
                </a:cubicBezTo>
                <a:cubicBezTo>
                  <a:pt x="21185" y="14824"/>
                  <a:pt x="21238" y="14771"/>
                  <a:pt x="21282" y="14833"/>
                </a:cubicBezTo>
                <a:cubicBezTo>
                  <a:pt x="21363" y="14946"/>
                  <a:pt x="21224" y="15013"/>
                  <a:pt x="21183" y="15081"/>
                </a:cubicBezTo>
              </a:path>
              <a:path w="1291" h="1787">
                <a:moveTo>
                  <a:pt x="20960" y="13915"/>
                </a:moveTo>
                <a:cubicBezTo>
                  <a:pt x="20960" y="13998"/>
                  <a:pt x="20960" y="14080"/>
                  <a:pt x="20960" y="14163"/>
                </a:cubicBezTo>
              </a:path>
              <a:path w="1291" h="1787">
                <a:moveTo>
                  <a:pt x="20861" y="13816"/>
                </a:moveTo>
                <a:cubicBezTo>
                  <a:pt x="21075" y="13845"/>
                  <a:pt x="21268" y="13862"/>
                  <a:pt x="21233" y="14114"/>
                </a:cubicBezTo>
                <a:cubicBezTo>
                  <a:pt x="21221" y="14203"/>
                  <a:pt x="21122" y="14163"/>
                  <a:pt x="21059" y="1416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8099280" y="5018040"/>
            <a:ext cx="125640" cy="125640"/>
          </a:xfrm>
          <a:custGeom>
            <a:avLst/>
            <a:gdLst/>
            <a:ahLst/>
            <a:rect l="l" t="t" r="r" b="b"/>
            <a:pathLst>
              <a:path w="348" h="349">
                <a:moveTo>
                  <a:pt x="22696" y="13990"/>
                </a:moveTo>
                <a:cubicBezTo>
                  <a:pt x="22696" y="14069"/>
                  <a:pt x="22707" y="14010"/>
                  <a:pt x="22647" y="13965"/>
                </a:cubicBezTo>
                <a:cubicBezTo>
                  <a:pt x="22498" y="13853"/>
                  <a:pt x="22457" y="14184"/>
                  <a:pt x="22547" y="14263"/>
                </a:cubicBezTo>
                <a:cubicBezTo>
                  <a:pt x="22651" y="14354"/>
                  <a:pt x="22770" y="14243"/>
                  <a:pt x="22845" y="1418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535800" y="3544920"/>
            <a:ext cx="171360" cy="187200"/>
          </a:xfrm>
          <a:custGeom>
            <a:avLst/>
            <a:gdLst/>
            <a:ahLst/>
            <a:rect l="l" t="t" r="r" b="b"/>
            <a:pathLst>
              <a:path w="472" h="522">
                <a:moveTo>
                  <a:pt x="18281" y="9922"/>
                </a:moveTo>
                <a:cubicBezTo>
                  <a:pt x="18218" y="10000"/>
                  <a:pt x="18157" y="10088"/>
                  <a:pt x="18157" y="10195"/>
                </a:cubicBezTo>
                <a:cubicBezTo>
                  <a:pt x="18180" y="10307"/>
                  <a:pt x="18177" y="10341"/>
                  <a:pt x="18256" y="10368"/>
                </a:cubicBezTo>
                <a:cubicBezTo>
                  <a:pt x="18468" y="10328"/>
                  <a:pt x="18621" y="10253"/>
                  <a:pt x="18628" y="9996"/>
                </a:cubicBezTo>
                <a:cubicBezTo>
                  <a:pt x="18633" y="9794"/>
                  <a:pt x="18371" y="9818"/>
                  <a:pt x="18256" y="9897"/>
                </a:cubicBezTo>
                <a:cubicBezTo>
                  <a:pt x="18192" y="9983"/>
                  <a:pt x="18167" y="10000"/>
                  <a:pt x="18182" y="1007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286080" y="3759120"/>
            <a:ext cx="536760" cy="741600"/>
          </a:xfrm>
          <a:custGeom>
            <a:avLst/>
            <a:gdLst/>
            <a:ahLst/>
            <a:rect l="l" t="t" r="r" b="b"/>
            <a:pathLst>
              <a:path w="1489" h="2060">
                <a:moveTo>
                  <a:pt x="9823" y="10641"/>
                </a:moveTo>
                <a:cubicBezTo>
                  <a:pt x="9810" y="10735"/>
                  <a:pt x="9767" y="10803"/>
                  <a:pt x="9748" y="10889"/>
                </a:cubicBezTo>
                <a:cubicBezTo>
                  <a:pt x="9876" y="10889"/>
                  <a:pt x="9994" y="10859"/>
                  <a:pt x="10120" y="10840"/>
                </a:cubicBezTo>
                <a:cubicBezTo>
                  <a:pt x="10128" y="10840"/>
                  <a:pt x="10137" y="10840"/>
                  <a:pt x="10145" y="10840"/>
                </a:cubicBezTo>
              </a:path>
              <a:path w="1489" h="2060">
                <a:moveTo>
                  <a:pt x="10170" y="10443"/>
                </a:moveTo>
                <a:cubicBezTo>
                  <a:pt x="10150" y="10625"/>
                  <a:pt x="10108" y="10809"/>
                  <a:pt x="10071" y="10988"/>
                </a:cubicBezTo>
                <a:cubicBezTo>
                  <a:pt x="10048" y="11099"/>
                  <a:pt x="10040" y="11081"/>
                  <a:pt x="10021" y="11137"/>
                </a:cubicBezTo>
              </a:path>
              <a:path w="1489" h="2060">
                <a:moveTo>
                  <a:pt x="9153" y="11435"/>
                </a:moveTo>
                <a:cubicBezTo>
                  <a:pt x="9236" y="11402"/>
                  <a:pt x="9329" y="11396"/>
                  <a:pt x="9401" y="11361"/>
                </a:cubicBezTo>
              </a:path>
              <a:path w="1489" h="2060">
                <a:moveTo>
                  <a:pt x="9748" y="11336"/>
                </a:moveTo>
                <a:cubicBezTo>
                  <a:pt x="9828" y="11255"/>
                  <a:pt x="9930" y="11241"/>
                  <a:pt x="10046" y="11261"/>
                </a:cubicBezTo>
                <a:cubicBezTo>
                  <a:pt x="10008" y="11437"/>
                  <a:pt x="9915" y="11542"/>
                  <a:pt x="9748" y="11633"/>
                </a:cubicBezTo>
                <a:cubicBezTo>
                  <a:pt x="9740" y="11633"/>
                  <a:pt x="9731" y="11633"/>
                  <a:pt x="9723" y="11633"/>
                </a:cubicBezTo>
                <a:cubicBezTo>
                  <a:pt x="9865" y="11633"/>
                  <a:pt x="9983" y="11576"/>
                  <a:pt x="10120" y="11559"/>
                </a:cubicBezTo>
                <a:cubicBezTo>
                  <a:pt x="10177" y="11552"/>
                  <a:pt x="10255" y="11559"/>
                  <a:pt x="10319" y="11559"/>
                </a:cubicBezTo>
              </a:path>
              <a:path w="1489" h="2060">
                <a:moveTo>
                  <a:pt x="9128" y="11832"/>
                </a:moveTo>
                <a:cubicBezTo>
                  <a:pt x="9444" y="11803"/>
                  <a:pt x="9754" y="11759"/>
                  <a:pt x="10071" y="11733"/>
                </a:cubicBezTo>
                <a:cubicBezTo>
                  <a:pt x="10257" y="11718"/>
                  <a:pt x="10431" y="11708"/>
                  <a:pt x="10616" y="11708"/>
                </a:cubicBezTo>
              </a:path>
              <a:path w="1489" h="2060">
                <a:moveTo>
                  <a:pt x="9773" y="12080"/>
                </a:moveTo>
                <a:cubicBezTo>
                  <a:pt x="9857" y="12066"/>
                  <a:pt x="9929" y="11996"/>
                  <a:pt x="10046" y="11981"/>
                </a:cubicBezTo>
                <a:cubicBezTo>
                  <a:pt x="10079" y="11981"/>
                  <a:pt x="10112" y="11981"/>
                  <a:pt x="10145" y="11981"/>
                </a:cubicBezTo>
                <a:cubicBezTo>
                  <a:pt x="10122" y="12204"/>
                  <a:pt x="9958" y="12241"/>
                  <a:pt x="9798" y="12378"/>
                </a:cubicBezTo>
                <a:cubicBezTo>
                  <a:pt x="9724" y="12452"/>
                  <a:pt x="9715" y="12461"/>
                  <a:pt x="9674" y="12502"/>
                </a:cubicBezTo>
                <a:cubicBezTo>
                  <a:pt x="9809" y="12487"/>
                  <a:pt x="9934" y="12427"/>
                  <a:pt x="10071" y="12402"/>
                </a:cubicBezTo>
                <a:cubicBezTo>
                  <a:pt x="10182" y="12381"/>
                  <a:pt x="10282" y="12378"/>
                  <a:pt x="10393" y="1237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680"/>
            <a:ext cx="84582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find the distance between two points on a coordinate plane.</a:t>
            </a:r>
            <a:br>
              <a:rPr sz="4000"/>
            </a:br>
            <a:endParaRPr b="0" lang="en-US" sz="2000" spc="-1" strike="noStrike">
              <a:solidFill>
                <a:srgbClr val="000000"/>
              </a:solidFill>
              <a:latin typeface="Arial"/>
            </a:endParaRPr>
          </a:p>
        </p:txBody>
      </p:sp>
      <p:sp>
        <p:nvSpPr>
          <p:cNvPr id="125" name="PlaceHolder 2"/>
          <p:cNvSpPr>
            <a:spLocks noGrp="1"/>
          </p:cNvSpPr>
          <p:nvPr>
            <p:ph/>
          </p:nvPr>
        </p:nvSpPr>
        <p:spPr>
          <a:xfrm>
            <a:off x="457200" y="914400"/>
            <a:ext cx="8229600" cy="5562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find the length of the </a:t>
            </a:r>
            <a:r>
              <a:rPr b="1" lang="en-US" sz="2400" spc="-1" strike="noStrike">
                <a:solidFill>
                  <a:srgbClr val="000000"/>
                </a:solidFill>
                <a:latin typeface="Arial"/>
              </a:rPr>
              <a:t>line that remains in one quadrant</a:t>
            </a:r>
            <a:r>
              <a:rPr b="0" lang="en-US" sz="2400" spc="-1" strike="noStrike">
                <a:solidFill>
                  <a:srgbClr val="000000"/>
                </a:solidFill>
                <a:latin typeface="Arial"/>
              </a:rPr>
              <a:t>, subtract the absolute values of the coordinate that is different in order to find the distance between the two points.</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ould be the length of a line with end points of…</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8) and (-5, 4)</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5, 6) and (3.25, 6)</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7) and (12, -18)</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313920" y="5715000"/>
            <a:ext cx="85780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do we subtract the absolute values instead of subtracting the actual numb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268280" y="3606840"/>
            <a:ext cx="6973920" cy="1287360"/>
          </a:xfrm>
          <a:custGeom>
            <a:avLst/>
            <a:gdLst/>
            <a:ahLst/>
            <a:rect l="l" t="t" r="r" b="b"/>
            <a:pathLst>
              <a:path w="19374" h="3573">
                <a:moveTo>
                  <a:pt x="9401" y="10368"/>
                </a:moveTo>
                <a:cubicBezTo>
                  <a:pt x="9499" y="10333"/>
                  <a:pt x="9596" y="10315"/>
                  <a:pt x="9699" y="10294"/>
                </a:cubicBezTo>
              </a:path>
              <a:path w="19374" h="3573">
                <a:moveTo>
                  <a:pt x="9525" y="10443"/>
                </a:moveTo>
                <a:cubicBezTo>
                  <a:pt x="9620" y="10414"/>
                  <a:pt x="9738" y="10386"/>
                  <a:pt x="9823" y="10344"/>
                </a:cubicBezTo>
              </a:path>
              <a:path w="19374" h="3573">
                <a:moveTo>
                  <a:pt x="10592" y="10071"/>
                </a:moveTo>
                <a:cubicBezTo>
                  <a:pt x="10592" y="10063"/>
                  <a:pt x="10592" y="10054"/>
                  <a:pt x="10592" y="10046"/>
                </a:cubicBezTo>
              </a:path>
              <a:path w="19374" h="3573">
                <a:moveTo>
                  <a:pt x="10592" y="10046"/>
                </a:moveTo>
                <a:lnTo>
                  <a:pt x="10592" y="10046"/>
                </a:lnTo>
              </a:path>
              <a:path w="19374" h="3573">
                <a:moveTo>
                  <a:pt x="10616" y="10021"/>
                </a:moveTo>
                <a:lnTo>
                  <a:pt x="10616" y="10021"/>
                </a:lnTo>
              </a:path>
              <a:path w="19374" h="3573">
                <a:moveTo>
                  <a:pt x="12452" y="10220"/>
                </a:moveTo>
                <a:cubicBezTo>
                  <a:pt x="12444" y="10220"/>
                  <a:pt x="12435" y="10220"/>
                  <a:pt x="12427" y="10220"/>
                </a:cubicBezTo>
              </a:path>
              <a:path w="19374" h="3573">
                <a:moveTo>
                  <a:pt x="12427" y="10220"/>
                </a:moveTo>
                <a:lnTo>
                  <a:pt x="12427" y="10220"/>
                </a:lnTo>
              </a:path>
              <a:path w="19374" h="3573">
                <a:moveTo>
                  <a:pt x="12774" y="10195"/>
                </a:moveTo>
                <a:cubicBezTo>
                  <a:pt x="12813" y="10354"/>
                  <a:pt x="12855" y="10508"/>
                  <a:pt x="12898" y="10666"/>
                </a:cubicBezTo>
              </a:path>
              <a:path w="19374" h="3573">
                <a:moveTo>
                  <a:pt x="3597" y="11559"/>
                </a:moveTo>
                <a:cubicBezTo>
                  <a:pt x="3580" y="11724"/>
                  <a:pt x="3560" y="11893"/>
                  <a:pt x="3522" y="12055"/>
                </a:cubicBezTo>
                <a:cubicBezTo>
                  <a:pt x="3522" y="12047"/>
                  <a:pt x="3522" y="12038"/>
                  <a:pt x="3522" y="12030"/>
                </a:cubicBezTo>
              </a:path>
              <a:path w="19374" h="3573">
                <a:moveTo>
                  <a:pt x="4713" y="11559"/>
                </a:moveTo>
                <a:cubicBezTo>
                  <a:pt x="4786" y="11514"/>
                  <a:pt x="4859" y="11474"/>
                  <a:pt x="4936" y="11435"/>
                </a:cubicBezTo>
              </a:path>
              <a:path w="19374" h="3573">
                <a:moveTo>
                  <a:pt x="8086" y="12030"/>
                </a:moveTo>
                <a:cubicBezTo>
                  <a:pt x="8062" y="12030"/>
                  <a:pt x="8054" y="12030"/>
                  <a:pt x="8062" y="12055"/>
                </a:cubicBezTo>
              </a:path>
              <a:path w="19374" h="3573">
                <a:moveTo>
                  <a:pt x="10269" y="11782"/>
                </a:moveTo>
                <a:cubicBezTo>
                  <a:pt x="10353" y="11765"/>
                  <a:pt x="10451" y="11708"/>
                  <a:pt x="10542" y="11733"/>
                </a:cubicBezTo>
                <a:cubicBezTo>
                  <a:pt x="10542" y="11741"/>
                  <a:pt x="10542" y="11749"/>
                  <a:pt x="10542" y="11757"/>
                </a:cubicBezTo>
              </a:path>
              <a:path w="19374" h="3573">
                <a:moveTo>
                  <a:pt x="10368" y="12080"/>
                </a:moveTo>
                <a:cubicBezTo>
                  <a:pt x="10462" y="12058"/>
                  <a:pt x="10608" y="11996"/>
                  <a:pt x="10666" y="12055"/>
                </a:cubicBezTo>
              </a:path>
              <a:path w="19374" h="3573">
                <a:moveTo>
                  <a:pt x="22895" y="13593"/>
                </a:moveTo>
                <a:cubicBezTo>
                  <a:pt x="22870" y="13593"/>
                  <a:pt x="22862" y="13593"/>
                  <a:pt x="22870" y="1356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204920" y="4456080"/>
            <a:ext cx="9360" cy="214200"/>
          </a:xfrm>
          <a:custGeom>
            <a:avLst/>
            <a:gdLst/>
            <a:ahLst/>
            <a:rect l="l" t="t" r="r" b="b"/>
            <a:pathLst>
              <a:path w="25" h="596">
                <a:moveTo>
                  <a:pt x="3349" y="12427"/>
                </a:moveTo>
                <a:cubicBezTo>
                  <a:pt x="3371" y="12405"/>
                  <a:pt x="3379" y="12400"/>
                  <a:pt x="3373" y="12378"/>
                </a:cubicBezTo>
                <a:cubicBezTo>
                  <a:pt x="3373" y="12563"/>
                  <a:pt x="3359" y="12743"/>
                  <a:pt x="3373" y="12923"/>
                </a:cubicBezTo>
                <a:cubicBezTo>
                  <a:pt x="3373" y="12948"/>
                  <a:pt x="3373" y="12956"/>
                  <a:pt x="3373" y="1297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581120" y="3446640"/>
            <a:ext cx="187200" cy="1277640"/>
          </a:xfrm>
          <a:custGeom>
            <a:avLst/>
            <a:gdLst/>
            <a:ahLst/>
            <a:rect l="l" t="t" r="r" b="b"/>
            <a:pathLst>
              <a:path w="522" h="3548">
                <a:moveTo>
                  <a:pt x="4390" y="10319"/>
                </a:moveTo>
                <a:cubicBezTo>
                  <a:pt x="4415" y="10445"/>
                  <a:pt x="4437" y="10588"/>
                  <a:pt x="4465" y="10716"/>
                </a:cubicBezTo>
                <a:cubicBezTo>
                  <a:pt x="4494" y="10848"/>
                  <a:pt x="4529" y="10982"/>
                  <a:pt x="4564" y="11112"/>
                </a:cubicBezTo>
              </a:path>
              <a:path w="522" h="3548">
                <a:moveTo>
                  <a:pt x="4862" y="10344"/>
                </a:moveTo>
                <a:cubicBezTo>
                  <a:pt x="4862" y="10578"/>
                  <a:pt x="4873" y="10806"/>
                  <a:pt x="4887" y="11038"/>
                </a:cubicBezTo>
                <a:cubicBezTo>
                  <a:pt x="4887" y="11116"/>
                  <a:pt x="4872" y="11133"/>
                  <a:pt x="4911" y="11162"/>
                </a:cubicBezTo>
              </a:path>
              <a:path w="522" h="3548">
                <a:moveTo>
                  <a:pt x="4738" y="9575"/>
                </a:moveTo>
                <a:cubicBezTo>
                  <a:pt x="4656" y="9636"/>
                  <a:pt x="4578" y="9673"/>
                  <a:pt x="4564" y="9773"/>
                </a:cubicBezTo>
                <a:cubicBezTo>
                  <a:pt x="4655" y="9829"/>
                  <a:pt x="4866" y="9898"/>
                  <a:pt x="4762" y="10046"/>
                </a:cubicBezTo>
                <a:cubicBezTo>
                  <a:pt x="4676" y="10110"/>
                  <a:pt x="4660" y="10135"/>
                  <a:pt x="4589" y="10120"/>
                </a:cubicBezTo>
                <a:cubicBezTo>
                  <a:pt x="4589" y="9963"/>
                  <a:pt x="4668" y="9858"/>
                  <a:pt x="4688" y="9699"/>
                </a:cubicBezTo>
                <a:cubicBezTo>
                  <a:pt x="4688" y="9666"/>
                  <a:pt x="4688" y="9649"/>
                  <a:pt x="4688" y="9624"/>
                </a:cubicBezTo>
              </a:path>
              <a:path w="522" h="3548">
                <a:moveTo>
                  <a:pt x="4887" y="12427"/>
                </a:moveTo>
                <a:cubicBezTo>
                  <a:pt x="4869" y="12626"/>
                  <a:pt x="4812" y="12824"/>
                  <a:pt x="4862" y="13022"/>
                </a:cubicBezTo>
                <a:cubicBezTo>
                  <a:pt x="4878" y="13055"/>
                  <a:pt x="4895" y="13089"/>
                  <a:pt x="4911" y="1312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178000" y="3510000"/>
            <a:ext cx="189000" cy="696960"/>
          </a:xfrm>
          <a:custGeom>
            <a:avLst/>
            <a:gdLst/>
            <a:ahLst/>
            <a:rect l="l" t="t" r="r" b="b"/>
            <a:pathLst>
              <a:path w="522" h="1936">
                <a:moveTo>
                  <a:pt x="6350" y="9773"/>
                </a:moveTo>
                <a:cubicBezTo>
                  <a:pt x="6402" y="9770"/>
                  <a:pt x="6559" y="9730"/>
                  <a:pt x="6573" y="9773"/>
                </a:cubicBezTo>
              </a:path>
              <a:path w="522" h="1936">
                <a:moveTo>
                  <a:pt x="6102" y="11683"/>
                </a:moveTo>
                <a:cubicBezTo>
                  <a:pt x="6077" y="11683"/>
                  <a:pt x="6069" y="11683"/>
                  <a:pt x="6052" y="11683"/>
                </a:cubicBezTo>
                <a:cubicBezTo>
                  <a:pt x="6170" y="11673"/>
                  <a:pt x="6281" y="11658"/>
                  <a:pt x="6400" y="11658"/>
                </a:cubicBezTo>
                <a:cubicBezTo>
                  <a:pt x="6408" y="11658"/>
                  <a:pt x="6416" y="11658"/>
                  <a:pt x="6424" y="1165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705040" y="3375000"/>
            <a:ext cx="474840" cy="1339920"/>
          </a:xfrm>
          <a:custGeom>
            <a:avLst/>
            <a:gdLst/>
            <a:ahLst/>
            <a:rect l="l" t="t" r="r" b="b"/>
            <a:pathLst>
              <a:path w="1315" h="3722">
                <a:moveTo>
                  <a:pt x="7640" y="10319"/>
                </a:moveTo>
                <a:cubicBezTo>
                  <a:pt x="7662" y="10532"/>
                  <a:pt x="7716" y="10753"/>
                  <a:pt x="7764" y="10964"/>
                </a:cubicBezTo>
                <a:cubicBezTo>
                  <a:pt x="7783" y="11021"/>
                  <a:pt x="7792" y="11028"/>
                  <a:pt x="7789" y="11063"/>
                </a:cubicBezTo>
              </a:path>
              <a:path w="1315" h="3722">
                <a:moveTo>
                  <a:pt x="8334" y="10319"/>
                </a:moveTo>
                <a:cubicBezTo>
                  <a:pt x="8304" y="10443"/>
                  <a:pt x="8347" y="10557"/>
                  <a:pt x="8384" y="10691"/>
                </a:cubicBezTo>
                <a:cubicBezTo>
                  <a:pt x="8413" y="10796"/>
                  <a:pt x="8457" y="10909"/>
                  <a:pt x="8483" y="11013"/>
                </a:cubicBezTo>
              </a:path>
              <a:path w="1315" h="3722">
                <a:moveTo>
                  <a:pt x="7739" y="9525"/>
                </a:moveTo>
                <a:cubicBezTo>
                  <a:pt x="7739" y="9587"/>
                  <a:pt x="7695" y="9766"/>
                  <a:pt x="7789" y="9773"/>
                </a:cubicBezTo>
                <a:cubicBezTo>
                  <a:pt x="7854" y="9778"/>
                  <a:pt x="7936" y="9732"/>
                  <a:pt x="7987" y="9699"/>
                </a:cubicBezTo>
              </a:path>
              <a:path w="1315" h="3722">
                <a:moveTo>
                  <a:pt x="7913" y="9376"/>
                </a:moveTo>
                <a:cubicBezTo>
                  <a:pt x="7950" y="9598"/>
                  <a:pt x="7980" y="9823"/>
                  <a:pt x="8012" y="10046"/>
                </a:cubicBezTo>
                <a:cubicBezTo>
                  <a:pt x="8012" y="10054"/>
                  <a:pt x="8012" y="10063"/>
                  <a:pt x="8012" y="10071"/>
                </a:cubicBezTo>
              </a:path>
              <a:path w="1315" h="3722">
                <a:moveTo>
                  <a:pt x="7565" y="12303"/>
                </a:moveTo>
                <a:cubicBezTo>
                  <a:pt x="7615" y="12303"/>
                  <a:pt x="7551" y="12765"/>
                  <a:pt x="7541" y="12849"/>
                </a:cubicBezTo>
                <a:cubicBezTo>
                  <a:pt x="7521" y="12990"/>
                  <a:pt x="7502" y="13018"/>
                  <a:pt x="7541" y="13097"/>
                </a:cubicBezTo>
              </a:path>
              <a:path w="1315" h="3722">
                <a:moveTo>
                  <a:pt x="7541" y="11733"/>
                </a:moveTo>
                <a:cubicBezTo>
                  <a:pt x="7548" y="11695"/>
                  <a:pt x="7643" y="11560"/>
                  <a:pt x="7665" y="11658"/>
                </a:cubicBezTo>
                <a:cubicBezTo>
                  <a:pt x="7665" y="11778"/>
                  <a:pt x="7667" y="11815"/>
                  <a:pt x="7615" y="11881"/>
                </a:cubicBezTo>
                <a:cubicBezTo>
                  <a:pt x="7607" y="11889"/>
                  <a:pt x="7598" y="11898"/>
                  <a:pt x="7590" y="11906"/>
                </a:cubicBezTo>
                <a:cubicBezTo>
                  <a:pt x="7663" y="11891"/>
                  <a:pt x="7828" y="11847"/>
                  <a:pt x="7789" y="12005"/>
                </a:cubicBezTo>
                <a:cubicBezTo>
                  <a:pt x="7764" y="12107"/>
                  <a:pt x="7625" y="12189"/>
                  <a:pt x="7565" y="12129"/>
                </a:cubicBezTo>
              </a:path>
              <a:path w="1315" h="3722">
                <a:moveTo>
                  <a:pt x="8260" y="11757"/>
                </a:moveTo>
                <a:cubicBezTo>
                  <a:pt x="8398" y="11721"/>
                  <a:pt x="8564" y="11736"/>
                  <a:pt x="8483" y="11931"/>
                </a:cubicBezTo>
                <a:cubicBezTo>
                  <a:pt x="8429" y="12060"/>
                  <a:pt x="8364" y="12051"/>
                  <a:pt x="8260" y="12030"/>
                </a:cubicBezTo>
                <a:cubicBezTo>
                  <a:pt x="8350" y="11941"/>
                  <a:pt x="8398" y="11938"/>
                  <a:pt x="8483" y="12030"/>
                </a:cubicBezTo>
                <a:cubicBezTo>
                  <a:pt x="8491" y="12038"/>
                  <a:pt x="8500" y="12047"/>
                  <a:pt x="8508" y="12055"/>
                </a:cubicBezTo>
              </a:path>
              <a:path w="1315" h="3722">
                <a:moveTo>
                  <a:pt x="8582" y="11782"/>
                </a:moveTo>
                <a:cubicBezTo>
                  <a:pt x="8672" y="11827"/>
                  <a:pt x="8846" y="11865"/>
                  <a:pt x="8806" y="12005"/>
                </a:cubicBezTo>
                <a:cubicBezTo>
                  <a:pt x="8765" y="12046"/>
                  <a:pt x="8735" y="12049"/>
                  <a:pt x="8682" y="12005"/>
                </a:cubicBezTo>
              </a:path>
              <a:path w="1315" h="3722">
                <a:moveTo>
                  <a:pt x="8731" y="11584"/>
                </a:moveTo>
                <a:cubicBezTo>
                  <a:pt x="8788" y="11544"/>
                  <a:pt x="8815" y="11502"/>
                  <a:pt x="8830" y="1153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983040" y="4259160"/>
            <a:ext cx="231840" cy="250920"/>
          </a:xfrm>
          <a:custGeom>
            <a:avLst/>
            <a:gdLst/>
            <a:ahLst/>
            <a:rect l="l" t="t" r="r" b="b"/>
            <a:pathLst>
              <a:path w="646" h="695">
                <a:moveTo>
                  <a:pt x="11162" y="11857"/>
                </a:moveTo>
                <a:cubicBezTo>
                  <a:pt x="11127" y="11879"/>
                  <a:pt x="11153" y="11982"/>
                  <a:pt x="11137" y="12154"/>
                </a:cubicBezTo>
                <a:cubicBezTo>
                  <a:pt x="11124" y="12299"/>
                  <a:pt x="11092" y="12619"/>
                  <a:pt x="11063" y="12477"/>
                </a:cubicBezTo>
              </a:path>
              <a:path w="646" h="695">
                <a:moveTo>
                  <a:pt x="11708" y="11832"/>
                </a:moveTo>
                <a:cubicBezTo>
                  <a:pt x="11606" y="11900"/>
                  <a:pt x="11564" y="11940"/>
                  <a:pt x="11485" y="11906"/>
                </a:cubicBezTo>
                <a:cubicBezTo>
                  <a:pt x="11451" y="11891"/>
                  <a:pt x="11406" y="12049"/>
                  <a:pt x="11385" y="12080"/>
                </a:cubicBezTo>
                <a:cubicBezTo>
                  <a:pt x="11403" y="12134"/>
                  <a:pt x="11558" y="12068"/>
                  <a:pt x="11633" y="12105"/>
                </a:cubicBezTo>
                <a:cubicBezTo>
                  <a:pt x="11839" y="12207"/>
                  <a:pt x="11634" y="12422"/>
                  <a:pt x="11509" y="12477"/>
                </a:cubicBezTo>
                <a:cubicBezTo>
                  <a:pt x="11417" y="12517"/>
                  <a:pt x="11356" y="12513"/>
                  <a:pt x="11311" y="1245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411800" y="3697200"/>
            <a:ext cx="500040" cy="795600"/>
          </a:xfrm>
          <a:custGeom>
            <a:avLst/>
            <a:gdLst/>
            <a:ahLst/>
            <a:rect l="l" t="t" r="r" b="b"/>
            <a:pathLst>
              <a:path w="1390" h="2209">
                <a:moveTo>
                  <a:pt x="12675" y="10319"/>
                </a:moveTo>
                <a:cubicBezTo>
                  <a:pt x="12907" y="10300"/>
                  <a:pt x="13138" y="10287"/>
                  <a:pt x="13370" y="10269"/>
                </a:cubicBezTo>
                <a:cubicBezTo>
                  <a:pt x="13327" y="10312"/>
                  <a:pt x="13223" y="10366"/>
                  <a:pt x="13320" y="10368"/>
                </a:cubicBezTo>
                <a:cubicBezTo>
                  <a:pt x="13478" y="10368"/>
                  <a:pt x="13521" y="10365"/>
                  <a:pt x="13618" y="10393"/>
                </a:cubicBezTo>
                <a:cubicBezTo>
                  <a:pt x="13601" y="10617"/>
                  <a:pt x="13468" y="10589"/>
                  <a:pt x="13271" y="10542"/>
                </a:cubicBezTo>
              </a:path>
              <a:path w="1390" h="2209">
                <a:moveTo>
                  <a:pt x="12378" y="11956"/>
                </a:moveTo>
                <a:cubicBezTo>
                  <a:pt x="12570" y="12037"/>
                  <a:pt x="12746" y="12192"/>
                  <a:pt x="12526" y="12402"/>
                </a:cubicBezTo>
                <a:cubicBezTo>
                  <a:pt x="12390" y="12471"/>
                  <a:pt x="12355" y="12496"/>
                  <a:pt x="12254" y="12477"/>
                </a:cubicBezTo>
                <a:cubicBezTo>
                  <a:pt x="12330" y="12345"/>
                  <a:pt x="12492" y="12223"/>
                  <a:pt x="12626" y="12402"/>
                </a:cubicBezTo>
                <a:cubicBezTo>
                  <a:pt x="12626" y="12427"/>
                  <a:pt x="12626" y="12452"/>
                  <a:pt x="12626" y="12477"/>
                </a:cubicBezTo>
              </a:path>
              <a:path w="1390" h="2209">
                <a:moveTo>
                  <a:pt x="13122" y="11881"/>
                </a:moveTo>
                <a:cubicBezTo>
                  <a:pt x="13058" y="11902"/>
                  <a:pt x="12975" y="11916"/>
                  <a:pt x="12948" y="11956"/>
                </a:cubicBezTo>
                <a:cubicBezTo>
                  <a:pt x="12883" y="12043"/>
                  <a:pt x="12863" y="12061"/>
                  <a:pt x="12849" y="12129"/>
                </a:cubicBezTo>
                <a:cubicBezTo>
                  <a:pt x="12976" y="12129"/>
                  <a:pt x="13169" y="12104"/>
                  <a:pt x="13196" y="12278"/>
                </a:cubicBezTo>
                <a:cubicBezTo>
                  <a:pt x="13238" y="12550"/>
                  <a:pt x="12932" y="12465"/>
                  <a:pt x="12799" y="1242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010120" y="4313160"/>
            <a:ext cx="696960" cy="223920"/>
          </a:xfrm>
          <a:custGeom>
            <a:avLst/>
            <a:gdLst/>
            <a:ahLst/>
            <a:rect l="l" t="t" r="r" b="b"/>
            <a:pathLst>
              <a:path w="1936" h="621">
                <a:moveTo>
                  <a:pt x="13915" y="12179"/>
                </a:moveTo>
                <a:cubicBezTo>
                  <a:pt x="13915" y="12328"/>
                  <a:pt x="13899" y="12469"/>
                  <a:pt x="13965" y="12601"/>
                </a:cubicBezTo>
                <a:cubicBezTo>
                  <a:pt x="14098" y="12500"/>
                  <a:pt x="14169" y="12425"/>
                  <a:pt x="14213" y="12254"/>
                </a:cubicBezTo>
                <a:cubicBezTo>
                  <a:pt x="14237" y="12326"/>
                  <a:pt x="14274" y="12630"/>
                  <a:pt x="14412" y="12502"/>
                </a:cubicBezTo>
                <a:cubicBezTo>
                  <a:pt x="14529" y="12394"/>
                  <a:pt x="14541" y="12170"/>
                  <a:pt x="14486" y="12452"/>
                </a:cubicBezTo>
                <a:cubicBezTo>
                  <a:pt x="14486" y="12477"/>
                  <a:pt x="14486" y="12501"/>
                  <a:pt x="14486" y="12526"/>
                </a:cubicBezTo>
                <a:cubicBezTo>
                  <a:pt x="14486" y="12432"/>
                  <a:pt x="14516" y="12359"/>
                  <a:pt x="14560" y="12278"/>
                </a:cubicBezTo>
                <a:cubicBezTo>
                  <a:pt x="14623" y="12388"/>
                  <a:pt x="14640" y="12527"/>
                  <a:pt x="14734" y="12526"/>
                </a:cubicBezTo>
              </a:path>
              <a:path w="1936" h="621">
                <a:moveTo>
                  <a:pt x="14908" y="12427"/>
                </a:moveTo>
                <a:cubicBezTo>
                  <a:pt x="14908" y="12535"/>
                  <a:pt x="14908" y="12543"/>
                  <a:pt x="14908" y="12601"/>
                </a:cubicBezTo>
              </a:path>
              <a:path w="1936" h="621">
                <a:moveTo>
                  <a:pt x="15180" y="11981"/>
                </a:moveTo>
                <a:cubicBezTo>
                  <a:pt x="15205" y="12185"/>
                  <a:pt x="15236" y="12379"/>
                  <a:pt x="15280" y="12576"/>
                </a:cubicBezTo>
              </a:path>
              <a:path w="1936" h="621">
                <a:moveTo>
                  <a:pt x="15081" y="12278"/>
                </a:moveTo>
                <a:cubicBezTo>
                  <a:pt x="15124" y="12266"/>
                  <a:pt x="15644" y="12113"/>
                  <a:pt x="15577" y="12229"/>
                </a:cubicBezTo>
                <a:cubicBezTo>
                  <a:pt x="15503" y="12303"/>
                  <a:pt x="15494" y="12312"/>
                  <a:pt x="15453" y="12353"/>
                </a:cubicBezTo>
                <a:cubicBezTo>
                  <a:pt x="15630" y="12322"/>
                  <a:pt x="15691" y="12340"/>
                  <a:pt x="15850" y="12402"/>
                </a:cubicBezTo>
                <a:cubicBezTo>
                  <a:pt x="15696" y="12596"/>
                  <a:pt x="15705" y="12552"/>
                  <a:pt x="15453" y="1252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813120" y="3544920"/>
            <a:ext cx="135000" cy="295200"/>
          </a:xfrm>
          <a:custGeom>
            <a:avLst/>
            <a:gdLst/>
            <a:ahLst/>
            <a:rect l="l" t="t" r="r" b="b"/>
            <a:pathLst>
              <a:path w="373" h="820">
                <a:moveTo>
                  <a:pt x="10616" y="10021"/>
                </a:moveTo>
                <a:cubicBezTo>
                  <a:pt x="10616" y="10131"/>
                  <a:pt x="10599" y="10235"/>
                  <a:pt x="10592" y="10344"/>
                </a:cubicBezTo>
                <a:cubicBezTo>
                  <a:pt x="10658" y="10318"/>
                  <a:pt x="10891" y="10180"/>
                  <a:pt x="10964" y="10220"/>
                </a:cubicBezTo>
                <a:cubicBezTo>
                  <a:pt x="10964" y="10228"/>
                  <a:pt x="10964" y="10236"/>
                  <a:pt x="10964" y="10244"/>
                </a:cubicBezTo>
              </a:path>
              <a:path w="373" h="820">
                <a:moveTo>
                  <a:pt x="10939" y="9872"/>
                </a:moveTo>
                <a:cubicBezTo>
                  <a:pt x="10939" y="9841"/>
                  <a:pt x="10963" y="10263"/>
                  <a:pt x="10964" y="10319"/>
                </a:cubicBezTo>
                <a:cubicBezTo>
                  <a:pt x="10966" y="10443"/>
                  <a:pt x="10950" y="10546"/>
                  <a:pt x="10939" y="1066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152960" y="3714840"/>
            <a:ext cx="374760" cy="142920"/>
          </a:xfrm>
          <a:custGeom>
            <a:avLst/>
            <a:gdLst/>
            <a:ahLst/>
            <a:rect l="l" t="t" r="r" b="b"/>
            <a:pathLst>
              <a:path w="1043" h="398">
                <a:moveTo>
                  <a:pt x="11559" y="10319"/>
                </a:moveTo>
                <a:cubicBezTo>
                  <a:pt x="11524" y="10444"/>
                  <a:pt x="11515" y="10549"/>
                  <a:pt x="11584" y="10641"/>
                </a:cubicBezTo>
                <a:cubicBezTo>
                  <a:pt x="11742" y="10588"/>
                  <a:pt x="11743" y="10520"/>
                  <a:pt x="11757" y="10344"/>
                </a:cubicBezTo>
                <a:cubicBezTo>
                  <a:pt x="11749" y="10522"/>
                  <a:pt x="11739" y="10642"/>
                  <a:pt x="11931" y="10641"/>
                </a:cubicBezTo>
              </a:path>
              <a:path w="1043" h="398">
                <a:moveTo>
                  <a:pt x="12005" y="10393"/>
                </a:moveTo>
                <a:cubicBezTo>
                  <a:pt x="12011" y="10476"/>
                  <a:pt x="12022" y="10558"/>
                  <a:pt x="12030" y="10641"/>
                </a:cubicBezTo>
                <a:cubicBezTo>
                  <a:pt x="12030" y="10496"/>
                  <a:pt x="12036" y="10458"/>
                  <a:pt x="12105" y="10344"/>
                </a:cubicBezTo>
                <a:cubicBezTo>
                  <a:pt x="12288" y="10435"/>
                  <a:pt x="12320" y="10522"/>
                  <a:pt x="12378" y="10716"/>
                </a:cubicBezTo>
                <a:cubicBezTo>
                  <a:pt x="12378" y="10708"/>
                  <a:pt x="12378" y="10699"/>
                  <a:pt x="12378" y="10691"/>
                </a:cubicBezTo>
              </a:path>
              <a:path w="1043" h="398">
                <a:moveTo>
                  <a:pt x="12576" y="10517"/>
                </a:moveTo>
                <a:cubicBezTo>
                  <a:pt x="12576" y="10591"/>
                  <a:pt x="12576" y="10666"/>
                  <a:pt x="12576" y="1059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081240" y="4321080"/>
            <a:ext cx="2286000" cy="1287720"/>
          </a:xfrm>
          <a:custGeom>
            <a:avLst/>
            <a:gdLst/>
            <a:ahLst/>
            <a:rect l="l" t="t" r="r" b="b"/>
            <a:pathLst>
              <a:path w="6351" h="3573">
                <a:moveTo>
                  <a:pt x="11981" y="12278"/>
                </a:moveTo>
                <a:cubicBezTo>
                  <a:pt x="11981" y="12319"/>
                  <a:pt x="11972" y="12336"/>
                  <a:pt x="12005" y="12328"/>
                </a:cubicBezTo>
              </a:path>
              <a:path w="6351" h="3573">
                <a:moveTo>
                  <a:pt x="14908" y="12601"/>
                </a:moveTo>
                <a:lnTo>
                  <a:pt x="14908" y="12601"/>
                </a:lnTo>
              </a:path>
              <a:path w="6351" h="3573">
                <a:moveTo>
                  <a:pt x="14684" y="12005"/>
                </a:moveTo>
                <a:lnTo>
                  <a:pt x="14684" y="12005"/>
                </a:lnTo>
              </a:path>
              <a:path w="6351" h="3573">
                <a:moveTo>
                  <a:pt x="8632" y="13742"/>
                </a:moveTo>
                <a:cubicBezTo>
                  <a:pt x="8598" y="13866"/>
                  <a:pt x="8517" y="14126"/>
                  <a:pt x="8582" y="14015"/>
                </a:cubicBezTo>
              </a:path>
              <a:path w="6351" h="3573">
                <a:moveTo>
                  <a:pt x="11361" y="15032"/>
                </a:moveTo>
                <a:cubicBezTo>
                  <a:pt x="11340" y="15199"/>
                  <a:pt x="11285" y="15360"/>
                  <a:pt x="11261" y="15528"/>
                </a:cubicBezTo>
                <a:cubicBezTo>
                  <a:pt x="11261" y="15544"/>
                  <a:pt x="11261" y="15561"/>
                  <a:pt x="11261" y="1557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616040" y="4894200"/>
            <a:ext cx="304920" cy="615960"/>
          </a:xfrm>
          <a:custGeom>
            <a:avLst/>
            <a:gdLst/>
            <a:ahLst/>
            <a:rect l="l" t="t" r="r" b="b"/>
            <a:pathLst>
              <a:path w="844" h="1712">
                <a:moveTo>
                  <a:pt x="4490" y="14461"/>
                </a:moveTo>
                <a:cubicBezTo>
                  <a:pt x="4490" y="14436"/>
                  <a:pt x="4490" y="14412"/>
                  <a:pt x="4490" y="14387"/>
                </a:cubicBezTo>
                <a:cubicBezTo>
                  <a:pt x="4490" y="14608"/>
                  <a:pt x="4497" y="14836"/>
                  <a:pt x="4514" y="15056"/>
                </a:cubicBezTo>
                <a:cubicBezTo>
                  <a:pt x="4521" y="15151"/>
                  <a:pt x="4539" y="15216"/>
                  <a:pt x="4539" y="15304"/>
                </a:cubicBezTo>
              </a:path>
              <a:path w="844" h="1712">
                <a:moveTo>
                  <a:pt x="5259" y="14263"/>
                </a:moveTo>
                <a:cubicBezTo>
                  <a:pt x="5259" y="14105"/>
                  <a:pt x="5300" y="14526"/>
                  <a:pt x="5308" y="14684"/>
                </a:cubicBezTo>
                <a:cubicBezTo>
                  <a:pt x="5316" y="14833"/>
                  <a:pt x="5304" y="14962"/>
                  <a:pt x="5333" y="15106"/>
                </a:cubicBezTo>
              </a:path>
              <a:path w="844" h="1712">
                <a:moveTo>
                  <a:pt x="4713" y="13667"/>
                </a:moveTo>
                <a:cubicBezTo>
                  <a:pt x="4819" y="13654"/>
                  <a:pt x="4910" y="13609"/>
                  <a:pt x="5011" y="13593"/>
                </a:cubicBezTo>
                <a:cubicBezTo>
                  <a:pt x="5019" y="13593"/>
                  <a:pt x="5027" y="13593"/>
                  <a:pt x="5035" y="13593"/>
                </a:cubicBezTo>
                <a:cubicBezTo>
                  <a:pt x="5035" y="13733"/>
                  <a:pt x="4963" y="13885"/>
                  <a:pt x="4911" y="14015"/>
                </a:cubicBezTo>
                <a:cubicBezTo>
                  <a:pt x="4885" y="14079"/>
                  <a:pt x="4850" y="14124"/>
                  <a:pt x="4837" y="1418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009960" y="4456080"/>
            <a:ext cx="365040" cy="1108080"/>
          </a:xfrm>
          <a:custGeom>
            <a:avLst/>
            <a:gdLst/>
            <a:ahLst/>
            <a:rect l="l" t="t" r="r" b="b"/>
            <a:pathLst>
              <a:path w="1018" h="3076">
                <a:moveTo>
                  <a:pt x="8979" y="12378"/>
                </a:moveTo>
                <a:cubicBezTo>
                  <a:pt x="9086" y="12457"/>
                  <a:pt x="9010" y="12678"/>
                  <a:pt x="9004" y="12799"/>
                </a:cubicBezTo>
                <a:cubicBezTo>
                  <a:pt x="9004" y="12907"/>
                  <a:pt x="9004" y="12915"/>
                  <a:pt x="9004" y="12973"/>
                </a:cubicBezTo>
              </a:path>
              <a:path w="1018" h="3076">
                <a:moveTo>
                  <a:pt x="8384" y="14412"/>
                </a:moveTo>
                <a:cubicBezTo>
                  <a:pt x="8234" y="14460"/>
                  <a:pt x="8359" y="14701"/>
                  <a:pt x="8359" y="14858"/>
                </a:cubicBezTo>
                <a:cubicBezTo>
                  <a:pt x="8359" y="14979"/>
                  <a:pt x="8296" y="15339"/>
                  <a:pt x="8384" y="15453"/>
                </a:cubicBezTo>
              </a:path>
              <a:path w="1018" h="3076">
                <a:moveTo>
                  <a:pt x="9327" y="14213"/>
                </a:moveTo>
                <a:cubicBezTo>
                  <a:pt x="9429" y="14134"/>
                  <a:pt x="9376" y="14391"/>
                  <a:pt x="9376" y="14436"/>
                </a:cubicBezTo>
                <a:cubicBezTo>
                  <a:pt x="9376" y="14711"/>
                  <a:pt x="9351" y="14980"/>
                  <a:pt x="9351" y="15255"/>
                </a:cubicBezTo>
                <a:cubicBezTo>
                  <a:pt x="9351" y="15271"/>
                  <a:pt x="9351" y="15288"/>
                  <a:pt x="9351" y="15304"/>
                </a:cubicBezTo>
              </a:path>
              <a:path w="1018" h="3076">
                <a:moveTo>
                  <a:pt x="8979" y="13444"/>
                </a:moveTo>
                <a:cubicBezTo>
                  <a:pt x="8908" y="13535"/>
                  <a:pt x="8840" y="13619"/>
                  <a:pt x="8781" y="13717"/>
                </a:cubicBezTo>
                <a:cubicBezTo>
                  <a:pt x="8874" y="13775"/>
                  <a:pt x="9070" y="13812"/>
                  <a:pt x="9054" y="13965"/>
                </a:cubicBezTo>
                <a:cubicBezTo>
                  <a:pt x="9037" y="13990"/>
                  <a:pt x="9021" y="14014"/>
                  <a:pt x="9004" y="14039"/>
                </a:cubicBezTo>
                <a:cubicBezTo>
                  <a:pt x="8825" y="13974"/>
                  <a:pt x="8890" y="13861"/>
                  <a:pt x="8954" y="13692"/>
                </a:cubicBezTo>
                <a:cubicBezTo>
                  <a:pt x="8966" y="13660"/>
                  <a:pt x="9081" y="13456"/>
                  <a:pt x="9004" y="13444"/>
                </a:cubicBezTo>
                <a:cubicBezTo>
                  <a:pt x="8959" y="13444"/>
                  <a:pt x="8946" y="13440"/>
                  <a:pt x="8930" y="13469"/>
                </a:cubicBezTo>
              </a:path>
              <a:path w="1018" h="3076">
                <a:moveTo>
                  <a:pt x="8706" y="13593"/>
                </a:moveTo>
                <a:cubicBezTo>
                  <a:pt x="8682" y="13692"/>
                  <a:pt x="8682" y="13803"/>
                  <a:pt x="8682" y="13915"/>
                </a:cubicBezTo>
                <a:cubicBezTo>
                  <a:pt x="8682" y="13923"/>
                  <a:pt x="8682" y="13932"/>
                  <a:pt x="8682" y="1394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759120" y="4840200"/>
            <a:ext cx="473040" cy="812880"/>
          </a:xfrm>
          <a:custGeom>
            <a:avLst/>
            <a:gdLst/>
            <a:ahLst/>
            <a:rect l="l" t="t" r="r" b="b"/>
            <a:pathLst>
              <a:path w="1315" h="2258">
                <a:moveTo>
                  <a:pt x="10939" y="13519"/>
                </a:moveTo>
                <a:cubicBezTo>
                  <a:pt x="10939" y="13403"/>
                  <a:pt x="10930" y="13701"/>
                  <a:pt x="10914" y="13816"/>
                </a:cubicBezTo>
                <a:cubicBezTo>
                  <a:pt x="10896" y="13924"/>
                  <a:pt x="10888" y="13931"/>
                  <a:pt x="10889" y="13990"/>
                </a:cubicBezTo>
              </a:path>
              <a:path w="1315" h="2258">
                <a:moveTo>
                  <a:pt x="11435" y="13444"/>
                </a:moveTo>
                <a:cubicBezTo>
                  <a:pt x="11333" y="13495"/>
                  <a:pt x="11263" y="13602"/>
                  <a:pt x="11187" y="13692"/>
                </a:cubicBezTo>
                <a:cubicBezTo>
                  <a:pt x="11179" y="13700"/>
                  <a:pt x="11170" y="13709"/>
                  <a:pt x="11162" y="13717"/>
                </a:cubicBezTo>
                <a:cubicBezTo>
                  <a:pt x="11254" y="13740"/>
                  <a:pt x="11426" y="13769"/>
                  <a:pt x="11435" y="13891"/>
                </a:cubicBezTo>
                <a:cubicBezTo>
                  <a:pt x="11411" y="13962"/>
                  <a:pt x="11404" y="13985"/>
                  <a:pt x="11361" y="14015"/>
                </a:cubicBezTo>
                <a:cubicBezTo>
                  <a:pt x="11290" y="13965"/>
                  <a:pt x="11240" y="13908"/>
                  <a:pt x="11286" y="13816"/>
                </a:cubicBezTo>
                <a:cubicBezTo>
                  <a:pt x="11328" y="13733"/>
                  <a:pt x="11460" y="13616"/>
                  <a:pt x="11460" y="13519"/>
                </a:cubicBezTo>
                <a:cubicBezTo>
                  <a:pt x="11460" y="13477"/>
                  <a:pt x="11383" y="13494"/>
                  <a:pt x="11361" y="13494"/>
                </a:cubicBezTo>
              </a:path>
              <a:path w="1315" h="2258">
                <a:moveTo>
                  <a:pt x="10443" y="14560"/>
                </a:moveTo>
                <a:cubicBezTo>
                  <a:pt x="10537" y="14549"/>
                  <a:pt x="10621" y="14536"/>
                  <a:pt x="10716" y="14536"/>
                </a:cubicBezTo>
              </a:path>
              <a:path w="1315" h="2258">
                <a:moveTo>
                  <a:pt x="11137" y="14238"/>
                </a:moveTo>
                <a:cubicBezTo>
                  <a:pt x="11172" y="14191"/>
                  <a:pt x="11288" y="14153"/>
                  <a:pt x="11361" y="14139"/>
                </a:cubicBezTo>
                <a:cubicBezTo>
                  <a:pt x="11377" y="14139"/>
                  <a:pt x="11394" y="14139"/>
                  <a:pt x="11410" y="14139"/>
                </a:cubicBezTo>
                <a:cubicBezTo>
                  <a:pt x="11444" y="14236"/>
                  <a:pt x="11428" y="14269"/>
                  <a:pt x="11385" y="14436"/>
                </a:cubicBezTo>
                <a:cubicBezTo>
                  <a:pt x="11364" y="14517"/>
                  <a:pt x="11327" y="14604"/>
                  <a:pt x="11311" y="14684"/>
                </a:cubicBezTo>
              </a:path>
              <a:path w="1315" h="2258">
                <a:moveTo>
                  <a:pt x="10517" y="14982"/>
                </a:moveTo>
                <a:cubicBezTo>
                  <a:pt x="10724" y="14867"/>
                  <a:pt x="11002" y="14840"/>
                  <a:pt x="11237" y="14808"/>
                </a:cubicBezTo>
                <a:cubicBezTo>
                  <a:pt x="11412" y="14785"/>
                  <a:pt x="11585" y="14763"/>
                  <a:pt x="11757" y="14734"/>
                </a:cubicBezTo>
              </a:path>
              <a:path w="1315" h="2258">
                <a:moveTo>
                  <a:pt x="10964" y="15180"/>
                </a:moveTo>
                <a:cubicBezTo>
                  <a:pt x="10925" y="15232"/>
                  <a:pt x="10883" y="15477"/>
                  <a:pt x="10864" y="15577"/>
                </a:cubicBezTo>
                <a:cubicBezTo>
                  <a:pt x="10852" y="15639"/>
                  <a:pt x="10852" y="15651"/>
                  <a:pt x="10840" y="1570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751120" y="6054840"/>
            <a:ext cx="1455840" cy="61920"/>
          </a:xfrm>
          <a:custGeom>
            <a:avLst/>
            <a:gdLst/>
            <a:ahLst/>
            <a:rect l="l" t="t" r="r" b="b"/>
            <a:pathLst>
              <a:path w="4044" h="174">
                <a:moveTo>
                  <a:pt x="7665" y="16842"/>
                </a:moveTo>
                <a:cubicBezTo>
                  <a:pt x="7731" y="16842"/>
                  <a:pt x="7748" y="16854"/>
                  <a:pt x="7813" y="16842"/>
                </a:cubicBezTo>
                <a:cubicBezTo>
                  <a:pt x="7907" y="16825"/>
                  <a:pt x="7988" y="16818"/>
                  <a:pt x="8086" y="16818"/>
                </a:cubicBezTo>
                <a:cubicBezTo>
                  <a:pt x="8160" y="16818"/>
                  <a:pt x="8211" y="16839"/>
                  <a:pt x="8285" y="16842"/>
                </a:cubicBezTo>
                <a:cubicBezTo>
                  <a:pt x="8370" y="16845"/>
                  <a:pt x="8447" y="16820"/>
                  <a:pt x="8533" y="16818"/>
                </a:cubicBezTo>
                <a:cubicBezTo>
                  <a:pt x="8670" y="16814"/>
                  <a:pt x="8798" y="16830"/>
                  <a:pt x="8930" y="16842"/>
                </a:cubicBezTo>
                <a:cubicBezTo>
                  <a:pt x="9170" y="16863"/>
                  <a:pt x="9501" y="16881"/>
                  <a:pt x="9723" y="16867"/>
                </a:cubicBezTo>
                <a:cubicBezTo>
                  <a:pt x="9797" y="16862"/>
                  <a:pt x="9869" y="16842"/>
                  <a:pt x="9947" y="16842"/>
                </a:cubicBezTo>
                <a:cubicBezTo>
                  <a:pt x="10140" y="16842"/>
                  <a:pt x="10327" y="16848"/>
                  <a:pt x="10517" y="16867"/>
                </a:cubicBezTo>
                <a:cubicBezTo>
                  <a:pt x="10611" y="16876"/>
                  <a:pt x="10695" y="16889"/>
                  <a:pt x="10790" y="16892"/>
                </a:cubicBezTo>
                <a:cubicBezTo>
                  <a:pt x="10894" y="16896"/>
                  <a:pt x="11015" y="16860"/>
                  <a:pt x="11112" y="16867"/>
                </a:cubicBezTo>
                <a:cubicBezTo>
                  <a:pt x="11241" y="16876"/>
                  <a:pt x="11407" y="16938"/>
                  <a:pt x="11534" y="16966"/>
                </a:cubicBezTo>
                <a:cubicBezTo>
                  <a:pt x="11633" y="16988"/>
                  <a:pt x="11633" y="16976"/>
                  <a:pt x="11683" y="16966"/>
                </a:cubicBezTo>
              </a:path>
            </a:pathLst>
          </a:custGeom>
          <a:noFill/>
          <a:ln cap="rnd" w="34920">
            <a:solidFill>
              <a:srgbClr val="ff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42" name=""/>
          <p:cNvSpPr/>
          <p:nvPr/>
        </p:nvSpPr>
        <p:spPr>
          <a:xfrm>
            <a:off x="1366920" y="4125960"/>
            <a:ext cx="79200" cy="196920"/>
          </a:xfrm>
          <a:custGeom>
            <a:avLst/>
            <a:gdLst/>
            <a:ahLst/>
            <a:rect l="l" t="t" r="r" b="b"/>
            <a:pathLst>
              <a:path w="224" h="546">
                <a:moveTo>
                  <a:pt x="3919" y="11460"/>
                </a:moveTo>
                <a:cubicBezTo>
                  <a:pt x="3881" y="11536"/>
                  <a:pt x="3823" y="11613"/>
                  <a:pt x="3795" y="11683"/>
                </a:cubicBezTo>
                <a:cubicBezTo>
                  <a:pt x="3895" y="11729"/>
                  <a:pt x="4091" y="11806"/>
                  <a:pt x="3994" y="11956"/>
                </a:cubicBezTo>
                <a:cubicBezTo>
                  <a:pt x="3930" y="11998"/>
                  <a:pt x="3919" y="12014"/>
                  <a:pt x="3870" y="12005"/>
                </a:cubicBezTo>
                <a:cubicBezTo>
                  <a:pt x="3845" y="11856"/>
                  <a:pt x="3918" y="11777"/>
                  <a:pt x="3969" y="11633"/>
                </a:cubicBezTo>
                <a:cubicBezTo>
                  <a:pt x="3987" y="11581"/>
                  <a:pt x="4006" y="11441"/>
                  <a:pt x="3944" y="1153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589040" y="4143240"/>
            <a:ext cx="142920" cy="169920"/>
          </a:xfrm>
          <a:custGeom>
            <a:avLst/>
            <a:gdLst/>
            <a:ahLst/>
            <a:rect l="l" t="t" r="r" b="b"/>
            <a:pathLst>
              <a:path w="398" h="473">
                <a:moveTo>
                  <a:pt x="4415" y="11881"/>
                </a:moveTo>
                <a:cubicBezTo>
                  <a:pt x="4415" y="11906"/>
                  <a:pt x="4415" y="11914"/>
                  <a:pt x="4415" y="11881"/>
                </a:cubicBezTo>
              </a:path>
              <a:path w="398" h="473">
                <a:moveTo>
                  <a:pt x="4762" y="11509"/>
                </a:moveTo>
                <a:cubicBezTo>
                  <a:pt x="4708" y="11537"/>
                  <a:pt x="4617" y="11598"/>
                  <a:pt x="4638" y="11683"/>
                </a:cubicBezTo>
                <a:cubicBezTo>
                  <a:pt x="4671" y="11814"/>
                  <a:pt x="4829" y="11692"/>
                  <a:pt x="4812" y="11857"/>
                </a:cubicBezTo>
                <a:cubicBezTo>
                  <a:pt x="4789" y="11948"/>
                  <a:pt x="4788" y="11979"/>
                  <a:pt x="4713" y="1198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116920" y="5607000"/>
            <a:ext cx="90360" cy="938160"/>
          </a:xfrm>
          <a:custGeom>
            <a:avLst/>
            <a:gdLst/>
            <a:ahLst/>
            <a:rect l="l" t="t" r="r" b="b"/>
            <a:pathLst>
              <a:path w="250" h="2606">
                <a:moveTo>
                  <a:pt x="22696" y="15652"/>
                </a:moveTo>
                <a:cubicBezTo>
                  <a:pt x="22653" y="15608"/>
                  <a:pt x="22617" y="15695"/>
                  <a:pt x="22671" y="15701"/>
                </a:cubicBezTo>
                <a:cubicBezTo>
                  <a:pt x="22860" y="15722"/>
                  <a:pt x="22722" y="15544"/>
                  <a:pt x="22671" y="15652"/>
                </a:cubicBezTo>
                <a:cubicBezTo>
                  <a:pt x="22615" y="15772"/>
                  <a:pt x="22768" y="15654"/>
                  <a:pt x="22771" y="15652"/>
                </a:cubicBezTo>
                <a:cubicBezTo>
                  <a:pt x="22771" y="15600"/>
                  <a:pt x="22769" y="15582"/>
                  <a:pt x="22721" y="15577"/>
                </a:cubicBezTo>
                <a:cubicBezTo>
                  <a:pt x="22597" y="15702"/>
                  <a:pt x="22726" y="15738"/>
                  <a:pt x="22746" y="15701"/>
                </a:cubicBezTo>
                <a:cubicBezTo>
                  <a:pt x="22802" y="15597"/>
                  <a:pt x="22621" y="15557"/>
                  <a:pt x="22622" y="15652"/>
                </a:cubicBezTo>
                <a:cubicBezTo>
                  <a:pt x="22630" y="15652"/>
                  <a:pt x="22639" y="15652"/>
                  <a:pt x="22647" y="15652"/>
                </a:cubicBezTo>
              </a:path>
              <a:path w="250" h="2606">
                <a:moveTo>
                  <a:pt x="22671" y="18033"/>
                </a:moveTo>
                <a:cubicBezTo>
                  <a:pt x="22671" y="18025"/>
                  <a:pt x="22671" y="18016"/>
                  <a:pt x="22671" y="18008"/>
                </a:cubicBezTo>
                <a:cubicBezTo>
                  <a:pt x="22590" y="17987"/>
                  <a:pt x="22517" y="18028"/>
                  <a:pt x="22572" y="18132"/>
                </a:cubicBezTo>
                <a:cubicBezTo>
                  <a:pt x="22652" y="18283"/>
                  <a:pt x="22737" y="18065"/>
                  <a:pt x="22746" y="18008"/>
                </a:cubicBezTo>
                <a:cubicBezTo>
                  <a:pt x="22746" y="18000"/>
                  <a:pt x="22746" y="17991"/>
                  <a:pt x="22746" y="17983"/>
                </a:cubicBezTo>
                <a:cubicBezTo>
                  <a:pt x="22730" y="17988"/>
                  <a:pt x="22547" y="18114"/>
                  <a:pt x="22647" y="18132"/>
                </a:cubicBezTo>
                <a:cubicBezTo>
                  <a:pt x="22720" y="18145"/>
                  <a:pt x="22849" y="17990"/>
                  <a:pt x="22721" y="18008"/>
                </a:cubicBezTo>
                <a:cubicBezTo>
                  <a:pt x="22656" y="18030"/>
                  <a:pt x="22631" y="18029"/>
                  <a:pt x="22647" y="18083"/>
                </a:cubicBezTo>
              </a:path>
              <a:path w="250" h="2606">
                <a:moveTo>
                  <a:pt x="22597" y="15776"/>
                </a:moveTo>
                <a:cubicBezTo>
                  <a:pt x="22554" y="15744"/>
                  <a:pt x="22547" y="15757"/>
                  <a:pt x="22547" y="15701"/>
                </a:cubicBezTo>
                <a:cubicBezTo>
                  <a:pt x="22568" y="15681"/>
                  <a:pt x="22612" y="15603"/>
                  <a:pt x="22597" y="15652"/>
                </a:cubicBezTo>
                <a:cubicBezTo>
                  <a:pt x="22547" y="15821"/>
                  <a:pt x="22698" y="15784"/>
                  <a:pt x="22771" y="15677"/>
                </a:cubicBezTo>
                <a:cubicBezTo>
                  <a:pt x="22878" y="15521"/>
                  <a:pt x="22648" y="15622"/>
                  <a:pt x="22597" y="15701"/>
                </a:cubicBezTo>
                <a:cubicBezTo>
                  <a:pt x="22635" y="15701"/>
                  <a:pt x="22881" y="15686"/>
                  <a:pt x="22796" y="15577"/>
                </a:cubicBezTo>
                <a:cubicBezTo>
                  <a:pt x="22742" y="15508"/>
                  <a:pt x="22715" y="15688"/>
                  <a:pt x="22721" y="15776"/>
                </a:cubicBezTo>
              </a:path>
              <a:path w="250" h="2606">
                <a:moveTo>
                  <a:pt x="22721" y="17983"/>
                </a:moveTo>
                <a:cubicBezTo>
                  <a:pt x="22776" y="17983"/>
                  <a:pt x="22777" y="17944"/>
                  <a:pt x="22746" y="17959"/>
                </a:cubicBezTo>
                <a:cubicBezTo>
                  <a:pt x="22657" y="18002"/>
                  <a:pt x="22653" y="18079"/>
                  <a:pt x="22622" y="18157"/>
                </a:cubicBezTo>
                <a:cubicBezTo>
                  <a:pt x="22737" y="18203"/>
                  <a:pt x="22750" y="18054"/>
                  <a:pt x="22771" y="17959"/>
                </a:cubicBezTo>
                <a:cubicBezTo>
                  <a:pt x="22653" y="17988"/>
                  <a:pt x="22675" y="18120"/>
                  <a:pt x="22696" y="18107"/>
                </a:cubicBezTo>
                <a:cubicBezTo>
                  <a:pt x="22721" y="18074"/>
                  <a:pt x="22746" y="18041"/>
                  <a:pt x="22771" y="18008"/>
                </a:cubicBezTo>
              </a:path>
              <a:path w="250" h="2606">
                <a:moveTo>
                  <a:pt x="22671" y="16049"/>
                </a:moveTo>
                <a:cubicBezTo>
                  <a:pt x="22692" y="15993"/>
                  <a:pt x="22706" y="15932"/>
                  <a:pt x="22721" y="15875"/>
                </a:cubicBezTo>
                <a:cubicBezTo>
                  <a:pt x="22730" y="15842"/>
                  <a:pt x="22742" y="15818"/>
                  <a:pt x="22746" y="15776"/>
                </a:cubicBezTo>
                <a:cubicBezTo>
                  <a:pt x="22720" y="15828"/>
                  <a:pt x="22681" y="15884"/>
                  <a:pt x="22671" y="15949"/>
                </a:cubicBezTo>
                <a:cubicBezTo>
                  <a:pt x="22654" y="16060"/>
                  <a:pt x="22657" y="16187"/>
                  <a:pt x="22647" y="16297"/>
                </a:cubicBezTo>
                <a:cubicBezTo>
                  <a:pt x="22633" y="16455"/>
                  <a:pt x="22639" y="16613"/>
                  <a:pt x="22622" y="16768"/>
                </a:cubicBezTo>
                <a:cubicBezTo>
                  <a:pt x="22610" y="16876"/>
                  <a:pt x="22611" y="16982"/>
                  <a:pt x="22597" y="17090"/>
                </a:cubicBezTo>
                <a:cubicBezTo>
                  <a:pt x="22580" y="17222"/>
                  <a:pt x="22590" y="17356"/>
                  <a:pt x="22572" y="17487"/>
                </a:cubicBezTo>
                <a:cubicBezTo>
                  <a:pt x="22562" y="17563"/>
                  <a:pt x="22559" y="17638"/>
                  <a:pt x="22547" y="17711"/>
                </a:cubicBezTo>
                <a:cubicBezTo>
                  <a:pt x="22535" y="17785"/>
                  <a:pt x="22569" y="17839"/>
                  <a:pt x="22572" y="17909"/>
                </a:cubicBezTo>
                <a:cubicBezTo>
                  <a:pt x="22575" y="17973"/>
                  <a:pt x="22556" y="18001"/>
                  <a:pt x="22547" y="18058"/>
                </a:cubicBezTo>
                <a:cubicBezTo>
                  <a:pt x="22547" y="18074"/>
                  <a:pt x="22547" y="18091"/>
                  <a:pt x="22547" y="18107"/>
                </a:cubicBezTo>
                <a:cubicBezTo>
                  <a:pt x="22559" y="18058"/>
                  <a:pt x="22567" y="18059"/>
                  <a:pt x="22572" y="18008"/>
                </a:cubicBezTo>
                <a:cubicBezTo>
                  <a:pt x="22588" y="17848"/>
                  <a:pt x="22622" y="17699"/>
                  <a:pt x="22622" y="17537"/>
                </a:cubicBezTo>
                <a:cubicBezTo>
                  <a:pt x="22622" y="17327"/>
                  <a:pt x="22625" y="17122"/>
                  <a:pt x="22647" y="16917"/>
                </a:cubicBezTo>
                <a:cubicBezTo>
                  <a:pt x="22671" y="16694"/>
                  <a:pt x="22641" y="16468"/>
                  <a:pt x="22671" y="16247"/>
                </a:cubicBezTo>
                <a:cubicBezTo>
                  <a:pt x="22697" y="16058"/>
                  <a:pt x="22786" y="15574"/>
                  <a:pt x="22671" y="15726"/>
                </a:cubicBezTo>
                <a:cubicBezTo>
                  <a:pt x="22655" y="15751"/>
                  <a:pt x="22638" y="15776"/>
                  <a:pt x="22622" y="1580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527720" y="5429160"/>
            <a:ext cx="285480" cy="214560"/>
          </a:xfrm>
          <a:custGeom>
            <a:avLst/>
            <a:gdLst/>
            <a:ahLst/>
            <a:rect l="l" t="t" r="r" b="b"/>
            <a:pathLst>
              <a:path w="795" h="597">
                <a:moveTo>
                  <a:pt x="12700" y="15577"/>
                </a:moveTo>
                <a:lnTo>
                  <a:pt x="12700" y="15577"/>
                </a:lnTo>
              </a:path>
              <a:path w="795" h="597">
                <a:moveTo>
                  <a:pt x="12576" y="15081"/>
                </a:moveTo>
                <a:cubicBezTo>
                  <a:pt x="12584" y="15081"/>
                  <a:pt x="12593" y="15081"/>
                  <a:pt x="12601" y="15081"/>
                </a:cubicBezTo>
              </a:path>
              <a:path w="795" h="597">
                <a:moveTo>
                  <a:pt x="12948" y="15156"/>
                </a:moveTo>
                <a:cubicBezTo>
                  <a:pt x="12967" y="15334"/>
                  <a:pt x="12986" y="15503"/>
                  <a:pt x="13022" y="15677"/>
                </a:cubicBezTo>
              </a:path>
              <a:path w="795" h="597">
                <a:moveTo>
                  <a:pt x="12824" y="15429"/>
                </a:moveTo>
                <a:cubicBezTo>
                  <a:pt x="13011" y="15370"/>
                  <a:pt x="13175" y="15338"/>
                  <a:pt x="13370" y="1532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224240" y="5500800"/>
            <a:ext cx="357120" cy="160200"/>
          </a:xfrm>
          <a:custGeom>
            <a:avLst/>
            <a:gdLst/>
            <a:ahLst/>
            <a:rect l="l" t="t" r="r" b="b"/>
            <a:pathLst>
              <a:path w="993" h="447">
                <a:moveTo>
                  <a:pt x="11757" y="15280"/>
                </a:moveTo>
                <a:cubicBezTo>
                  <a:pt x="11732" y="15444"/>
                  <a:pt x="11707" y="15587"/>
                  <a:pt x="11782" y="15726"/>
                </a:cubicBezTo>
                <a:cubicBezTo>
                  <a:pt x="11966" y="15647"/>
                  <a:pt x="12045" y="15576"/>
                  <a:pt x="12105" y="15379"/>
                </a:cubicBezTo>
                <a:cubicBezTo>
                  <a:pt x="12105" y="15371"/>
                  <a:pt x="12105" y="15362"/>
                  <a:pt x="12105" y="15354"/>
                </a:cubicBezTo>
                <a:cubicBezTo>
                  <a:pt x="12022" y="15382"/>
                  <a:pt x="12060" y="15576"/>
                  <a:pt x="12080" y="15652"/>
                </a:cubicBezTo>
                <a:cubicBezTo>
                  <a:pt x="12095" y="15707"/>
                  <a:pt x="12150" y="15626"/>
                  <a:pt x="12179" y="15577"/>
                </a:cubicBezTo>
              </a:path>
              <a:path w="993" h="447">
                <a:moveTo>
                  <a:pt x="12254" y="15354"/>
                </a:moveTo>
                <a:cubicBezTo>
                  <a:pt x="12262" y="15456"/>
                  <a:pt x="12281" y="15552"/>
                  <a:pt x="12303" y="15652"/>
                </a:cubicBezTo>
                <a:cubicBezTo>
                  <a:pt x="12303" y="15556"/>
                  <a:pt x="12254" y="15411"/>
                  <a:pt x="12353" y="15354"/>
                </a:cubicBezTo>
                <a:cubicBezTo>
                  <a:pt x="12493" y="15273"/>
                  <a:pt x="12544" y="15581"/>
                  <a:pt x="12551" y="15652"/>
                </a:cubicBezTo>
                <a:cubicBezTo>
                  <a:pt x="12558" y="15724"/>
                  <a:pt x="12615" y="15591"/>
                  <a:pt x="12650" y="15528"/>
                </a:cubicBezTo>
              </a:path>
              <a:path w="993" h="447">
                <a:moveTo>
                  <a:pt x="12725" y="15354"/>
                </a:moveTo>
                <a:cubicBezTo>
                  <a:pt x="12723" y="15369"/>
                  <a:pt x="12700" y="15800"/>
                  <a:pt x="12700" y="1557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4795920" y="5483160"/>
            <a:ext cx="125280" cy="133560"/>
          </a:xfrm>
          <a:custGeom>
            <a:avLst/>
            <a:gdLst/>
            <a:ahLst/>
            <a:rect l="l" t="t" r="r" b="b"/>
            <a:pathLst>
              <a:path w="348" h="373">
                <a:moveTo>
                  <a:pt x="13543" y="15230"/>
                </a:moveTo>
                <a:cubicBezTo>
                  <a:pt x="13446" y="15279"/>
                  <a:pt x="13414" y="15294"/>
                  <a:pt x="13370" y="15354"/>
                </a:cubicBezTo>
                <a:cubicBezTo>
                  <a:pt x="13410" y="15394"/>
                  <a:pt x="13645" y="15358"/>
                  <a:pt x="13667" y="15453"/>
                </a:cubicBezTo>
                <a:cubicBezTo>
                  <a:pt x="13717" y="15672"/>
                  <a:pt x="13375" y="15558"/>
                  <a:pt x="13320" y="1547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7724880" y="4106880"/>
            <a:ext cx="946080" cy="100080"/>
          </a:xfrm>
          <a:custGeom>
            <a:avLst/>
            <a:gdLst/>
            <a:ahLst/>
            <a:rect l="l" t="t" r="r" b="b"/>
            <a:pathLst>
              <a:path w="2630" h="274">
                <a:moveTo>
                  <a:pt x="21481" y="11534"/>
                </a:moveTo>
                <a:cubicBezTo>
                  <a:pt x="21481" y="11489"/>
                  <a:pt x="21475" y="11281"/>
                  <a:pt x="21456" y="11509"/>
                </a:cubicBezTo>
                <a:cubicBezTo>
                  <a:pt x="21456" y="11618"/>
                  <a:pt x="21442" y="11654"/>
                  <a:pt x="21530" y="11658"/>
                </a:cubicBezTo>
                <a:cubicBezTo>
                  <a:pt x="21650" y="11552"/>
                  <a:pt x="21659" y="11491"/>
                  <a:pt x="21506" y="11435"/>
                </a:cubicBezTo>
                <a:cubicBezTo>
                  <a:pt x="21466" y="11554"/>
                  <a:pt x="21501" y="11772"/>
                  <a:pt x="21654" y="11584"/>
                </a:cubicBezTo>
                <a:cubicBezTo>
                  <a:pt x="21724" y="11497"/>
                  <a:pt x="21650" y="11425"/>
                  <a:pt x="21605" y="11559"/>
                </a:cubicBezTo>
              </a:path>
              <a:path w="2630" h="274">
                <a:moveTo>
                  <a:pt x="24011" y="11435"/>
                </a:moveTo>
                <a:cubicBezTo>
                  <a:pt x="24003" y="11447"/>
                  <a:pt x="23810" y="11795"/>
                  <a:pt x="24036" y="11658"/>
                </a:cubicBezTo>
                <a:cubicBezTo>
                  <a:pt x="24036" y="11591"/>
                  <a:pt x="24040" y="11557"/>
                  <a:pt x="24061" y="11509"/>
                </a:cubicBezTo>
                <a:cubicBezTo>
                  <a:pt x="23968" y="11489"/>
                  <a:pt x="23780" y="11598"/>
                  <a:pt x="23937" y="11683"/>
                </a:cubicBezTo>
                <a:cubicBezTo>
                  <a:pt x="24127" y="11786"/>
                  <a:pt x="24065" y="11545"/>
                  <a:pt x="24011" y="11485"/>
                </a:cubicBezTo>
                <a:cubicBezTo>
                  <a:pt x="23913" y="11557"/>
                  <a:pt x="23966" y="11594"/>
                  <a:pt x="24061" y="11584"/>
                </a:cubicBezTo>
              </a:path>
              <a:path w="2630" h="274">
                <a:moveTo>
                  <a:pt x="21605" y="11534"/>
                </a:moveTo>
                <a:cubicBezTo>
                  <a:pt x="21648" y="11518"/>
                  <a:pt x="21644" y="11490"/>
                  <a:pt x="21754" y="11509"/>
                </a:cubicBezTo>
                <a:cubicBezTo>
                  <a:pt x="21888" y="11532"/>
                  <a:pt x="22012" y="11534"/>
                  <a:pt x="22151" y="11534"/>
                </a:cubicBezTo>
                <a:cubicBezTo>
                  <a:pt x="22321" y="11534"/>
                  <a:pt x="22479" y="11572"/>
                  <a:pt x="22647" y="11584"/>
                </a:cubicBezTo>
                <a:cubicBezTo>
                  <a:pt x="22847" y="11598"/>
                  <a:pt x="23045" y="11576"/>
                  <a:pt x="23242" y="11559"/>
                </a:cubicBezTo>
                <a:cubicBezTo>
                  <a:pt x="23367" y="11548"/>
                  <a:pt x="23492" y="11548"/>
                  <a:pt x="23614" y="11534"/>
                </a:cubicBezTo>
                <a:cubicBezTo>
                  <a:pt x="23698" y="11525"/>
                  <a:pt x="23776" y="11559"/>
                  <a:pt x="23862" y="11559"/>
                </a:cubicBezTo>
                <a:cubicBezTo>
                  <a:pt x="23920" y="11559"/>
                  <a:pt x="23978" y="11559"/>
                  <a:pt x="24036" y="1155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6242040" y="4875120"/>
            <a:ext cx="2421000" cy="54000"/>
          </a:xfrm>
          <a:custGeom>
            <a:avLst/>
            <a:gdLst/>
            <a:ahLst/>
            <a:rect l="l" t="t" r="r" b="b"/>
            <a:pathLst>
              <a:path w="6724" h="150">
                <a:moveTo>
                  <a:pt x="17338" y="13568"/>
                </a:moveTo>
                <a:cubicBezTo>
                  <a:pt x="17897" y="13520"/>
                  <a:pt x="18463" y="13566"/>
                  <a:pt x="19025" y="13568"/>
                </a:cubicBezTo>
                <a:cubicBezTo>
                  <a:pt x="20192" y="13573"/>
                  <a:pt x="21357" y="13560"/>
                  <a:pt x="22523" y="13593"/>
                </a:cubicBezTo>
                <a:cubicBezTo>
                  <a:pt x="23022" y="13607"/>
                  <a:pt x="23564" y="13593"/>
                  <a:pt x="24061" y="13667"/>
                </a:cubicBezTo>
                <a:cubicBezTo>
                  <a:pt x="24053" y="13675"/>
                  <a:pt x="24044" y="13684"/>
                  <a:pt x="24036" y="13692"/>
                </a:cubicBezTo>
              </a:path>
            </a:pathLst>
          </a:custGeom>
          <a:noFill/>
          <a:ln cap="rnd" w="34920">
            <a:solidFill>
              <a:srgbClr val="ff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0" name=""/>
          <p:cNvSpPr/>
          <p:nvPr/>
        </p:nvSpPr>
        <p:spPr>
          <a:xfrm>
            <a:off x="7392960" y="4037040"/>
            <a:ext cx="63360" cy="1704960"/>
          </a:xfrm>
          <a:custGeom>
            <a:avLst/>
            <a:gdLst/>
            <a:ahLst/>
            <a:rect l="l" t="t" r="r" b="b"/>
            <a:pathLst>
              <a:path w="175" h="4738">
                <a:moveTo>
                  <a:pt x="20712" y="11212"/>
                </a:moveTo>
                <a:cubicBezTo>
                  <a:pt x="20670" y="11387"/>
                  <a:pt x="20674" y="11550"/>
                  <a:pt x="20662" y="11733"/>
                </a:cubicBezTo>
                <a:cubicBezTo>
                  <a:pt x="20637" y="12114"/>
                  <a:pt x="20638" y="12492"/>
                  <a:pt x="20638" y="12874"/>
                </a:cubicBezTo>
                <a:cubicBezTo>
                  <a:pt x="20638" y="13478"/>
                  <a:pt x="20710" y="14079"/>
                  <a:pt x="20687" y="14684"/>
                </a:cubicBezTo>
                <a:cubicBezTo>
                  <a:pt x="20672" y="15060"/>
                  <a:pt x="20628" y="15431"/>
                  <a:pt x="20563" y="15801"/>
                </a:cubicBezTo>
                <a:cubicBezTo>
                  <a:pt x="20545" y="15892"/>
                  <a:pt x="20536" y="15899"/>
                  <a:pt x="20538" y="1594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 calcmode="lin" valueType="num">
                                      <p:cBhvr additive="base">
                                        <p:cTn id="7"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5">
                                            <p:txEl>
                                              <p:pRg st="2" end="2"/>
                                            </p:txEl>
                                          </p:spTgt>
                                        </p:tgtEl>
                                        <p:attrNameLst>
                                          <p:attrName>style.visibility</p:attrName>
                                        </p:attrNameLst>
                                      </p:cBhvr>
                                      <p:to>
                                        <p:strVal val="visible"/>
                                      </p:to>
                                    </p:set>
                                    <p:anim calcmode="lin" valueType="num">
                                      <p:cBhvr additive="base">
                                        <p:cTn id="13"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25">
                                            <p:txEl>
                                              <p:pRg st="4" end="4"/>
                                            </p:txEl>
                                          </p:spTgt>
                                        </p:tgtEl>
                                        <p:attrNameLst>
                                          <p:attrName>style.visibility</p:attrName>
                                        </p:attrNameLst>
                                      </p:cBhvr>
                                      <p:to>
                                        <p:strVal val="visible"/>
                                      </p:to>
                                    </p:set>
                                    <p:anim calcmode="lin" valueType="num">
                                      <p:cBhvr additive="base">
                                        <p:cTn id="19"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5">
                                            <p:txEl>
                                              <p:pRg st="6" end="6"/>
                                            </p:txEl>
                                          </p:spTgt>
                                        </p:tgtEl>
                                        <p:attrNameLst>
                                          <p:attrName>style.visibility</p:attrName>
                                        </p:attrNameLst>
                                      </p:cBhvr>
                                      <p:to>
                                        <p:strVal val="visible"/>
                                      </p:to>
                                    </p:set>
                                    <p:anim calcmode="lin" valueType="num">
                                      <p:cBhvr additive="base">
                                        <p:cTn id="25" dur="500" fill="hold"/>
                                        <p:tgtEl>
                                          <p:spTgt spid="125">
                                            <p:txEl>
                                              <p:pRg st="6" end="6"/>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2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25">
                                            <p:txEl>
                                              <p:pRg st="8" end="8"/>
                                            </p:txEl>
                                          </p:spTgt>
                                        </p:tgtEl>
                                        <p:attrNameLst>
                                          <p:attrName>style.visibility</p:attrName>
                                        </p:attrNameLst>
                                      </p:cBhvr>
                                      <p:to>
                                        <p:strVal val="visible"/>
                                      </p:to>
                                    </p:set>
                                    <p:anim calcmode="lin" valueType="num">
                                      <p:cBhvr additive="base">
                                        <p:cTn id="31" dur="500" fill="hold"/>
                                        <p:tgtEl>
                                          <p:spTgt spid="125">
                                            <p:txEl>
                                              <p:pRg st="8" end="8"/>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2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304920"/>
            <a:ext cx="838188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find the distance between two points on a coordinate plane.</a:t>
            </a:r>
            <a:br>
              <a:rPr sz="4000"/>
            </a:br>
            <a:endParaRPr b="0" lang="en-US" sz="2000" spc="-1" strike="noStrike">
              <a:solidFill>
                <a:srgbClr val="000000"/>
              </a:solidFill>
              <a:latin typeface="Arial"/>
            </a:endParaRPr>
          </a:p>
        </p:txBody>
      </p:sp>
      <p:sp>
        <p:nvSpPr>
          <p:cNvPr id="152" name="PlaceHolder 2"/>
          <p:cNvSpPr>
            <a:spLocks noGrp="1"/>
          </p:cNvSpPr>
          <p:nvPr>
            <p:ph/>
          </p:nvPr>
        </p:nvSpPr>
        <p:spPr>
          <a:xfrm>
            <a:off x="304920" y="106668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rawing below shows the design for a rain garden (measurements are in meters) your family is going to plant in the back yard.  You are going to use old railroad ties around the perimeter of the garden.  How many meters of railroad ties will you nee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3" name="" descr=""/>
          <p:cNvPicPr/>
          <p:nvPr/>
        </p:nvPicPr>
        <p:blipFill>
          <a:blip r:embed="rId1"/>
          <a:stretch/>
        </p:blipFill>
        <p:spPr>
          <a:xfrm>
            <a:off x="609480" y="2514600"/>
            <a:ext cx="3492720" cy="3505320"/>
          </a:xfrm>
          <a:prstGeom prst="rect">
            <a:avLst/>
          </a:prstGeom>
          <a:ln w="0">
            <a:noFill/>
          </a:ln>
        </p:spPr>
      </p:pic>
      <p:sp>
        <p:nvSpPr>
          <p:cNvPr id="154" name=""/>
          <p:cNvSpPr/>
          <p:nvPr/>
        </p:nvSpPr>
        <p:spPr>
          <a:xfrm>
            <a:off x="1554120" y="2357280"/>
            <a:ext cx="5965920" cy="696960"/>
          </a:xfrm>
          <a:custGeom>
            <a:avLst/>
            <a:gdLst/>
            <a:ahLst/>
            <a:rect l="l" t="t" r="r" b="b"/>
            <a:pathLst>
              <a:path w="16571" h="1936">
                <a:moveTo>
                  <a:pt x="4316" y="8136"/>
                </a:moveTo>
                <a:lnTo>
                  <a:pt x="4316" y="8136"/>
                </a:lnTo>
              </a:path>
              <a:path w="16571" h="1936">
                <a:moveTo>
                  <a:pt x="5135" y="8285"/>
                </a:moveTo>
                <a:cubicBezTo>
                  <a:pt x="5156" y="8350"/>
                  <a:pt x="5180" y="8403"/>
                  <a:pt x="5159" y="8434"/>
                </a:cubicBezTo>
              </a:path>
              <a:path w="16571" h="1936">
                <a:moveTo>
                  <a:pt x="5209" y="7938"/>
                </a:moveTo>
                <a:cubicBezTo>
                  <a:pt x="5223" y="8048"/>
                  <a:pt x="5260" y="8088"/>
                  <a:pt x="5383" y="8037"/>
                </a:cubicBezTo>
                <a:cubicBezTo>
                  <a:pt x="5461" y="7985"/>
                  <a:pt x="5486" y="7964"/>
                  <a:pt x="5482" y="7888"/>
                </a:cubicBezTo>
              </a:path>
              <a:path w="16571" h="1936">
                <a:moveTo>
                  <a:pt x="5407" y="7739"/>
                </a:moveTo>
                <a:cubicBezTo>
                  <a:pt x="5415" y="7900"/>
                  <a:pt x="5420" y="8023"/>
                  <a:pt x="5507" y="8161"/>
                </a:cubicBezTo>
              </a:path>
              <a:path w="16571" h="1936">
                <a:moveTo>
                  <a:pt x="5383" y="7590"/>
                </a:moveTo>
                <a:cubicBezTo>
                  <a:pt x="5626" y="7796"/>
                  <a:pt x="5794" y="7942"/>
                  <a:pt x="5680" y="8285"/>
                </a:cubicBezTo>
                <a:cubicBezTo>
                  <a:pt x="5655" y="8326"/>
                  <a:pt x="5631" y="8368"/>
                  <a:pt x="5606" y="8409"/>
                </a:cubicBezTo>
              </a:path>
              <a:path w="16571" h="1936">
                <a:moveTo>
                  <a:pt x="8582" y="8260"/>
                </a:moveTo>
                <a:cubicBezTo>
                  <a:pt x="8622" y="8345"/>
                  <a:pt x="8647" y="8393"/>
                  <a:pt x="8657" y="8483"/>
                </a:cubicBezTo>
              </a:path>
              <a:path w="16571" h="1936">
                <a:moveTo>
                  <a:pt x="12303" y="7541"/>
                </a:moveTo>
                <a:cubicBezTo>
                  <a:pt x="12444" y="7484"/>
                  <a:pt x="12502" y="7460"/>
                  <a:pt x="12601" y="7417"/>
                </a:cubicBezTo>
              </a:path>
              <a:path w="16571" h="1936">
                <a:moveTo>
                  <a:pt x="13618" y="7268"/>
                </a:moveTo>
                <a:cubicBezTo>
                  <a:pt x="13719" y="7249"/>
                  <a:pt x="13814" y="7237"/>
                  <a:pt x="13915" y="7218"/>
                </a:cubicBezTo>
              </a:path>
              <a:path w="16571" h="1936">
                <a:moveTo>
                  <a:pt x="14908" y="6747"/>
                </a:moveTo>
                <a:cubicBezTo>
                  <a:pt x="14792" y="6977"/>
                  <a:pt x="14743" y="7202"/>
                  <a:pt x="14808" y="7466"/>
                </a:cubicBezTo>
                <a:cubicBezTo>
                  <a:pt x="14836" y="7494"/>
                  <a:pt x="14850" y="7503"/>
                  <a:pt x="14883" y="7491"/>
                </a:cubicBezTo>
              </a:path>
              <a:path w="16571" h="1936">
                <a:moveTo>
                  <a:pt x="15007" y="7144"/>
                </a:moveTo>
                <a:cubicBezTo>
                  <a:pt x="15099" y="7121"/>
                  <a:pt x="15189" y="7097"/>
                  <a:pt x="15280" y="7069"/>
                </a:cubicBezTo>
              </a:path>
              <a:path w="16571" h="1936">
                <a:moveTo>
                  <a:pt x="15925" y="7367"/>
                </a:moveTo>
                <a:cubicBezTo>
                  <a:pt x="15943" y="7461"/>
                  <a:pt x="15930" y="7481"/>
                  <a:pt x="15974" y="7516"/>
                </a:cubicBezTo>
              </a:path>
              <a:path w="16571" h="1936">
                <a:moveTo>
                  <a:pt x="16570" y="6672"/>
                </a:moveTo>
                <a:cubicBezTo>
                  <a:pt x="16816" y="6890"/>
                  <a:pt x="17208" y="7172"/>
                  <a:pt x="16917" y="7541"/>
                </a:cubicBezTo>
                <a:cubicBezTo>
                  <a:pt x="16859" y="7574"/>
                  <a:pt x="16801" y="7607"/>
                  <a:pt x="16743" y="7640"/>
                </a:cubicBezTo>
              </a:path>
              <a:path w="16571" h="1936">
                <a:moveTo>
                  <a:pt x="18380" y="7243"/>
                </a:moveTo>
                <a:cubicBezTo>
                  <a:pt x="18403" y="7359"/>
                  <a:pt x="18414" y="7392"/>
                  <a:pt x="18380" y="7466"/>
                </a:cubicBezTo>
              </a:path>
              <a:path w="16571" h="1936">
                <a:moveTo>
                  <a:pt x="18802" y="6772"/>
                </a:moveTo>
                <a:cubicBezTo>
                  <a:pt x="18789" y="6890"/>
                  <a:pt x="18786" y="7102"/>
                  <a:pt x="19000" y="7045"/>
                </a:cubicBezTo>
                <a:cubicBezTo>
                  <a:pt x="19033" y="7020"/>
                  <a:pt x="19067" y="6995"/>
                  <a:pt x="19100" y="6970"/>
                </a:cubicBezTo>
              </a:path>
              <a:path w="16571" h="1936">
                <a:moveTo>
                  <a:pt x="19224" y="6548"/>
                </a:moveTo>
                <a:cubicBezTo>
                  <a:pt x="19519" y="6939"/>
                  <a:pt x="19595" y="7032"/>
                  <a:pt x="19323" y="7441"/>
                </a:cubicBezTo>
              </a:path>
              <a:path w="16571" h="1936">
                <a:moveTo>
                  <a:pt x="20563" y="7193"/>
                </a:moveTo>
                <a:cubicBezTo>
                  <a:pt x="20673" y="7185"/>
                  <a:pt x="20777" y="7160"/>
                  <a:pt x="20886" y="714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1490760" y="2874960"/>
            <a:ext cx="287280" cy="268200"/>
          </a:xfrm>
          <a:custGeom>
            <a:avLst/>
            <a:gdLst/>
            <a:ahLst/>
            <a:rect l="l" t="t" r="r" b="b"/>
            <a:pathLst>
              <a:path w="795" h="745">
                <a:moveTo>
                  <a:pt x="4266" y="8111"/>
                </a:moveTo>
                <a:cubicBezTo>
                  <a:pt x="4320" y="8129"/>
                  <a:pt x="4174" y="8380"/>
                  <a:pt x="4167" y="8409"/>
                </a:cubicBezTo>
                <a:cubicBezTo>
                  <a:pt x="4118" y="8615"/>
                  <a:pt x="4133" y="8717"/>
                  <a:pt x="4341" y="8731"/>
                </a:cubicBezTo>
                <a:cubicBezTo>
                  <a:pt x="4349" y="8731"/>
                  <a:pt x="4358" y="8731"/>
                  <a:pt x="4366" y="8731"/>
                </a:cubicBezTo>
              </a:path>
              <a:path w="795" h="745">
                <a:moveTo>
                  <a:pt x="4316" y="8235"/>
                </a:moveTo>
                <a:cubicBezTo>
                  <a:pt x="4401" y="8235"/>
                  <a:pt x="4440" y="8171"/>
                  <a:pt x="4514" y="8136"/>
                </a:cubicBezTo>
                <a:cubicBezTo>
                  <a:pt x="4522" y="8136"/>
                  <a:pt x="4531" y="8136"/>
                  <a:pt x="4539" y="8136"/>
                </a:cubicBezTo>
              </a:path>
              <a:path w="795" h="745">
                <a:moveTo>
                  <a:pt x="4688" y="8062"/>
                </a:moveTo>
                <a:cubicBezTo>
                  <a:pt x="4747" y="8022"/>
                  <a:pt x="4759" y="8018"/>
                  <a:pt x="4787" y="7987"/>
                </a:cubicBezTo>
                <a:cubicBezTo>
                  <a:pt x="4842" y="8097"/>
                  <a:pt x="4795" y="8224"/>
                  <a:pt x="4738" y="8334"/>
                </a:cubicBezTo>
                <a:cubicBezTo>
                  <a:pt x="4730" y="8342"/>
                  <a:pt x="4721" y="8351"/>
                  <a:pt x="4713" y="8359"/>
                </a:cubicBezTo>
                <a:cubicBezTo>
                  <a:pt x="4777" y="8385"/>
                  <a:pt x="4858" y="8341"/>
                  <a:pt x="4936" y="831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152880" y="2820960"/>
            <a:ext cx="98280" cy="54000"/>
          </a:xfrm>
          <a:custGeom>
            <a:avLst/>
            <a:gdLst/>
            <a:ahLst/>
            <a:rect l="l" t="t" r="r" b="b"/>
            <a:pathLst>
              <a:path w="274" h="150">
                <a:moveTo>
                  <a:pt x="8756" y="7838"/>
                </a:moveTo>
                <a:cubicBezTo>
                  <a:pt x="8756" y="7917"/>
                  <a:pt x="8743" y="7975"/>
                  <a:pt x="8830" y="7987"/>
                </a:cubicBezTo>
                <a:cubicBezTo>
                  <a:pt x="8958" y="8004"/>
                  <a:pt x="8971" y="7929"/>
                  <a:pt x="9029" y="7838"/>
                </a:cubicBezTo>
              </a:path>
            </a:pathLst>
          </a:custGeom>
          <a:noFill/>
          <a:ln cap="rnd" w="34920">
            <a:solidFill>
              <a:srgbClr val="ff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7" name=""/>
          <p:cNvSpPr/>
          <p:nvPr/>
        </p:nvSpPr>
        <p:spPr>
          <a:xfrm>
            <a:off x="4357800" y="2455920"/>
            <a:ext cx="420480" cy="357120"/>
          </a:xfrm>
          <a:custGeom>
            <a:avLst/>
            <a:gdLst/>
            <a:ahLst/>
            <a:rect l="l" t="t" r="r" b="b"/>
            <a:pathLst>
              <a:path w="1167" h="993">
                <a:moveTo>
                  <a:pt x="12278" y="7193"/>
                </a:moveTo>
                <a:cubicBezTo>
                  <a:pt x="12258" y="7397"/>
                  <a:pt x="12209" y="7599"/>
                  <a:pt x="12129" y="7789"/>
                </a:cubicBezTo>
                <a:cubicBezTo>
                  <a:pt x="12121" y="7797"/>
                  <a:pt x="12113" y="7805"/>
                  <a:pt x="12105" y="7813"/>
                </a:cubicBezTo>
                <a:cubicBezTo>
                  <a:pt x="12186" y="7583"/>
                  <a:pt x="12239" y="7359"/>
                  <a:pt x="12353" y="7144"/>
                </a:cubicBezTo>
                <a:cubicBezTo>
                  <a:pt x="12404" y="7065"/>
                  <a:pt x="12425" y="7041"/>
                  <a:pt x="12502" y="7094"/>
                </a:cubicBezTo>
                <a:cubicBezTo>
                  <a:pt x="12588" y="7310"/>
                  <a:pt x="12662" y="7578"/>
                  <a:pt x="12551" y="7813"/>
                </a:cubicBezTo>
                <a:cubicBezTo>
                  <a:pt x="12543" y="7805"/>
                  <a:pt x="12534" y="7797"/>
                  <a:pt x="12526" y="7789"/>
                </a:cubicBezTo>
              </a:path>
              <a:path w="1167" h="993">
                <a:moveTo>
                  <a:pt x="12874" y="7317"/>
                </a:moveTo>
                <a:cubicBezTo>
                  <a:pt x="12874" y="7441"/>
                  <a:pt x="12874" y="7565"/>
                  <a:pt x="12874" y="7689"/>
                </a:cubicBezTo>
                <a:cubicBezTo>
                  <a:pt x="12840" y="7473"/>
                  <a:pt x="12786" y="7296"/>
                  <a:pt x="12923" y="7094"/>
                </a:cubicBezTo>
                <a:cubicBezTo>
                  <a:pt x="12948" y="7078"/>
                  <a:pt x="12973" y="7061"/>
                  <a:pt x="12998" y="7045"/>
                </a:cubicBezTo>
                <a:cubicBezTo>
                  <a:pt x="13049" y="7113"/>
                  <a:pt x="12987" y="7183"/>
                  <a:pt x="13047" y="7243"/>
                </a:cubicBezTo>
                <a:cubicBezTo>
                  <a:pt x="13090" y="7286"/>
                  <a:pt x="13211" y="7333"/>
                  <a:pt x="13271" y="7392"/>
                </a:cubicBezTo>
                <a:cubicBezTo>
                  <a:pt x="13161" y="7673"/>
                  <a:pt x="13074" y="7705"/>
                  <a:pt x="12774" y="7640"/>
                </a:cubicBezTo>
              </a:path>
              <a:path w="1167" h="993">
                <a:moveTo>
                  <a:pt x="12303" y="6871"/>
                </a:moveTo>
                <a:cubicBezTo>
                  <a:pt x="12505" y="6890"/>
                  <a:pt x="12733" y="6787"/>
                  <a:pt x="12923" y="6821"/>
                </a:cubicBezTo>
                <a:cubicBezTo>
                  <a:pt x="12923" y="6829"/>
                  <a:pt x="12923" y="6838"/>
                  <a:pt x="12923" y="684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929120" y="2633760"/>
            <a:ext cx="115920" cy="36360"/>
          </a:xfrm>
          <a:custGeom>
            <a:avLst/>
            <a:gdLst/>
            <a:ahLst/>
            <a:rect l="l" t="t" r="r" b="b"/>
            <a:pathLst>
              <a:path w="324" h="101">
                <a:moveTo>
                  <a:pt x="13692" y="7417"/>
                </a:moveTo>
                <a:cubicBezTo>
                  <a:pt x="13801" y="7372"/>
                  <a:pt x="13899" y="7344"/>
                  <a:pt x="14015" y="7317"/>
                </a:cubicBezTo>
              </a:path>
            </a:pathLst>
          </a:custGeom>
          <a:noFill/>
          <a:ln cap="rnd" w="34920">
            <a:solidFill>
              <a:srgbClr val="ff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9" name=""/>
          <p:cNvSpPr/>
          <p:nvPr/>
        </p:nvSpPr>
        <p:spPr>
          <a:xfrm>
            <a:off x="5510160" y="2473200"/>
            <a:ext cx="142920" cy="189000"/>
          </a:xfrm>
          <a:custGeom>
            <a:avLst/>
            <a:gdLst/>
            <a:ahLst/>
            <a:rect l="l" t="t" r="r" b="b"/>
            <a:pathLst>
              <a:path w="398" h="522">
                <a:moveTo>
                  <a:pt x="15453" y="6871"/>
                </a:moveTo>
                <a:cubicBezTo>
                  <a:pt x="15626" y="6957"/>
                  <a:pt x="15763" y="7093"/>
                  <a:pt x="15553" y="7268"/>
                </a:cubicBezTo>
                <a:cubicBezTo>
                  <a:pt x="15423" y="7333"/>
                  <a:pt x="15394" y="7352"/>
                  <a:pt x="15304" y="7367"/>
                </a:cubicBezTo>
                <a:cubicBezTo>
                  <a:pt x="15393" y="7213"/>
                  <a:pt x="15500" y="7176"/>
                  <a:pt x="15652" y="7293"/>
                </a:cubicBezTo>
                <a:cubicBezTo>
                  <a:pt x="15691" y="7352"/>
                  <a:pt x="15720" y="7364"/>
                  <a:pt x="15677" y="739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5796000" y="2463840"/>
            <a:ext cx="150840" cy="233280"/>
          </a:xfrm>
          <a:custGeom>
            <a:avLst/>
            <a:gdLst/>
            <a:ahLst/>
            <a:rect l="l" t="t" r="r" b="b"/>
            <a:pathLst>
              <a:path w="423" h="646">
                <a:moveTo>
                  <a:pt x="16098" y="7020"/>
                </a:moveTo>
                <a:cubicBezTo>
                  <a:pt x="16113" y="7049"/>
                  <a:pt x="16165" y="7180"/>
                  <a:pt x="16197" y="7193"/>
                </a:cubicBezTo>
                <a:cubicBezTo>
                  <a:pt x="16324" y="7219"/>
                  <a:pt x="16367" y="7226"/>
                  <a:pt x="16446" y="7169"/>
                </a:cubicBezTo>
              </a:path>
              <a:path w="423" h="646">
                <a:moveTo>
                  <a:pt x="16470" y="6846"/>
                </a:moveTo>
                <a:cubicBezTo>
                  <a:pt x="16480" y="7046"/>
                  <a:pt x="16560" y="7293"/>
                  <a:pt x="16520" y="7491"/>
                </a:cubicBezTo>
                <a:cubicBezTo>
                  <a:pt x="16512" y="7483"/>
                  <a:pt x="16503" y="7474"/>
                  <a:pt x="16495" y="746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340320" y="2394000"/>
            <a:ext cx="231840" cy="285840"/>
          </a:xfrm>
          <a:custGeom>
            <a:avLst/>
            <a:gdLst/>
            <a:ahLst/>
            <a:rect l="l" t="t" r="r" b="b"/>
            <a:pathLst>
              <a:path w="646" h="794">
                <a:moveTo>
                  <a:pt x="17711" y="6648"/>
                </a:moveTo>
                <a:cubicBezTo>
                  <a:pt x="17659" y="6862"/>
                  <a:pt x="17497" y="7210"/>
                  <a:pt x="17661" y="7417"/>
                </a:cubicBezTo>
                <a:cubicBezTo>
                  <a:pt x="17753" y="7439"/>
                  <a:pt x="17778" y="7450"/>
                  <a:pt x="17835" y="7417"/>
                </a:cubicBezTo>
              </a:path>
              <a:path w="646" h="794">
                <a:moveTo>
                  <a:pt x="17983" y="6821"/>
                </a:moveTo>
                <a:cubicBezTo>
                  <a:pt x="18178" y="6847"/>
                  <a:pt x="18193" y="6906"/>
                  <a:pt x="18058" y="7069"/>
                </a:cubicBezTo>
                <a:cubicBezTo>
                  <a:pt x="18025" y="7102"/>
                  <a:pt x="17992" y="7136"/>
                  <a:pt x="17959" y="7169"/>
                </a:cubicBezTo>
                <a:cubicBezTo>
                  <a:pt x="18059" y="7185"/>
                  <a:pt x="18157" y="7197"/>
                  <a:pt x="18256" y="721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6858000" y="2438280"/>
            <a:ext cx="9360" cy="196920"/>
          </a:xfrm>
          <a:custGeom>
            <a:avLst/>
            <a:gdLst/>
            <a:ahLst/>
            <a:rect l="l" t="t" r="r" b="b"/>
            <a:pathLst>
              <a:path w="26" h="546">
                <a:moveTo>
                  <a:pt x="19050" y="6772"/>
                </a:moveTo>
                <a:cubicBezTo>
                  <a:pt x="19056" y="6955"/>
                  <a:pt x="19075" y="7134"/>
                  <a:pt x="19075" y="731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7385040" y="2509920"/>
            <a:ext cx="125280" cy="27000"/>
          </a:xfrm>
          <a:custGeom>
            <a:avLst/>
            <a:gdLst/>
            <a:ahLst/>
            <a:rect l="l" t="t" r="r" b="b"/>
            <a:pathLst>
              <a:path w="349" h="76">
                <a:moveTo>
                  <a:pt x="20513" y="7045"/>
                </a:moveTo>
                <a:cubicBezTo>
                  <a:pt x="20574" y="7000"/>
                  <a:pt x="20684" y="6980"/>
                  <a:pt x="20762" y="6970"/>
                </a:cubicBezTo>
                <a:cubicBezTo>
                  <a:pt x="20820" y="6970"/>
                  <a:pt x="20828" y="6970"/>
                  <a:pt x="20861" y="6970"/>
                </a:cubicBezTo>
              </a:path>
            </a:pathLst>
          </a:custGeom>
          <a:noFill/>
          <a:ln cap="rnd" w="34920">
            <a:solidFill>
              <a:srgbClr val="ff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4" name=""/>
          <p:cNvSpPr/>
          <p:nvPr/>
        </p:nvSpPr>
        <p:spPr>
          <a:xfrm>
            <a:off x="7688160" y="2320920"/>
            <a:ext cx="142920" cy="314280"/>
          </a:xfrm>
          <a:custGeom>
            <a:avLst/>
            <a:gdLst/>
            <a:ahLst/>
            <a:rect l="l" t="t" r="r" b="b"/>
            <a:pathLst>
              <a:path w="398" h="869">
                <a:moveTo>
                  <a:pt x="21357" y="6722"/>
                </a:moveTo>
                <a:cubicBezTo>
                  <a:pt x="21365" y="6714"/>
                  <a:pt x="21374" y="6705"/>
                  <a:pt x="21382" y="6697"/>
                </a:cubicBezTo>
                <a:cubicBezTo>
                  <a:pt x="21428" y="6745"/>
                  <a:pt x="21392" y="6836"/>
                  <a:pt x="21382" y="6921"/>
                </a:cubicBezTo>
                <a:cubicBezTo>
                  <a:pt x="21512" y="6933"/>
                  <a:pt x="21623" y="6928"/>
                  <a:pt x="21754" y="6921"/>
                </a:cubicBezTo>
              </a:path>
              <a:path w="398" h="869">
                <a:moveTo>
                  <a:pt x="21704" y="6449"/>
                </a:moveTo>
                <a:cubicBezTo>
                  <a:pt x="21704" y="6720"/>
                  <a:pt x="21716" y="7002"/>
                  <a:pt x="21654" y="7268"/>
                </a:cubicBezTo>
                <a:cubicBezTo>
                  <a:pt x="21652" y="7278"/>
                  <a:pt x="21630" y="7347"/>
                  <a:pt x="21630" y="729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8001000" y="2463840"/>
            <a:ext cx="258840" cy="152280"/>
          </a:xfrm>
          <a:custGeom>
            <a:avLst/>
            <a:gdLst/>
            <a:ahLst/>
            <a:rect l="l" t="t" r="r" b="b"/>
            <a:pathLst>
              <a:path w="720" h="423">
                <a:moveTo>
                  <a:pt x="22225" y="6921"/>
                </a:moveTo>
                <a:cubicBezTo>
                  <a:pt x="22225" y="6846"/>
                  <a:pt x="22225" y="7164"/>
                  <a:pt x="22225" y="7193"/>
                </a:cubicBezTo>
                <a:cubicBezTo>
                  <a:pt x="22225" y="7201"/>
                  <a:pt x="22225" y="7210"/>
                  <a:pt x="22225" y="7218"/>
                </a:cubicBezTo>
                <a:cubicBezTo>
                  <a:pt x="22238" y="7080"/>
                  <a:pt x="22292" y="6856"/>
                  <a:pt x="22473" y="6846"/>
                </a:cubicBezTo>
                <a:cubicBezTo>
                  <a:pt x="22644" y="6837"/>
                  <a:pt x="22614" y="7079"/>
                  <a:pt x="22622" y="7169"/>
                </a:cubicBezTo>
                <a:cubicBezTo>
                  <a:pt x="22528" y="7322"/>
                  <a:pt x="22693" y="6925"/>
                  <a:pt x="22696" y="6921"/>
                </a:cubicBezTo>
                <a:cubicBezTo>
                  <a:pt x="22782" y="6856"/>
                  <a:pt x="22799" y="6831"/>
                  <a:pt x="22870" y="6846"/>
                </a:cubicBezTo>
                <a:cubicBezTo>
                  <a:pt x="22928" y="6994"/>
                  <a:pt x="22953" y="7095"/>
                  <a:pt x="22920" y="7243"/>
                </a:cubicBezTo>
                <a:cubicBezTo>
                  <a:pt x="22920" y="7251"/>
                  <a:pt x="22920" y="7260"/>
                  <a:pt x="22920" y="726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2803680" y="2867040"/>
            <a:ext cx="241200" cy="187200"/>
          </a:xfrm>
          <a:custGeom>
            <a:avLst/>
            <a:gdLst/>
            <a:ahLst/>
            <a:rect l="l" t="t" r="r" b="b"/>
            <a:pathLst>
              <a:path w="670" h="522">
                <a:moveTo>
                  <a:pt x="7863" y="7987"/>
                </a:moveTo>
                <a:cubicBezTo>
                  <a:pt x="7839" y="8106"/>
                  <a:pt x="7719" y="8331"/>
                  <a:pt x="7838" y="8434"/>
                </a:cubicBezTo>
                <a:cubicBezTo>
                  <a:pt x="7953" y="8479"/>
                  <a:pt x="7984" y="8498"/>
                  <a:pt x="8062" y="8458"/>
                </a:cubicBezTo>
              </a:path>
              <a:path w="670" h="522">
                <a:moveTo>
                  <a:pt x="8186" y="8012"/>
                </a:moveTo>
                <a:cubicBezTo>
                  <a:pt x="8221" y="7977"/>
                  <a:pt x="8270" y="7969"/>
                  <a:pt x="8334" y="7962"/>
                </a:cubicBezTo>
                <a:cubicBezTo>
                  <a:pt x="8303" y="8130"/>
                  <a:pt x="8259" y="8213"/>
                  <a:pt x="8136" y="8334"/>
                </a:cubicBezTo>
                <a:cubicBezTo>
                  <a:pt x="8242" y="8315"/>
                  <a:pt x="8366" y="8282"/>
                  <a:pt x="8458" y="823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197160" y="2724120"/>
            <a:ext cx="169920" cy="1374840"/>
          </a:xfrm>
          <a:custGeom>
            <a:avLst/>
            <a:gdLst/>
            <a:ahLst/>
            <a:rect l="l" t="t" r="r" b="b"/>
            <a:pathLst>
              <a:path w="472" h="3821">
                <a:moveTo>
                  <a:pt x="8880" y="7764"/>
                </a:moveTo>
                <a:cubicBezTo>
                  <a:pt x="8913" y="7901"/>
                  <a:pt x="8966" y="8030"/>
                  <a:pt x="9004" y="8161"/>
                </a:cubicBezTo>
              </a:path>
              <a:path w="472" h="3821">
                <a:moveTo>
                  <a:pt x="8905" y="7565"/>
                </a:moveTo>
                <a:cubicBezTo>
                  <a:pt x="9078" y="7619"/>
                  <a:pt x="9343" y="7759"/>
                  <a:pt x="9351" y="7987"/>
                </a:cubicBezTo>
                <a:cubicBezTo>
                  <a:pt x="9305" y="8149"/>
                  <a:pt x="9295" y="8197"/>
                  <a:pt x="9227" y="8285"/>
                </a:cubicBezTo>
              </a:path>
              <a:path w="472" h="3821">
                <a:moveTo>
                  <a:pt x="9327" y="10840"/>
                </a:moveTo>
                <a:cubicBezTo>
                  <a:pt x="9188" y="10919"/>
                  <a:pt x="9088" y="11086"/>
                  <a:pt x="9103" y="11261"/>
                </a:cubicBezTo>
                <a:cubicBezTo>
                  <a:pt x="9152" y="11358"/>
                  <a:pt x="9165" y="11391"/>
                  <a:pt x="9252" y="1138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071720" y="3625920"/>
            <a:ext cx="4643280" cy="490320"/>
          </a:xfrm>
          <a:custGeom>
            <a:avLst/>
            <a:gdLst/>
            <a:ahLst/>
            <a:rect l="l" t="t" r="r" b="b"/>
            <a:pathLst>
              <a:path w="12899" h="1365">
                <a:moveTo>
                  <a:pt x="10468" y="10443"/>
                </a:moveTo>
                <a:cubicBezTo>
                  <a:pt x="10713" y="10555"/>
                  <a:pt x="10916" y="10690"/>
                  <a:pt x="10716" y="10988"/>
                </a:cubicBezTo>
                <a:cubicBezTo>
                  <a:pt x="10675" y="11021"/>
                  <a:pt x="10633" y="11055"/>
                  <a:pt x="10592" y="11088"/>
                </a:cubicBezTo>
              </a:path>
              <a:path w="12899" h="1365">
                <a:moveTo>
                  <a:pt x="3076" y="10889"/>
                </a:moveTo>
                <a:cubicBezTo>
                  <a:pt x="2993" y="11023"/>
                  <a:pt x="2898" y="11268"/>
                  <a:pt x="3051" y="11410"/>
                </a:cubicBezTo>
                <a:cubicBezTo>
                  <a:pt x="3084" y="11418"/>
                  <a:pt x="3117" y="11427"/>
                  <a:pt x="3150" y="11435"/>
                </a:cubicBezTo>
              </a:path>
              <a:path w="12899" h="1365">
                <a:moveTo>
                  <a:pt x="3696" y="10691"/>
                </a:moveTo>
                <a:cubicBezTo>
                  <a:pt x="3713" y="10856"/>
                  <a:pt x="3769" y="11000"/>
                  <a:pt x="3795" y="11162"/>
                </a:cubicBezTo>
                <a:cubicBezTo>
                  <a:pt x="3795" y="11179"/>
                  <a:pt x="3795" y="11195"/>
                  <a:pt x="3795" y="11212"/>
                </a:cubicBezTo>
              </a:path>
              <a:path w="12899" h="1365">
                <a:moveTo>
                  <a:pt x="3969" y="11187"/>
                </a:moveTo>
                <a:cubicBezTo>
                  <a:pt x="3983" y="11322"/>
                  <a:pt x="4030" y="11370"/>
                  <a:pt x="3919" y="11385"/>
                </a:cubicBezTo>
              </a:path>
              <a:path w="12899" h="1365">
                <a:moveTo>
                  <a:pt x="4316" y="10542"/>
                </a:moveTo>
                <a:cubicBezTo>
                  <a:pt x="4528" y="10685"/>
                  <a:pt x="4871" y="10895"/>
                  <a:pt x="4663" y="11212"/>
                </a:cubicBezTo>
                <a:cubicBezTo>
                  <a:pt x="4613" y="11245"/>
                  <a:pt x="4564" y="11278"/>
                  <a:pt x="4514" y="11311"/>
                </a:cubicBezTo>
              </a:path>
              <a:path w="12899" h="1365">
                <a:moveTo>
                  <a:pt x="13618" y="10071"/>
                </a:moveTo>
                <a:cubicBezTo>
                  <a:pt x="13635" y="10269"/>
                  <a:pt x="13656" y="10389"/>
                  <a:pt x="13593" y="10567"/>
                </a:cubicBezTo>
              </a:path>
              <a:path w="12899" h="1365">
                <a:moveTo>
                  <a:pt x="13543" y="10344"/>
                </a:moveTo>
                <a:cubicBezTo>
                  <a:pt x="13717" y="10320"/>
                  <a:pt x="13891" y="10296"/>
                  <a:pt x="14064" y="10269"/>
                </a:cubicBezTo>
              </a:path>
              <a:path w="12899" h="1365">
                <a:moveTo>
                  <a:pt x="15553" y="10393"/>
                </a:moveTo>
                <a:cubicBezTo>
                  <a:pt x="15711" y="10366"/>
                  <a:pt x="15770" y="10355"/>
                  <a:pt x="15875" y="1031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152360" y="3867120"/>
            <a:ext cx="446400" cy="150840"/>
          </a:xfrm>
          <a:custGeom>
            <a:avLst/>
            <a:gdLst/>
            <a:ahLst/>
            <a:rect l="l" t="t" r="r" b="b"/>
            <a:pathLst>
              <a:path w="1241" h="423">
                <a:moveTo>
                  <a:pt x="3200" y="11162"/>
                </a:moveTo>
                <a:cubicBezTo>
                  <a:pt x="3279" y="11146"/>
                  <a:pt x="3335" y="11112"/>
                  <a:pt x="3398" y="11063"/>
                </a:cubicBezTo>
              </a:path>
              <a:path w="1241" h="423">
                <a:moveTo>
                  <a:pt x="3473" y="10815"/>
                </a:moveTo>
                <a:cubicBezTo>
                  <a:pt x="3473" y="10888"/>
                  <a:pt x="3469" y="10964"/>
                  <a:pt x="3572" y="10964"/>
                </a:cubicBezTo>
                <a:cubicBezTo>
                  <a:pt x="3650" y="10938"/>
                  <a:pt x="3678" y="10927"/>
                  <a:pt x="3721" y="10889"/>
                </a:cubicBezTo>
              </a:path>
              <a:path w="1241" h="423">
                <a:moveTo>
                  <a:pt x="4018" y="10790"/>
                </a:moveTo>
                <a:cubicBezTo>
                  <a:pt x="4126" y="10744"/>
                  <a:pt x="4265" y="10698"/>
                  <a:pt x="4192" y="10889"/>
                </a:cubicBezTo>
                <a:cubicBezTo>
                  <a:pt x="4175" y="10914"/>
                  <a:pt x="4159" y="10939"/>
                  <a:pt x="4142" y="10964"/>
                </a:cubicBezTo>
                <a:cubicBezTo>
                  <a:pt x="4270" y="11025"/>
                  <a:pt x="4343" y="10923"/>
                  <a:pt x="4440" y="1084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3394080" y="3830760"/>
            <a:ext cx="411120" cy="268200"/>
          </a:xfrm>
          <a:custGeom>
            <a:avLst/>
            <a:gdLst/>
            <a:ahLst/>
            <a:rect l="l" t="t" r="r" b="b"/>
            <a:pathLst>
              <a:path w="1142" h="745">
                <a:moveTo>
                  <a:pt x="9451" y="10914"/>
                </a:moveTo>
                <a:cubicBezTo>
                  <a:pt x="9444" y="10956"/>
                  <a:pt x="9433" y="10996"/>
                  <a:pt x="9426" y="11038"/>
                </a:cubicBezTo>
                <a:cubicBezTo>
                  <a:pt x="9580" y="11060"/>
                  <a:pt x="9595" y="11052"/>
                  <a:pt x="9699" y="10939"/>
                </a:cubicBezTo>
              </a:path>
              <a:path w="1142" h="745">
                <a:moveTo>
                  <a:pt x="9674" y="10765"/>
                </a:moveTo>
                <a:cubicBezTo>
                  <a:pt x="9674" y="10934"/>
                  <a:pt x="9671" y="11095"/>
                  <a:pt x="9699" y="11261"/>
                </a:cubicBezTo>
              </a:path>
              <a:path w="1142" h="745">
                <a:moveTo>
                  <a:pt x="9847" y="11112"/>
                </a:moveTo>
                <a:cubicBezTo>
                  <a:pt x="9847" y="11208"/>
                  <a:pt x="9853" y="11303"/>
                  <a:pt x="9823" y="11385"/>
                </a:cubicBezTo>
              </a:path>
              <a:path w="1142" h="745">
                <a:moveTo>
                  <a:pt x="10195" y="10716"/>
                </a:moveTo>
                <a:cubicBezTo>
                  <a:pt x="10241" y="10685"/>
                  <a:pt x="10291" y="10665"/>
                  <a:pt x="10344" y="10641"/>
                </a:cubicBezTo>
                <a:cubicBezTo>
                  <a:pt x="10351" y="10743"/>
                  <a:pt x="10334" y="10786"/>
                  <a:pt x="10294" y="10889"/>
                </a:cubicBezTo>
                <a:cubicBezTo>
                  <a:pt x="10402" y="10913"/>
                  <a:pt x="10473" y="10880"/>
                  <a:pt x="10567" y="1081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4429080" y="3483000"/>
            <a:ext cx="330120" cy="366840"/>
          </a:xfrm>
          <a:custGeom>
            <a:avLst/>
            <a:gdLst/>
            <a:ahLst/>
            <a:rect l="l" t="t" r="r" b="b"/>
            <a:pathLst>
              <a:path w="919" h="1018">
                <a:moveTo>
                  <a:pt x="12725" y="10244"/>
                </a:moveTo>
                <a:cubicBezTo>
                  <a:pt x="12556" y="10154"/>
                  <a:pt x="12448" y="10128"/>
                  <a:pt x="12353" y="10344"/>
                </a:cubicBezTo>
                <a:cubicBezTo>
                  <a:pt x="12218" y="10649"/>
                  <a:pt x="12439" y="10783"/>
                  <a:pt x="12626" y="10492"/>
                </a:cubicBezTo>
                <a:cubicBezTo>
                  <a:pt x="12651" y="10426"/>
                  <a:pt x="12675" y="10360"/>
                  <a:pt x="12700" y="10294"/>
                </a:cubicBezTo>
                <a:cubicBezTo>
                  <a:pt x="12700" y="10261"/>
                  <a:pt x="12700" y="10228"/>
                  <a:pt x="12700" y="10195"/>
                </a:cubicBezTo>
                <a:cubicBezTo>
                  <a:pt x="12713" y="10361"/>
                  <a:pt x="12738" y="10525"/>
                  <a:pt x="12750" y="10691"/>
                </a:cubicBezTo>
                <a:cubicBezTo>
                  <a:pt x="12750" y="10683"/>
                  <a:pt x="12750" y="10674"/>
                  <a:pt x="12750" y="10666"/>
                </a:cubicBezTo>
              </a:path>
              <a:path w="919" h="1018">
                <a:moveTo>
                  <a:pt x="12824" y="9699"/>
                </a:moveTo>
                <a:cubicBezTo>
                  <a:pt x="12922" y="9674"/>
                  <a:pt x="12954" y="9666"/>
                  <a:pt x="13022" y="9674"/>
                </a:cubicBezTo>
                <a:cubicBezTo>
                  <a:pt x="13011" y="9883"/>
                  <a:pt x="12956" y="10006"/>
                  <a:pt x="12874" y="10195"/>
                </a:cubicBezTo>
                <a:cubicBezTo>
                  <a:pt x="12991" y="10185"/>
                  <a:pt x="13105" y="10164"/>
                  <a:pt x="13221" y="1014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5081760" y="3473280"/>
            <a:ext cx="384120" cy="331920"/>
          </a:xfrm>
          <a:custGeom>
            <a:avLst/>
            <a:gdLst/>
            <a:ahLst/>
            <a:rect l="l" t="t" r="r" b="b"/>
            <a:pathLst>
              <a:path w="1067" h="919">
                <a:moveTo>
                  <a:pt x="14114" y="9723"/>
                </a:moveTo>
                <a:cubicBezTo>
                  <a:pt x="14188" y="9992"/>
                  <a:pt x="14274" y="10238"/>
                  <a:pt x="14288" y="10517"/>
                </a:cubicBezTo>
                <a:cubicBezTo>
                  <a:pt x="14314" y="10275"/>
                  <a:pt x="14356" y="10232"/>
                  <a:pt x="14536" y="10096"/>
                </a:cubicBezTo>
                <a:cubicBezTo>
                  <a:pt x="14610" y="10204"/>
                  <a:pt x="14694" y="10630"/>
                  <a:pt x="14362" y="10567"/>
                </a:cubicBezTo>
                <a:cubicBezTo>
                  <a:pt x="14329" y="10534"/>
                  <a:pt x="14296" y="10501"/>
                  <a:pt x="14263" y="10468"/>
                </a:cubicBezTo>
              </a:path>
              <a:path w="1067" h="919">
                <a:moveTo>
                  <a:pt x="14759" y="9674"/>
                </a:moveTo>
                <a:cubicBezTo>
                  <a:pt x="14879" y="9641"/>
                  <a:pt x="14952" y="9657"/>
                  <a:pt x="15081" y="9674"/>
                </a:cubicBezTo>
                <a:cubicBezTo>
                  <a:pt x="15093" y="9839"/>
                  <a:pt x="15043" y="9912"/>
                  <a:pt x="14908" y="10021"/>
                </a:cubicBezTo>
                <a:cubicBezTo>
                  <a:pt x="15020" y="10078"/>
                  <a:pt x="15056" y="10059"/>
                  <a:pt x="15180" y="1004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5626080" y="3660840"/>
            <a:ext cx="115920" cy="9360"/>
          </a:xfrm>
          <a:custGeom>
            <a:avLst/>
            <a:gdLst/>
            <a:ahLst/>
            <a:rect l="l" t="t" r="r" b="b"/>
            <a:pathLst>
              <a:path w="323" h="26">
                <a:moveTo>
                  <a:pt x="15627" y="10170"/>
                </a:moveTo>
                <a:cubicBezTo>
                  <a:pt x="15740" y="10185"/>
                  <a:pt x="15836" y="10195"/>
                  <a:pt x="15949" y="10195"/>
                </a:cubicBezTo>
              </a:path>
            </a:pathLst>
          </a:custGeom>
          <a:noFill/>
          <a:ln cap="rnd" w="34920">
            <a:solidFill>
              <a:srgbClr val="ff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74" name=""/>
          <p:cNvSpPr/>
          <p:nvPr/>
        </p:nvSpPr>
        <p:spPr>
          <a:xfrm>
            <a:off x="5911920" y="3402000"/>
            <a:ext cx="438120" cy="384120"/>
          </a:xfrm>
          <a:custGeom>
            <a:avLst/>
            <a:gdLst/>
            <a:ahLst/>
            <a:rect l="l" t="t" r="r" b="b"/>
            <a:pathLst>
              <a:path w="1216" h="1067">
                <a:moveTo>
                  <a:pt x="16694" y="10021"/>
                </a:moveTo>
                <a:cubicBezTo>
                  <a:pt x="16783" y="10083"/>
                  <a:pt x="16611" y="9940"/>
                  <a:pt x="16594" y="9947"/>
                </a:cubicBezTo>
                <a:cubicBezTo>
                  <a:pt x="16431" y="10015"/>
                  <a:pt x="16298" y="10513"/>
                  <a:pt x="16570" y="10517"/>
                </a:cubicBezTo>
                <a:cubicBezTo>
                  <a:pt x="16820" y="10443"/>
                  <a:pt x="16903" y="10417"/>
                  <a:pt x="17016" y="10269"/>
                </a:cubicBezTo>
              </a:path>
              <a:path w="1216" h="1067">
                <a:moveTo>
                  <a:pt x="17090" y="9451"/>
                </a:moveTo>
                <a:cubicBezTo>
                  <a:pt x="17364" y="9463"/>
                  <a:pt x="17372" y="9482"/>
                  <a:pt x="17239" y="9748"/>
                </a:cubicBezTo>
                <a:cubicBezTo>
                  <a:pt x="17214" y="9789"/>
                  <a:pt x="17190" y="9831"/>
                  <a:pt x="17165" y="9872"/>
                </a:cubicBezTo>
                <a:cubicBezTo>
                  <a:pt x="17165" y="9942"/>
                  <a:pt x="17570" y="9834"/>
                  <a:pt x="17636" y="982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473800" y="2286000"/>
            <a:ext cx="117360" cy="108000"/>
          </a:xfrm>
          <a:custGeom>
            <a:avLst/>
            <a:gdLst/>
            <a:ahLst/>
            <a:rect l="l" t="t" r="r" b="b"/>
            <a:pathLst>
              <a:path w="324" h="299">
                <a:moveTo>
                  <a:pt x="15205" y="6499"/>
                </a:moveTo>
                <a:cubicBezTo>
                  <a:pt x="15235" y="6419"/>
                  <a:pt x="15288" y="6381"/>
                  <a:pt x="15379" y="6350"/>
                </a:cubicBezTo>
                <a:cubicBezTo>
                  <a:pt x="15391" y="6477"/>
                  <a:pt x="15329" y="6532"/>
                  <a:pt x="15280" y="6648"/>
                </a:cubicBezTo>
                <a:cubicBezTo>
                  <a:pt x="15362" y="6578"/>
                  <a:pt x="15421" y="6559"/>
                  <a:pt x="15528" y="654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072120" y="2268360"/>
            <a:ext cx="108000" cy="88920"/>
          </a:xfrm>
          <a:custGeom>
            <a:avLst/>
            <a:gdLst/>
            <a:ahLst/>
            <a:rect l="l" t="t" r="r" b="b"/>
            <a:pathLst>
              <a:path w="299" h="249">
                <a:moveTo>
                  <a:pt x="16991" y="6325"/>
                </a:moveTo>
                <a:cubicBezTo>
                  <a:pt x="16991" y="6250"/>
                  <a:pt x="16991" y="6424"/>
                  <a:pt x="16991" y="6499"/>
                </a:cubicBezTo>
                <a:cubicBezTo>
                  <a:pt x="16991" y="6515"/>
                  <a:pt x="16991" y="6532"/>
                  <a:pt x="16991" y="6548"/>
                </a:cubicBezTo>
              </a:path>
              <a:path w="299" h="249">
                <a:moveTo>
                  <a:pt x="16867" y="6524"/>
                </a:moveTo>
                <a:cubicBezTo>
                  <a:pt x="16967" y="6500"/>
                  <a:pt x="17062" y="6474"/>
                  <a:pt x="17165" y="6474"/>
                </a:cubicBezTo>
              </a:path>
            </a:pathLst>
          </a:custGeom>
          <a:noFill/>
          <a:ln cap="rnd" w="34920">
            <a:solidFill>
              <a:srgbClr val="ff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77" name=""/>
          <p:cNvSpPr/>
          <p:nvPr/>
        </p:nvSpPr>
        <p:spPr>
          <a:xfrm>
            <a:off x="6446880" y="2197080"/>
            <a:ext cx="98280" cy="98280"/>
          </a:xfrm>
          <a:custGeom>
            <a:avLst/>
            <a:gdLst/>
            <a:ahLst/>
            <a:rect l="l" t="t" r="r" b="b"/>
            <a:pathLst>
              <a:path w="274" h="274">
                <a:moveTo>
                  <a:pt x="17934" y="6226"/>
                </a:moveTo>
                <a:cubicBezTo>
                  <a:pt x="17911" y="6203"/>
                  <a:pt x="18045" y="6133"/>
                  <a:pt x="18107" y="6102"/>
                </a:cubicBezTo>
                <a:cubicBezTo>
                  <a:pt x="18121" y="6198"/>
                  <a:pt x="18041" y="6279"/>
                  <a:pt x="17983" y="6375"/>
                </a:cubicBezTo>
                <a:cubicBezTo>
                  <a:pt x="18046" y="6366"/>
                  <a:pt x="18103" y="6331"/>
                  <a:pt x="18157" y="6325"/>
                </a:cubicBezTo>
                <a:cubicBezTo>
                  <a:pt x="18165" y="6325"/>
                  <a:pt x="18174" y="6325"/>
                  <a:pt x="18182" y="632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884320" y="3187800"/>
            <a:ext cx="71640" cy="519120"/>
          </a:xfrm>
          <a:custGeom>
            <a:avLst/>
            <a:gdLst/>
            <a:ahLst/>
            <a:rect l="l" t="t" r="r" b="b"/>
            <a:pathLst>
              <a:path w="199" h="1440">
                <a:moveTo>
                  <a:pt x="8012" y="8880"/>
                </a:moveTo>
                <a:cubicBezTo>
                  <a:pt x="8023" y="9006"/>
                  <a:pt x="8037" y="9125"/>
                  <a:pt x="8037" y="9252"/>
                </a:cubicBezTo>
                <a:cubicBezTo>
                  <a:pt x="8037" y="9260"/>
                  <a:pt x="8037" y="9269"/>
                  <a:pt x="8037" y="9277"/>
                </a:cubicBezTo>
              </a:path>
              <a:path w="199" h="1440">
                <a:moveTo>
                  <a:pt x="8062" y="8855"/>
                </a:moveTo>
                <a:cubicBezTo>
                  <a:pt x="8062" y="8993"/>
                  <a:pt x="8088" y="9090"/>
                  <a:pt x="8111" y="9227"/>
                </a:cubicBezTo>
                <a:cubicBezTo>
                  <a:pt x="8141" y="9406"/>
                  <a:pt x="8172" y="9593"/>
                  <a:pt x="8186" y="9773"/>
                </a:cubicBezTo>
              </a:path>
              <a:path w="199" h="1440">
                <a:moveTo>
                  <a:pt x="8086" y="9351"/>
                </a:moveTo>
                <a:cubicBezTo>
                  <a:pt x="8108" y="9482"/>
                  <a:pt x="8141" y="9615"/>
                  <a:pt x="8161" y="9748"/>
                </a:cubicBezTo>
                <a:cubicBezTo>
                  <a:pt x="8180" y="9873"/>
                  <a:pt x="8201" y="9995"/>
                  <a:pt x="8210" y="10120"/>
                </a:cubicBezTo>
              </a:path>
              <a:path w="199" h="1440">
                <a:moveTo>
                  <a:pt x="8136" y="9773"/>
                </a:moveTo>
                <a:cubicBezTo>
                  <a:pt x="8136" y="9932"/>
                  <a:pt x="8156" y="10085"/>
                  <a:pt x="8161" y="10244"/>
                </a:cubicBezTo>
                <a:cubicBezTo>
                  <a:pt x="8161" y="10286"/>
                  <a:pt x="8153" y="10302"/>
                  <a:pt x="8186" y="10294"/>
                </a:cubicBezTo>
              </a:path>
              <a:path w="199" h="1440">
                <a:moveTo>
                  <a:pt x="8161" y="10244"/>
                </a:moveTo>
                <a:cubicBezTo>
                  <a:pt x="8197" y="10232"/>
                  <a:pt x="8165" y="10029"/>
                  <a:pt x="8161" y="9996"/>
                </a:cubicBezTo>
                <a:cubicBezTo>
                  <a:pt x="8146" y="9868"/>
                  <a:pt x="8136" y="9753"/>
                  <a:pt x="8136" y="962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actice Activity Problem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0T02:10:38Z</dcterms:created>
  <dc:creator>demcgra</dc:creator>
  <dc:description/>
  <dc:language>en-US</dc:language>
  <cp:lastModifiedBy>demcgra</cp:lastModifiedBy>
  <dcterms:modified xsi:type="dcterms:W3CDTF">2012-04-13T19:39:08Z</dcterms:modified>
  <cp:revision>10</cp:revision>
  <dc:subject/>
  <dc:title>Warm-up:</dc:title>
</cp:coreProperties>
</file>